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5DD8-3291-48DF-A337-6108D011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6C2C-E597-432A-9145-73ADCDC5B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5EB-FDF8-4501-B23E-4B73C9AD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98CC-9794-4C59-8611-D892FF143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E312-9FAA-421A-963F-FDAA6D46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050-0C33-47C7-BBAE-DD87F964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87C-BE5D-48D0-9095-1D290F9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51E-40A6-4CDF-953B-4EBACF07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968-82E1-46CE-AD10-04222041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378-A031-4850-A34F-2D10669A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4197-1237-43D9-B397-DE2ABE07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B944-6450-41A5-863C-CAE528A1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9874-0307-4F92-9789-E474B484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26C4-776C-4023-A1F5-1EB7F8B2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EDF4-D614-4B13-99D4-B071D379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5033-4D60-401E-A421-43E26AF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BA3-1CAF-4D03-A989-A845A7F7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C80A-B5B6-44AD-9BC0-8BB5C9D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A558-80E1-402C-83E8-682FB7B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0B24-F324-424B-927F-9ABF9B4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A27F-CA15-468C-87EC-D5E239B3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17F3-1CE1-4B2A-BD19-EB096DB6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F40-62FA-4119-BEBC-FE3FFDCD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E77-939B-4220-B3E5-FB0587E6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749-7328-4689-B789-E3E2BE9C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8B1-6D9C-4577-9704-EB78CE2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C26-002F-434A-90AC-4AB9F16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72C-DA1A-4C5D-9BAA-F6EBED70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01F-5EF1-4D34-A428-81FCC8C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CFD6-83F3-4B8E-AFE4-23A7714C7D6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F37-10B0-41B1-A806-422BA8414C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000A-8F75-44ED-BD50-A3BB054B030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59984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3714-D22A-460E-88CA-3CD38B9F80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BrowalliaUPC"/>
                <a:ea typeface="BrowalliaUPC"/>
              </a:rPr>
              <a:t>AUDIT STPM 2013</a:t>
            </a:r>
            <a:br>
              <a:rPr sz="7200"/>
            </a:br>
            <a:r>
              <a:rPr b="1" i="1" lang="en-US" sz="7200" spc="-1" strike="noStrike">
                <a:solidFill>
                  <a:srgbClr val="ff0000"/>
                </a:solidFill>
                <a:latin typeface="BrowalliaUPC"/>
                <a:ea typeface="BrowalliaUPC"/>
              </a:rPr>
              <a:t>DAERAH MUAR &amp; LEDANG</a:t>
            </a:r>
            <a:br>
              <a:rPr sz="7200"/>
            </a:br>
            <a:r>
              <a:rPr b="1" i="1" lang="en-US" sz="7200" spc="-1" strike="noStrike">
                <a:solidFill>
                  <a:srgbClr val="ff0000"/>
                </a:solidFill>
                <a:latin typeface="BrowalliaUPC"/>
                <a:ea typeface="BrowalliaUPC"/>
              </a:rPr>
              <a:t> (PENGGAL 3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33520" y="500040"/>
          <a:ext cx="8229600" cy="5457960"/>
        </p:xfrm>
        <a:graphic>
          <a:graphicData uri="http://schemas.openxmlformats.org/drawingml/2006/table">
            <a:tbl>
              <a:tblPr/>
              <a:tblGrid>
                <a:gridCol w="342720"/>
                <a:gridCol w="2476440"/>
                <a:gridCol w="609840"/>
                <a:gridCol w="304560"/>
                <a:gridCol w="381240"/>
                <a:gridCol w="304560"/>
                <a:gridCol w="228600"/>
                <a:gridCol w="304920"/>
                <a:gridCol w="380880"/>
                <a:gridCol w="304920"/>
                <a:gridCol w="380880"/>
                <a:gridCol w="304920"/>
                <a:gridCol w="304920"/>
                <a:gridCol w="457200"/>
                <a:gridCol w="609480"/>
                <a:gridCol w="533520"/>
              </a:tblGrid>
              <a:tr h="32220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EKON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TUN PER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DR IS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MU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PE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KIT GAMB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 TING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MA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KAN B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MUD ISKAN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IT BU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TEMENGGONG AHM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34D6-53AC-4E6A-911C-F83544F4C3D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DC8-79A7-426F-998A-1D2BC96B5E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457200"/>
          <a:ext cx="8381880" cy="5923080"/>
        </p:xfrm>
        <a:graphic>
          <a:graphicData uri="http://schemas.openxmlformats.org/drawingml/2006/table">
            <a:tbl>
              <a:tblPr/>
              <a:tblGrid>
                <a:gridCol w="374760"/>
                <a:gridCol w="2825640"/>
                <a:gridCol w="585720"/>
                <a:gridCol w="331920"/>
                <a:gridCol w="333360"/>
                <a:gridCol w="350640"/>
                <a:gridCol w="262080"/>
                <a:gridCol w="297000"/>
                <a:gridCol w="350640"/>
                <a:gridCol w="317520"/>
                <a:gridCol w="318960"/>
                <a:gridCol w="331920"/>
                <a:gridCol w="314280"/>
                <a:gridCol w="277920"/>
                <a:gridCol w="590400"/>
                <a:gridCol w="519120"/>
              </a:tblGrid>
              <a:tr h="32076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SEJAR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TENGKU MAHMUD ISKAN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KIT GAMB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PE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MAH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TEMENGGONG AHM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TAN ALAUDIN RIAYAAT SHAH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JA MU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MUD ISKAN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DR IS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7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MA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8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EKOLAH TING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KAN B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IT BU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4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C84A-DB2F-4B56-93F9-BED34455251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C213-B324-4E55-A3F9-A49EBF768E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28600" y="152280"/>
          <a:ext cx="8686800" cy="6248520"/>
        </p:xfrm>
        <a:graphic>
          <a:graphicData uri="http://schemas.openxmlformats.org/drawingml/2006/table">
            <a:tbl>
              <a:tblPr/>
              <a:tblGrid>
                <a:gridCol w="393840"/>
                <a:gridCol w="3165480"/>
                <a:gridCol w="564840"/>
                <a:gridCol w="311400"/>
                <a:gridCol w="311040"/>
                <a:gridCol w="311040"/>
                <a:gridCol w="292320"/>
                <a:gridCol w="290520"/>
                <a:gridCol w="336600"/>
                <a:gridCol w="349200"/>
                <a:gridCol w="291960"/>
                <a:gridCol w="277920"/>
                <a:gridCol w="330120"/>
                <a:gridCol w="291960"/>
                <a:gridCol w="635040"/>
                <a:gridCol w="533520"/>
              </a:tblGrid>
              <a:tr h="50328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GEOGRA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PARIT BU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MU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DR IS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MA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PE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IT BU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KIT PAS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A37-DA26-4ACF-B513-E7EE91DC16E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CA0-DD8D-4629-9B25-B07B2389F4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04920" y="304920"/>
          <a:ext cx="8534160" cy="6095880"/>
        </p:xfrm>
        <a:graphic>
          <a:graphicData uri="http://schemas.openxmlformats.org/drawingml/2006/table">
            <a:tbl>
              <a:tblPr/>
              <a:tblGrid>
                <a:gridCol w="320400"/>
                <a:gridCol w="3335400"/>
                <a:gridCol w="473040"/>
                <a:gridCol w="368280"/>
                <a:gridCol w="304920"/>
                <a:gridCol w="290520"/>
                <a:gridCol w="290520"/>
                <a:gridCol w="290520"/>
                <a:gridCol w="290520"/>
                <a:gridCol w="326880"/>
                <a:gridCol w="285840"/>
                <a:gridCol w="304920"/>
                <a:gridCol w="264960"/>
                <a:gridCol w="265320"/>
                <a:gridCol w="612720"/>
                <a:gridCol w="509400"/>
              </a:tblGrid>
              <a:tr h="43488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SENI VIS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SULTAN ALAUDIN RI'AYAT SHAH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JA M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TAN ALAUDIN RI'AYAT SHAH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DR IS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KIT PAS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KAN BA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MA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MAHMUD ISKAND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PE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7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FAB-EACD-405D-A4A9-B0D03DDD39D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5B1-00CE-43CE-8DD5-A0D055DFCF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80880" y="914400"/>
          <a:ext cx="8534520" cy="4343400"/>
        </p:xfrm>
        <a:graphic>
          <a:graphicData uri="http://schemas.openxmlformats.org/drawingml/2006/table">
            <a:tbl>
              <a:tblPr/>
              <a:tblGrid>
                <a:gridCol w="389160"/>
                <a:gridCol w="2687400"/>
                <a:gridCol w="567000"/>
                <a:gridCol w="345960"/>
                <a:gridCol w="307800"/>
                <a:gridCol w="371520"/>
                <a:gridCol w="308160"/>
                <a:gridCol w="307800"/>
                <a:gridCol w="366840"/>
                <a:gridCol w="324000"/>
                <a:gridCol w="345960"/>
                <a:gridCol w="323640"/>
                <a:gridCol w="344520"/>
                <a:gridCol w="366840"/>
                <a:gridCol w="584280"/>
                <a:gridCol w="593640"/>
              </a:tblGrid>
              <a:tr h="45252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BIOLO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EKOLAH TINGGI M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LED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EKOLAH TIN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7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6638-FD4A-4A65-8859-52EB9910026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99C7-D5D2-4C9E-BDF4-055DC2E41B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838080"/>
          <a:ext cx="8534520" cy="4800600"/>
        </p:xfrm>
        <a:graphic>
          <a:graphicData uri="http://schemas.openxmlformats.org/drawingml/2006/table">
            <a:tbl>
              <a:tblPr/>
              <a:tblGrid>
                <a:gridCol w="395280"/>
                <a:gridCol w="2521080"/>
                <a:gridCol w="636480"/>
                <a:gridCol w="374760"/>
                <a:gridCol w="328680"/>
                <a:gridCol w="395280"/>
                <a:gridCol w="379440"/>
                <a:gridCol w="379440"/>
                <a:gridCol w="350640"/>
                <a:gridCol w="373320"/>
                <a:gridCol w="266400"/>
                <a:gridCol w="304920"/>
                <a:gridCol w="304920"/>
                <a:gridCol w="304560"/>
                <a:gridCol w="669960"/>
                <a:gridCol w="549360"/>
              </a:tblGrid>
              <a:tr h="52236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KI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DATO SRI AMAR DIR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 TIN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LED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DFA-7B8D-4411-8B7F-D2D9997EEEE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50C-3DDE-4032-A1E1-F8D025E5C6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609480"/>
          <a:ext cx="8458200" cy="4560840"/>
        </p:xfrm>
        <a:graphic>
          <a:graphicData uri="http://schemas.openxmlformats.org/drawingml/2006/table">
            <a:tbl>
              <a:tblPr/>
              <a:tblGrid>
                <a:gridCol w="419040"/>
                <a:gridCol w="2563920"/>
                <a:gridCol w="715680"/>
                <a:gridCol w="317520"/>
                <a:gridCol w="312840"/>
                <a:gridCol w="312840"/>
                <a:gridCol w="312480"/>
                <a:gridCol w="336600"/>
                <a:gridCol w="357120"/>
                <a:gridCol w="290520"/>
                <a:gridCol w="335160"/>
                <a:gridCol w="318960"/>
                <a:gridCol w="317520"/>
                <a:gridCol w="335160"/>
                <a:gridCol w="693720"/>
                <a:gridCol w="519120"/>
              </a:tblGrid>
              <a:tr h="54000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FIZ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48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LED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 TIN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LED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E7C-79F9-4D06-AD58-6035953843E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912A-DFD3-47AD-88B4-A248D285A3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57200" y="762120"/>
          <a:ext cx="8305920" cy="4500360"/>
        </p:xfrm>
        <a:graphic>
          <a:graphicData uri="http://schemas.openxmlformats.org/drawingml/2006/table">
            <a:tbl>
              <a:tblPr/>
              <a:tblGrid>
                <a:gridCol w="463680"/>
                <a:gridCol w="2525760"/>
                <a:gridCol w="596880"/>
                <a:gridCol w="361800"/>
                <a:gridCol w="298440"/>
                <a:gridCol w="318960"/>
                <a:gridCol w="341280"/>
                <a:gridCol w="362160"/>
                <a:gridCol w="361800"/>
                <a:gridCol w="298440"/>
                <a:gridCol w="320760"/>
                <a:gridCol w="298440"/>
                <a:gridCol w="255600"/>
                <a:gridCol w="366840"/>
                <a:gridCol w="576000"/>
                <a:gridCol w="559080"/>
              </a:tblGrid>
              <a:tr h="54756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MATEMATIK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(P) SULTAN ABU BA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 TIN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2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LED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3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96B3-54A3-4171-9F50-F5375243CD5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3EC-D231-4734-88F0-A5ECFA240F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80880" y="1066680"/>
          <a:ext cx="8458200" cy="3429000"/>
        </p:xfrm>
        <a:graphic>
          <a:graphicData uri="http://schemas.openxmlformats.org/drawingml/2006/table">
            <a:tbl>
              <a:tblPr/>
              <a:tblGrid>
                <a:gridCol w="392400"/>
                <a:gridCol w="2776320"/>
                <a:gridCol w="528840"/>
                <a:gridCol w="347400"/>
                <a:gridCol w="322200"/>
                <a:gridCol w="320760"/>
                <a:gridCol w="243000"/>
                <a:gridCol w="301680"/>
                <a:gridCol w="322200"/>
                <a:gridCol w="345960"/>
                <a:gridCol w="343080"/>
                <a:gridCol w="345960"/>
                <a:gridCol w="343080"/>
                <a:gridCol w="341280"/>
                <a:gridCol w="563400"/>
                <a:gridCol w="620640"/>
              </a:tblGrid>
              <a:tr h="61272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SAST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00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PEKAN BA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MUD ISKAND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KAN BA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84C4-46D8-4C40-A207-8DDC11DB2EC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151-0C60-4E7A-BCC9-5E5DAC10C1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914400"/>
          <a:ext cx="8534520" cy="3522600"/>
        </p:xfrm>
        <a:graphic>
          <a:graphicData uri="http://schemas.openxmlformats.org/drawingml/2006/table">
            <a:tbl>
              <a:tblPr/>
              <a:tblGrid>
                <a:gridCol w="345960"/>
                <a:gridCol w="3502080"/>
                <a:gridCol w="576360"/>
                <a:gridCol w="284040"/>
                <a:gridCol w="247680"/>
                <a:gridCol w="284040"/>
                <a:gridCol w="241560"/>
                <a:gridCol w="245880"/>
                <a:gridCol w="285840"/>
                <a:gridCol w="263520"/>
                <a:gridCol w="262080"/>
                <a:gridCol w="307800"/>
                <a:gridCol w="246240"/>
                <a:gridCol w="198360"/>
                <a:gridCol w="657000"/>
                <a:gridCol w="586080"/>
              </a:tblGrid>
              <a:tr h="66528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BAHASA TAM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TUN MA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 TUN PE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TUN MA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826-D111-43A3-ABE9-002C66C3809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D912-2A2C-4BBC-BD2B-41FA101F5B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3520" y="304920"/>
          <a:ext cx="8381880" cy="5929200"/>
        </p:xfrm>
        <a:graphic>
          <a:graphicData uri="http://schemas.openxmlformats.org/drawingml/2006/table">
            <a:tbl>
              <a:tblPr/>
              <a:tblGrid>
                <a:gridCol w="188640"/>
                <a:gridCol w="1836720"/>
                <a:gridCol w="338400"/>
                <a:gridCol w="347400"/>
                <a:gridCol w="486000"/>
                <a:gridCol w="347760"/>
                <a:gridCol w="328320"/>
                <a:gridCol w="338400"/>
                <a:gridCol w="495000"/>
                <a:gridCol w="378000"/>
                <a:gridCol w="368280"/>
                <a:gridCol w="376200"/>
                <a:gridCol w="517680"/>
                <a:gridCol w="366480"/>
                <a:gridCol w="357480"/>
                <a:gridCol w="357120"/>
                <a:gridCol w="466560"/>
                <a:gridCol w="487440"/>
              </a:tblGrid>
              <a:tr h="322200">
                <a:tc gridSpan="18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A KESELURUHAN  STPM  TAHUN 2013  DAERAH MUAR &amp; LED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ELUR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'M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LU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'M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LU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'M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LU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'ML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LU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SULTAN ALAUDIN RIAYAAT SHAH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BUKIT GAMB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LED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TENGKU MAHK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LEN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TUN DR ISM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DATO' SRI AMAR DIR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TUN PER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PEKAN BA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 PARIT BUN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K(P) SULTAN ABU BAK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BUKIT PAS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TINGGI MU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SRI MU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RAJA M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TUN MA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TENGKU MAHMUD ISKAND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MK TENGKU TEMENGGONG AHM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1C49-66A8-4CF8-BFEA-B580C6740CB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C33B-FD72-4734-8E8B-803FB060C1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2"/>
          <p:cNvSpPr/>
          <p:nvPr/>
        </p:nvSpPr>
        <p:spPr>
          <a:xfrm>
            <a:off x="0" y="6553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19BF-CF1A-4F58-B467-B138EDA8289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600200" y="6553080"/>
            <a:ext cx="617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9246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723B-747E-40D1-A08E-D2C88E186E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flipH="1" rot="10800000">
            <a:off x="12600" y="0"/>
            <a:ext cx="620640" cy="533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438280" y="457200"/>
            <a:ext cx="5791320" cy="2806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LULUS PENUH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PENGGAL   1, 2 &amp;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-360" y="52056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228600" y="304920"/>
            <a:ext cx="2286000" cy="1752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HNI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able 8" descr=""/>
          <p:cNvPicPr/>
          <p:nvPr/>
        </p:nvPicPr>
        <p:blipFill>
          <a:blip r:embed="rId1"/>
          <a:stretch/>
        </p:blipFill>
        <p:spPr>
          <a:xfrm>
            <a:off x="1249200" y="2951280"/>
            <a:ext cx="7255080" cy="766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2"/>
          <p:cNvSpPr/>
          <p:nvPr/>
        </p:nvSpPr>
        <p:spPr>
          <a:xfrm>
            <a:off x="0" y="6553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E9C2-2540-461B-9821-C12A0BA4492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1600200" y="6553080"/>
            <a:ext cx="617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9246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4B23-D222-48D2-A3D0-FC49CA472A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 flipH="1" rot="10800000">
            <a:off x="12600" y="0"/>
            <a:ext cx="620640" cy="533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86000" y="990720"/>
            <a:ext cx="5791320" cy="2806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LULUS PENUH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PENGGAL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-360" y="52056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228600" y="304920"/>
            <a:ext cx="2286000" cy="1752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HNI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able 8" descr=""/>
          <p:cNvPicPr/>
          <p:nvPr/>
        </p:nvPicPr>
        <p:blipFill>
          <a:blip r:embed="rId1"/>
          <a:stretch/>
        </p:blipFill>
        <p:spPr>
          <a:xfrm>
            <a:off x="1096920" y="3408480"/>
            <a:ext cx="7255080" cy="1425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2"/>
          <p:cNvSpPr/>
          <p:nvPr/>
        </p:nvSpPr>
        <p:spPr>
          <a:xfrm>
            <a:off x="0" y="6553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9A48-70F7-4EE0-83DE-A582F76B099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1600200" y="6553080"/>
            <a:ext cx="617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9246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B49-2A10-454C-8BC5-1DB32FFB5C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 flipH="1" rot="10800000">
            <a:off x="12600" y="0"/>
            <a:ext cx="620640" cy="533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71800" y="304920"/>
            <a:ext cx="5791320" cy="2311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haroni"/>
              </a:rPr>
              <a:t>PNGK TERBA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haroni"/>
              </a:rPr>
              <a:t>PENGGA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H="1">
            <a:off x="-360" y="52056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609480" y="304920"/>
            <a:ext cx="2286000" cy="1752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HNI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able 8" descr=""/>
          <p:cNvPicPr/>
          <p:nvPr/>
        </p:nvPicPr>
        <p:blipFill>
          <a:blip r:embed="rId1"/>
          <a:stretch/>
        </p:blipFill>
        <p:spPr>
          <a:xfrm>
            <a:off x="1706400" y="2036880"/>
            <a:ext cx="6950160" cy="3205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ANALISIS SETIAP MATAPELAJARA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2"/>
          <p:cNvSpPr/>
          <p:nvPr/>
        </p:nvSpPr>
        <p:spPr>
          <a:xfrm>
            <a:off x="0" y="6553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373-AE32-4CBB-935C-FADFD532AE3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1600200" y="6553080"/>
            <a:ext cx="617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79246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D94-FF31-4FC2-BDFD-FEA3E05E8D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80880" y="95400"/>
          <a:ext cx="8458200" cy="6589440"/>
        </p:xfrm>
        <a:graphic>
          <a:graphicData uri="http://schemas.openxmlformats.org/drawingml/2006/table">
            <a:tbl>
              <a:tblPr/>
              <a:tblGrid>
                <a:gridCol w="284400"/>
                <a:gridCol w="2611440"/>
                <a:gridCol w="457200"/>
                <a:gridCol w="380880"/>
                <a:gridCol w="380880"/>
                <a:gridCol w="381240"/>
                <a:gridCol w="304560"/>
                <a:gridCol w="381240"/>
                <a:gridCol w="380880"/>
                <a:gridCol w="380880"/>
                <a:gridCol w="381240"/>
                <a:gridCol w="438120"/>
                <a:gridCol w="282600"/>
                <a:gridCol w="298440"/>
                <a:gridCol w="538200"/>
                <a:gridCol w="576000"/>
              </a:tblGrid>
              <a:tr h="28404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PENGAJIAN AM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BUKIT GAMB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 TAHUN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D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 TING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TAN ALAUDIN RIAYAAT SHAH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MU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KIT GAMB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MAH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TEMENGGONG AHM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JA MU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KIT PAS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PE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8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DR IS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MA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KAN B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IT BU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7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MUD ISKAN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3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Date Placeholder 2"/>
          <p:cNvSpPr/>
          <p:nvPr/>
        </p:nvSpPr>
        <p:spPr>
          <a:xfrm>
            <a:off x="0" y="6553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1313-A51D-4961-813C-DB03A0B3C32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9246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00F-D050-4FD6-B892-2A29C7BCA7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533520" y="457200"/>
          <a:ext cx="8305560" cy="5918040"/>
        </p:xfrm>
        <a:graphic>
          <a:graphicData uri="http://schemas.openxmlformats.org/drawingml/2006/table">
            <a:tbl>
              <a:tblPr/>
              <a:tblGrid>
                <a:gridCol w="271440"/>
                <a:gridCol w="2928960"/>
                <a:gridCol w="573120"/>
                <a:gridCol w="326880"/>
                <a:gridCol w="307800"/>
                <a:gridCol w="363600"/>
                <a:gridCol w="312840"/>
                <a:gridCol w="326880"/>
                <a:gridCol w="344520"/>
                <a:gridCol w="308160"/>
                <a:gridCol w="309600"/>
                <a:gridCol w="361800"/>
                <a:gridCol w="309600"/>
                <a:gridCol w="312840"/>
                <a:gridCol w="476280"/>
                <a:gridCol w="471240"/>
              </a:tblGrid>
              <a:tr h="28404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BAHASA MELAY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LE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TEMENGGONG AHM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KIT GAMB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 TING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MAH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TAN ALAUDIN RIAYAAT SHAH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MU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JA MU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DR IS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KIT PAS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1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MUD ISKAN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5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3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KAN B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3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MA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UN PE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7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IT BU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Date Placeholder 2"/>
          <p:cNvSpPr/>
          <p:nvPr/>
        </p:nvSpPr>
        <p:spPr>
          <a:xfrm>
            <a:off x="0" y="6553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41A-B913-4500-B274-AF98DB81F5A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9246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620D-DFD9-4B02-AD55-5A1147D8A3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533520" y="457200"/>
          <a:ext cx="8229600" cy="5638680"/>
        </p:xfrm>
        <a:graphic>
          <a:graphicData uri="http://schemas.openxmlformats.org/drawingml/2006/table">
            <a:tbl>
              <a:tblPr/>
              <a:tblGrid>
                <a:gridCol w="269640"/>
                <a:gridCol w="3030480"/>
                <a:gridCol w="547920"/>
                <a:gridCol w="320760"/>
                <a:gridCol w="284040"/>
                <a:gridCol w="339840"/>
                <a:gridCol w="325440"/>
                <a:gridCol w="301320"/>
                <a:gridCol w="303480"/>
                <a:gridCol w="282600"/>
                <a:gridCol w="325440"/>
                <a:gridCol w="284040"/>
                <a:gridCol w="268200"/>
                <a:gridCol w="322200"/>
                <a:gridCol w="552600"/>
                <a:gridCol w="471600"/>
              </a:tblGrid>
              <a:tr h="32688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SIS MATA PELAJARAN :  PENGAJIAN PERNIAG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 gridSpan="1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RUSI JKD :   PENGETUA SMK TUN DR IS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AL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G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 SULTAN ABU BA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DR IS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MU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GKU MAH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' SRI AMAR DIR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MA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 PE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ULTAN ALAUDIN RIAYAAT SHAH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AJA M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6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NGKU MAHMUD ISKAND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2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KIT GAMB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KIT PAS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KAN BA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Date Placeholder 2"/>
          <p:cNvSpPr/>
          <p:nvPr/>
        </p:nvSpPr>
        <p:spPr>
          <a:xfrm>
            <a:off x="0" y="6553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E05A-D715-4ABE-8F14-2B3282783F8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9246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0DD-96B9-4B48-B5BA-0A831DB101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7:49:14Z</dcterms:created>
  <dc:creator>User</dc:creator>
  <dc:description/>
  <dc:language>en-US</dc:language>
  <cp:lastModifiedBy>Windows 7</cp:lastModifiedBy>
  <dcterms:modified xsi:type="dcterms:W3CDTF">2014-02-26T03:02:30Z</dcterms:modified>
  <cp:revision>197</cp:revision>
  <dc:subject/>
  <dc:title>Slide 1</dc:title>
</cp:coreProperties>
</file>