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4211-30EB-424C-BE5B-6A71CA4EDBE5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2C8A-3546-448C-A7C7-628CD6C06147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92F-FB6B-404B-9400-C48072F7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61C-94B0-4825-AE3A-2CDABF55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14F-7171-4D95-8BDC-BE6CC035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92D-2DE9-4BEB-8B37-0705200E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096-4310-47F5-8AB5-F08261AA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CDE-6A11-45AA-9489-9B446CC4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BDA-4FFB-49C6-B7FD-8DBB1B5B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140-F88B-4190-8854-F1B9BF18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180-EBB2-4CE5-8EDC-F43F278A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47F-06D0-48A0-8953-E52CDC5D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A0C-653E-4D13-9E63-95113ED9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D2C-B1D5-4488-B0D4-10E8387E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35AE-5B50-4607-8270-AD48761890EB}" type="datetime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F3E2-5275-472B-AE5F-AC5A8C6B18CD}" type="slidenum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vt.ro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391520" cy="1067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"/>
              </a:rPr>
              <a:t>Titlul lucra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9288-9D75-4DFA-B2A4-ED792A6FD632}" type="slidenum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dci.uvt.ro/wp-content/themes/twentyeleven/images/uv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52280"/>
            <a:ext cx="2685960" cy="571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286000" y="4952880"/>
            <a:ext cx="487692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entury"/>
                <a:ea typeface="Arial"/>
              </a:rPr>
              <a:t>Coordon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entury"/>
                <a:ea typeface="Arial"/>
              </a:rPr>
              <a:t>Lector Dr. Prenume si N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Prenume si N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"/>
              </a:rPr>
              <a:t>Facultatea de Economie si de Administrare a Afaceril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"/>
              </a:rPr>
              <a:t>Universitatea de Vest din Timiso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"/>
              </a:rPr>
              <a:t>Specializarea Finante-Ban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"/>
              </a:rPr>
              <a:t>Promotia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2269-0CE1-432C-A994-FDD49857F60C}" type="slidenum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Structura lucrarii (1 slide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Introduce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Literatu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Studiu de caz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Rezul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Concluzi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B4AE-F238-4845-AEEE-3E002710B1B7}" type="slidenum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1. Introducere (1-2 slide-uri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motivatia alegerii temei;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obiectivul lucrarii;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importanta temei in literatura de specialitate;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principale rezultate obtinute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ACF3-FE50-42E7-B962-2C36E694345E}" type="slidenum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2. Literatura (2-3 slide-uri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se prezinta principalele curente de gandire (rezultate) identificate, specificandu-se numele (ani) celor mai importanti autori;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se prezinta pe scurt legislatia in domeniu;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se formuleaza impoteza de lucru, in baza temei si literaturii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D8B5-B2FA-4D5C-A3D2-488010E53B6D}" type="slidenum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3. Studiu de caz (4-5 slide-uri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se prezinta pe scurt metodologia de cercetare;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se descrie firma/domeniul/curentele teoretice supuse investigatiei;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se prezita datele si se specifica intervalul de timp al analizei (daca este cazul);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se prezinta principalele rezultate obtinute (tabele, grafice, diagrame, documente scanate etc.)*.</a:t>
            </a:r>
            <a:br>
              <a:rPr sz="2500"/>
            </a:br>
            <a:br>
              <a:rPr sz="25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*Nota: a se evita prezentarea pe slide a unor expresii de tipul “cifra de afaceri a scazut cu 5% in 2003, comparativ cu 2002”!!!</a:t>
            </a:r>
            <a:br>
              <a:rPr sz="25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973D-F29E-4C72-AC09-DDE1383E40B1}" type="slidenum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Calibri"/>
              </a:rPr>
              <a:t>4. Concluzii (2-3 slide-uri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se prezinta pricipalele concluzii desprinse in baza rezultatelor obtinute*;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se descriu implicatiile politice ale lucrarii (i.e. cui servesc rezultatele si concluziile, care sunt recomandarile autorului facute firmelor/autoritatilor publice/alti subiecti tinta legate de subiectul cercetat);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se ilustreaza limitele cercetarii (daca este cazul);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se prezinta posibilele viitoare directii de cercetare (daca este cazul).</a:t>
            </a:r>
            <a:br>
              <a:rPr sz="2500"/>
            </a:br>
            <a:br>
              <a:rPr sz="25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*Nota: “cifra de afaceri a scazut cu 5% in 2003, comparativ cu 2002” este un rezultat, nu o concluzie!!!</a:t>
            </a:r>
            <a:br>
              <a:rPr sz="25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920" y="2819160"/>
            <a:ext cx="4114800" cy="53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entury"/>
              </a:rPr>
              <a:t>Multumesc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3EF9-32BC-4F02-8C70-9D12CE569439}" type="slidenum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17:50:09Z</dcterms:created>
  <dc:creator>user</dc:creator>
  <dc:description/>
  <dc:language>en-US</dc:language>
  <cp:lastModifiedBy>mihai.mutascu</cp:lastModifiedBy>
  <cp:lastPrinted>2014-06-28T10:21:27Z</cp:lastPrinted>
  <dcterms:modified xsi:type="dcterms:W3CDTF">2014-07-02T08:04:24Z</dcterms:modified>
  <cp:revision>952</cp:revision>
  <dc:subject/>
  <dc:title>New Determinants of  Collected Tax Revenues</dc:title>
</cp:coreProperties>
</file>