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37C-42DB-4811-A546-3CE82515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8E6-8330-466C-910C-8C106E3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E68-3789-4C31-BC51-51B1FC84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79A-778C-41A4-BCAA-4DE8DA95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4FD9-AD99-42B4-8395-729C1375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FD08-DB15-4488-A769-8DEE36C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D7F-53C0-4407-8B04-93E3B69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9CDB-05A6-4965-B7E8-DDEDF4A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506-9BEC-4EF8-A5BC-EB24EF8E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667-9663-43D4-AD4E-1D6B2DCF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E743-6762-4C48-93A6-160501A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FA9-C968-4894-B21B-F88024C6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8DAE-5A25-4F44-970F-0AB1190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A7F-6A53-487A-88AD-E49B7C5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103-DA3A-4684-A360-5EF6F87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26E-9A1D-44FE-9552-84EE343E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0B3-3B5B-4798-BCA9-13DC357D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CCF-BC12-4403-9B6A-DEA8B800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FFD-9115-4789-8EF6-1A98131F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88-01CA-4E69-954A-242D9F4C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FD7-B0A7-44F2-802A-F837E34A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CAA-192B-4C15-AFFC-C6BA724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086-F4FE-4312-82CE-305A93C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469-A0A9-45A3-B806-CE8FFE2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F552-3469-4295-AFA7-772DE60DCA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C96-B1CD-4E78-98C3-D7594B9D8D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0256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roadway"/>
              </a:rPr>
              <a:t>Communication</a:t>
            </a:r>
            <a:r>
              <a:rPr b="0" lang="fr-FR" sz="36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Bookman Old Style"/>
              </a:rPr>
              <a:t>et</a:t>
            </a:r>
            <a:r>
              <a:rPr b="0" lang="fr-FR" sz="36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Broadway"/>
              </a:rPr>
              <a:t>Argu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4005360"/>
            <a:ext cx="1655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0000"/>
                </a:solidFill>
                <a:latin typeface="Broadway"/>
              </a:rPr>
              <a:t>Les </a:t>
            </a:r>
            <a:r>
              <a:rPr b="1" lang="fr-FR" sz="3700" spc="-1" strike="noStrike">
                <a:solidFill>
                  <a:srgbClr val="000000"/>
                </a:solidFill>
                <a:latin typeface="Broadway"/>
              </a:rPr>
              <a:t>types</a:t>
            </a:r>
            <a:r>
              <a:rPr b="1" i="1" lang="fr-FR" sz="3700" spc="-1" strike="noStrike">
                <a:solidFill>
                  <a:srgbClr val="000000"/>
                </a:solidFill>
                <a:latin typeface="Broadway"/>
              </a:rPr>
              <a:t> d’argument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’argument d’autorité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’analog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es rapports de </a:t>
            </a:r>
            <a:r>
              <a:rPr b="0" i="1" lang="fr-FR" sz="1900" spc="-1" strike="noStrike">
                <a:solidFill>
                  <a:srgbClr val="000000"/>
                </a:solidFill>
                <a:latin typeface="Bookman Old Style"/>
              </a:rPr>
              <a:t>cause à effet</a:t>
            </a: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es avantages ou les inconvéni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Utilisation de données scientifiques, historiques, numériq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Par analyse et élimination des autres solu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Par généralis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Argument des « </a:t>
            </a:r>
            <a:r>
              <a:rPr b="0" i="1" lang="fr-FR" sz="1900" spc="-1" strike="noStrike">
                <a:solidFill>
                  <a:srgbClr val="000000"/>
                </a:solidFill>
                <a:latin typeface="Bookman Old Style"/>
              </a:rPr>
              <a:t>paliers</a:t>
            </a: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 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’accord </a:t>
            </a:r>
            <a:r>
              <a:rPr b="0" i="1" lang="fr-FR" sz="1900" spc="-1" strike="noStrike">
                <a:solidFill>
                  <a:srgbClr val="000000"/>
                </a:solidFill>
                <a:latin typeface="Bookman Old Style"/>
              </a:rPr>
              <a:t>paroles/actes</a:t>
            </a: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’alternativ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Appel aux valeurs supérie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Prise à témoin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Argument </a:t>
            </a:r>
            <a:r>
              <a:rPr b="0" i="1" lang="fr-FR" sz="1900" spc="-1" strike="noStrike">
                <a:solidFill>
                  <a:srgbClr val="000000"/>
                </a:solidFill>
                <a:latin typeface="Bookman Old Style"/>
              </a:rPr>
              <a:t>ad homin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Bookman Old Style"/>
              </a:rPr>
              <a:t>L'argument </a:t>
            </a:r>
            <a:r>
              <a:rPr b="0" i="1" lang="fr-FR" sz="1900" spc="-1" strike="noStrike">
                <a:solidFill>
                  <a:srgbClr val="000000"/>
                </a:solidFill>
                <a:latin typeface="Bookman Old Style"/>
              </a:rPr>
              <a:t>a forti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6600ff"/>
              </a:buClr>
              <a:buFont typeface="Broadway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6600ff"/>
                </a:solidFill>
                <a:latin typeface="Broadway"/>
              </a:rPr>
              <a:t>L’argumentation dans la communication commercia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es arguments peuvent être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Bookman Old Style"/>
              </a:rPr>
              <a:t>Généra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Bookman Old Style"/>
              </a:rPr>
              <a:t>Préci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6600ff"/>
              </a:buClr>
              <a:buFont typeface="Broadway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6600ff"/>
                </a:solidFill>
                <a:latin typeface="Broadway"/>
              </a:rPr>
              <a:t>L’argumentation dans la vent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man Old Style"/>
              </a:rPr>
              <a:t>Il y a deux types d’argumentations :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ceux destinés 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à l’utilisateur final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du produi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ceux destinés 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aux distributeurs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man Old Style"/>
              </a:rPr>
              <a:t>Une argumentation commerciale solide sera construite sur :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les caractéristiques techniques et commerciales du produit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les avantages qu’il peut procurer au client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les preuves de ces avantages.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>
              <a:lnSpc>
                <a:spcPct val="100000"/>
              </a:lnSpc>
              <a:buClr>
                <a:srgbClr val="6600ff"/>
              </a:buClr>
              <a:buFont typeface="Broadway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6600ff"/>
                </a:solidFill>
                <a:latin typeface="Broadway"/>
              </a:rPr>
              <a:t>L’argumentation publicitair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Ses bu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Ses moyens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Son contenu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Broadway"/>
              </a:rPr>
              <a:t>Bibliographi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hilippe Bret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Bookman Old Style"/>
              </a:rPr>
              <a:t>Convaincre sans manipuler - Apprendre à argumenter</a:t>
            </a: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. Paris: La Découverte, 20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Bookman Old Style"/>
              </a:rPr>
              <a:t>Argumenter en situation difficile</a:t>
            </a: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. Paris: La Découverte, 2004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Bookman Old Style"/>
              </a:rPr>
              <a:t>L’argumentation dans la communication</a:t>
            </a: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. Paris: La Découverte, coll. « Repères », Paris, 1996, 2003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Bookman Old Style"/>
              </a:rPr>
              <a:t>L’explosion de la communication à l’aube du XXIe siècle</a:t>
            </a: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. Paris: La Découverte, 2002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Bookman Old Style"/>
              </a:rPr>
              <a:t>Histoire des théories de l’argumentation</a:t>
            </a: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 (en collaboration avec Gilles Gauthier). Paris: La Découverte, coll. «Repères», 200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man Old Style"/>
              </a:rPr>
              <a:t>Plan du cou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Définition et Généralité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Argumenter</a:t>
            </a: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 et les autres verbes corrélati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Le principe de</a:t>
            </a: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 l’argum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Le processus</a:t>
            </a: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’argum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La stratégie de</a:t>
            </a:r>
            <a:r>
              <a:rPr b="1" i="1" lang="fr-FR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l’argumentation</a:t>
            </a: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 (les six étape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Les types</a:t>
            </a:r>
            <a:r>
              <a:rPr b="1" i="1" lang="fr-FR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1" lang="fr-FR" sz="2500" spc="-1" strike="noStrike">
                <a:solidFill>
                  <a:srgbClr val="000000"/>
                </a:solidFill>
                <a:latin typeface="Bookman Old Style"/>
              </a:rPr>
              <a:t>’argu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6600ff"/>
                </a:solidFill>
                <a:latin typeface="Bookman Old Style"/>
              </a:rPr>
              <a:t>L’argumentation dans la communication commerci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6600ff"/>
                </a:solidFill>
                <a:latin typeface="Bookman Old Style"/>
              </a:rPr>
              <a:t>L’argumentation dans la ve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6600ff"/>
                </a:solidFill>
                <a:latin typeface="Bookman Old Style"/>
              </a:rPr>
              <a:t>L’argumentation publicitai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0000"/>
                </a:solidFill>
                <a:latin typeface="Broadway"/>
              </a:rPr>
              <a:t>Définition et Généralité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L’objectif du discours argumentatif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man Old Style"/>
              </a:rPr>
              <a:t>soutenir une thèse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(un point de vue, une opinion) qui réponde à une problémat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man Old Style"/>
              </a:rPr>
              <a:t>convaincre un advers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man Old Style"/>
              </a:rPr>
              <a:t>pour modifier son opinion / son juge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ookman Old Style"/>
              </a:rPr>
              <a:t>pour l’inciter à ag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man Old Style"/>
              </a:rPr>
              <a:t>Argumenter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, c’est vouloir </a:t>
            </a:r>
            <a:r>
              <a:rPr b="0" i="1" lang="fr-FR" sz="2600" spc="-1" strike="noStrike">
                <a:solidFill>
                  <a:srgbClr val="000000"/>
                </a:solidFill>
                <a:latin typeface="Bookman Old Style"/>
              </a:rPr>
              <a:t>convaincre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fr-FR" sz="2600" spc="-1" strike="noStrike">
                <a:solidFill>
                  <a:srgbClr val="000000"/>
                </a:solidFill>
                <a:latin typeface="Bookman Old Style"/>
              </a:rPr>
              <a:t>persuader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 ou </a:t>
            </a:r>
            <a:r>
              <a:rPr b="0" i="1" lang="fr-FR" sz="2600" spc="-1" strike="noStrike">
                <a:solidFill>
                  <a:srgbClr val="000000"/>
                </a:solidFill>
                <a:latin typeface="Bookman Old Style"/>
              </a:rPr>
              <a:t>délibérer</a:t>
            </a: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Broadway"/>
              </a:rPr>
              <a:t>Le schéma argumentatif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La stratégie argumentative peut être construite sur les positions suivante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le locuteur peut choisir de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Bookman Old Style"/>
              </a:rPr>
              <a:t>développer</a:t>
            </a: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 et de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Bookman Old Style"/>
              </a:rPr>
              <a:t>défendre</a:t>
            </a: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 sa propre thèse (passant sous silence celle des adversaires, dans une « splendide indifférence ») 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le locuteur peut commencer par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Bookman Old Style"/>
              </a:rPr>
              <a:t>réfuter</a:t>
            </a: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 la thèse adverse ou, à l’inverse, il peut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Bookman Old Style"/>
              </a:rPr>
              <a:t>se montrer conciliant</a:t>
            </a: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 (en acceptant quelques points, mineurs, de la thèse adverse) afin de mieux disposer le destinataire à accepter la sienn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cc0000"/>
                </a:solidFill>
                <a:latin typeface="Bookman Old Style"/>
              </a:rPr>
              <a:t>Tout dépend du rapport de forces réel ou supposé.</a:t>
            </a:r>
            <a:r>
              <a:rPr b="1" lang="en-US" sz="21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47640" indent="-64764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Broadway"/>
              </a:rPr>
              <a:t>Argumenter</a:t>
            </a:r>
            <a:r>
              <a:rPr b="0" lang="fr-FR" sz="33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3300"/>
            </a:br>
            <a:r>
              <a:rPr b="0" lang="fr-FR" sz="3300" spc="-1" strike="noStrike">
                <a:solidFill>
                  <a:srgbClr val="000000"/>
                </a:solidFill>
                <a:latin typeface="Bookman Old Style"/>
              </a:rPr>
              <a:t>et les autres verbes corrélatif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Convainc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Persua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Délibér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Broadway"/>
              </a:rPr>
              <a:t>Le principe de </a:t>
            </a:r>
            <a:r>
              <a:rPr b="1" i="1" lang="fr-FR" sz="3300" spc="-1" strike="noStrike">
                <a:solidFill>
                  <a:srgbClr val="000000"/>
                </a:solidFill>
                <a:latin typeface="Broadway"/>
              </a:rPr>
              <a:t>l’argumenta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prouver et apporter un raisonnement à l’appui d’une affirma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0000"/>
                </a:solidFill>
                <a:latin typeface="Bookman Old Style"/>
              </a:rPr>
              <a:t>C’est une démonstration.</a:t>
            </a: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Argumentation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t</a:t>
            </a: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 manipulation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Bookman Old Style"/>
              </a:rPr>
              <a:t>Argumenter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convaincre et persua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Bookman Old Style"/>
              </a:rPr>
              <a:t>Manipuler</a:t>
            </a: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= convaincre « à tout prix »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Broadway"/>
              </a:rPr>
              <a:t>Le processus </a:t>
            </a:r>
            <a:br>
              <a:rPr sz="3300"/>
            </a:br>
            <a:r>
              <a:rPr b="1" lang="fr-FR" sz="3300" spc="-1" strike="noStrike">
                <a:solidFill>
                  <a:srgbClr val="000000"/>
                </a:solidFill>
                <a:latin typeface="Broadway"/>
              </a:rPr>
              <a:t>d’</a:t>
            </a:r>
            <a:r>
              <a:rPr b="1" i="1" lang="fr-FR" sz="3300" spc="-1" strike="noStrike">
                <a:solidFill>
                  <a:srgbClr val="000000"/>
                </a:solidFill>
                <a:latin typeface="Broadway"/>
              </a:rPr>
              <a:t>argumenta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man Old Style"/>
              </a:rPr>
              <a:t>Le schéma de la communication argument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48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roadway"/>
              </a:rPr>
              <a:t>Discuss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’opin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’orateu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’argu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’audito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Bookman Old Style"/>
              </a:rPr>
              <a:t>Le contexte de réce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-723960" algn="ctr">
              <a:lnSpc>
                <a:spcPct val="100000"/>
              </a:lnSpc>
              <a:buClr>
                <a:srgbClr val="000000"/>
              </a:buClr>
              <a:buFont typeface="Broadway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Broadway"/>
              </a:rPr>
              <a:t>La stratégie de</a:t>
            </a:r>
            <a:r>
              <a:rPr b="1" i="1" lang="fr-FR" sz="3300" spc="-1" strike="noStrike">
                <a:solidFill>
                  <a:srgbClr val="000000"/>
                </a:solidFill>
                <a:latin typeface="Broadway"/>
              </a:rPr>
              <a:t> l’argumentation</a:t>
            </a:r>
            <a:r>
              <a:rPr b="0" lang="fr-FR" sz="33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3300"/>
            </a:br>
            <a:r>
              <a:rPr b="0" lang="fr-FR" sz="3300" spc="-1" strike="noStrike">
                <a:solidFill>
                  <a:srgbClr val="000000"/>
                </a:solidFill>
                <a:latin typeface="Bookman Old Style"/>
              </a:rPr>
              <a:t>(les six étapes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Mobilisation de l’opin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Identification de son ou ses auditoire(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Identification du contexte de réception de l’auditoi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Assimilation de l’opinion dans un ou plusieurs argu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Intervention sur le contexte de réception de l’auditoire pour le modifier afin d’y ouvrir une place pour son opin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man Old Style"/>
              </a:rPr>
              <a:t>Introduction de l’opinion proposée au contexte de réception modifi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45:53Z</dcterms:created>
  <dc:creator>Delia</dc:creator>
  <dc:description/>
  <dc:language>en-US</dc:language>
  <cp:lastModifiedBy>Delia</cp:lastModifiedBy>
  <dcterms:modified xsi:type="dcterms:W3CDTF">2009-12-15T11:36:36Z</dcterms:modified>
  <cp:revision>13</cp:revision>
  <dc:subject/>
  <dc:title>Communication  et  Argumentation</dc:title>
</cp:coreProperties>
</file>