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31A-EA59-444B-96DC-E8695B4A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653-07B4-478D-89CE-FAE9BDC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313-7366-4F99-A580-41A67593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E7B-EB48-482A-9EA1-3E263780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7DCE-661F-4C98-BA34-93E8857A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FB38-47BC-4A3D-9792-E1B41E5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0A11-6F05-4C19-8758-320231F3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485F-2DEC-4837-9AAB-D2F59A02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E95-E29F-4B25-A99B-E4238AA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61C-0F52-41A1-B57D-D2EBB56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46D1-C3FF-4E89-B08F-AC15AE5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284-42B3-4E0C-A7A6-FEB0EEC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EE8-39ED-4A16-9890-8461F63E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8C0C-0A6B-4D78-9ED3-7C2F3E6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A4F1-77EB-44C1-8986-EC356EA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3A5-EA1F-44F0-A637-D772E250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6CA-8519-44B4-8B8E-4ED9A9EA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74A-414D-4B59-8F59-0B7768BD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3E3-64A1-4104-9CED-06DBCCF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064-F4AA-43EA-A7C0-9F56D61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D2B-292B-4066-A8E3-10CCC95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3CA-312A-4857-ABE9-C3FABBD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DFA-4109-4BEC-80E5-9C2450C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598-50D2-4574-9852-EC21158C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175-239E-4E4C-B9A9-678EAC067C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978-22A3-47C3-BD55-8405567013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Bookman Old Style"/>
              </a:rPr>
              <a:t>LA COMMUNICATION D’ENTREPRIS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Bookman Old Style"/>
              </a:rPr>
              <a:t>La communication interne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066680" y="152280"/>
            <a:ext cx="6858000" cy="6553440"/>
            <a:chOff x="1066680" y="152280"/>
            <a:chExt cx="6858000" cy="655344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066680" y="152280"/>
              <a:ext cx="685800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1066680" y="152280"/>
              <a:ext cx="6858000" cy="655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00"/>
                </a:solidFill>
                <a:latin typeface="Broadway"/>
              </a:rPr>
              <a:t>Le compte rend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Bookman Old Style"/>
              </a:rPr>
              <a:t>Il </a:t>
            </a: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a trois fonctions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informer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du déroulement des faits les personnes qui n’y ont pas assisté 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laisser une trace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de ces faits pour le cas où il s’avérerait nécessaire, plus tard, de les approfondir 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faciliter le travail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des personnes dont la tâche dépend de ces fait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Pour remplir ses fonctions, il doit être </a:t>
            </a: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clair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, </a:t>
            </a: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soigné, précis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concis et fidèle à la réalité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C’est-à-dire qu’il « rend compte », </a:t>
            </a:r>
            <a:r>
              <a:rPr b="0" lang="fr-FR" sz="2100" spc="-1" strike="noStrike" u="sng">
                <a:solidFill>
                  <a:srgbClr val="006600"/>
                </a:solidFill>
                <a:uFillTx/>
                <a:latin typeface="Bookman Old Style"/>
              </a:rPr>
              <a:t>sans aucun commentaire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, ni analyse, ni proposition venant du rédacteu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00200" y="304920"/>
            <a:ext cx="5029200" cy="5715000"/>
            <a:chOff x="1600200" y="304920"/>
            <a:chExt cx="5029200" cy="5715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600200" y="304920"/>
              <a:ext cx="50292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600200" y="304920"/>
              <a:ext cx="5029200" cy="57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00"/>
                </a:solidFill>
                <a:latin typeface="Broadway"/>
              </a:rPr>
              <a:t>Le procès ver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La </a:t>
            </a:r>
            <a:r>
              <a:rPr b="0" lang="fr-FR" sz="2100" spc="-1" strike="noStrike">
                <a:solidFill>
                  <a:srgbClr val="cc0000"/>
                </a:solidFill>
                <a:latin typeface="Bookman Old Style"/>
              </a:rPr>
              <a:t>confusion entre compte rendu, procès verbal et rapport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 : tous les trois écrits apportent une information e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fournissent, le cas échéant, une preuve; mais </a:t>
            </a:r>
            <a:r>
              <a:rPr b="0" lang="fr-FR" sz="2100" spc="-1" strike="noStrike">
                <a:solidFill>
                  <a:srgbClr val="cc0000"/>
                </a:solidFill>
                <a:latin typeface="Bookman Old Style"/>
              </a:rPr>
              <a:t>un troisième objectif les différencie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le compte rendu</a:t>
            </a: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 témoigne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d’un fa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le procès verbal</a:t>
            </a: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 atteste 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un certain fa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le rapport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 étudie 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un certain fait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et propos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une/des solution/s</a:t>
            </a:r>
            <a:r>
              <a:rPr b="0" lang="fr-FR" sz="21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Pour conclure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le compte rendu et le procès verbal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 exposent de façon neutre les fai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6600"/>
                </a:solidFill>
                <a:latin typeface="Bookman Old Style"/>
              </a:rPr>
              <a:t>le rapport</a:t>
            </a:r>
            <a:r>
              <a:rPr b="0" lang="fr-FR" sz="2100" spc="-1" strike="noStrike">
                <a:solidFill>
                  <a:srgbClr val="006600"/>
                </a:solidFill>
                <a:latin typeface="Bookman Old Style"/>
              </a:rPr>
              <a:t>, après les avoir exposés, les analysera et y apportera des solutions.</a:t>
            </a:r>
            <a:r>
              <a:rPr b="0" lang="en-US" sz="21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FORM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la note de service/la note d’inform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le compte rendu (de réunio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le ra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00"/>
                </a:solidFill>
                <a:latin typeface="Broadway"/>
              </a:rPr>
              <a:t>La note de service/</a:t>
            </a:r>
            <a:br>
              <a:rPr sz="3400"/>
            </a:br>
            <a:r>
              <a:rPr b="1" lang="fr-FR" sz="3400" spc="-1" strike="noStrike">
                <a:solidFill>
                  <a:srgbClr val="006600"/>
                </a:solidFill>
                <a:latin typeface="Broadway"/>
              </a:rPr>
              <a:t>la note d’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600"/>
                </a:solidFill>
                <a:latin typeface="Bookman Old Style"/>
              </a:rPr>
              <a:t>L’objectif </a:t>
            </a: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= mettre à exécution une décision dont les conséquences relèvent de la pratiq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600"/>
                </a:solidFill>
                <a:latin typeface="Bookman Old Style"/>
              </a:rPr>
              <a:t>informer</a:t>
            </a: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 un destinataire (collectif ou individuel) 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600"/>
                </a:solidFill>
                <a:latin typeface="Bookman Old Style"/>
              </a:rPr>
              <a:t>donner un ordre</a:t>
            </a: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3800" spc="-1" strike="noStrike">
                <a:solidFill>
                  <a:srgbClr val="006600"/>
                </a:solidFill>
                <a:latin typeface="Broadway"/>
              </a:rPr>
              <a:t>LA NOTE DE SERV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Un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document intern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à une administration/entreprise par lequel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un supérieur adresse à ses subordonnés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des instructions sur un problème particulier relavant des activités ou du fonctionnement du service (</a:t>
            </a:r>
            <a:r>
              <a:rPr b="0" i="1" lang="fr-FR" sz="2000" spc="-1" strike="noStrike">
                <a:solidFill>
                  <a:srgbClr val="006600"/>
                </a:solidFill>
                <a:latin typeface="Bookman Old Style"/>
              </a:rPr>
              <a:t>voie hiérarchique descendant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Elle peut être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permanent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ou temporair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, selon les indications données. Elle est fréquemment utilisée dans les relations hiérarchiques et su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Exemples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6600"/>
                </a:solidFill>
                <a:latin typeface="Bookman Old Style"/>
              </a:rPr>
              <a:t>Conduite à suivre en cas d’incend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6600"/>
                </a:solidFill>
                <a:latin typeface="Bookman Old Style"/>
              </a:rPr>
              <a:t>Règles de sécurité à observer dans la conduite du trav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6600"/>
                </a:solidFill>
                <a:latin typeface="Bookman Old Style"/>
              </a:rPr>
              <a:t>Nécessité de se rendre à une visite médicale dans le cadre de la médecine du trav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6600"/>
                </a:solidFill>
                <a:latin typeface="Broadway"/>
              </a:rPr>
              <a:t>MOD</a:t>
            </a:r>
            <a:r>
              <a:rPr b="1" lang="en-US" sz="3800" spc="-1" strike="noStrike">
                <a:solidFill>
                  <a:srgbClr val="006600"/>
                </a:solidFill>
                <a:latin typeface="Broadway"/>
              </a:rPr>
              <a:t>È</a:t>
            </a:r>
            <a:r>
              <a:rPr b="1" lang="fr-FR" sz="3800" spc="-1" strike="noStrike">
                <a:solidFill>
                  <a:srgbClr val="006600"/>
                </a:solidFill>
                <a:latin typeface="Broadway"/>
              </a:rPr>
              <a:t>LE</a:t>
            </a:r>
            <a:br>
              <a:rPr sz="1800"/>
            </a:br>
            <a:r>
              <a:rPr b="1" lang="fr-FR" sz="1800" spc="-1" strike="noStrike">
                <a:solidFill>
                  <a:srgbClr val="cc0000"/>
                </a:solidFill>
                <a:latin typeface="Bookman Old Style"/>
              </a:rPr>
              <a:t>QUELLE EST LA STRUCTURE DE CE MESSAGE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EXPÉDITEUR : Andr</a:t>
            </a:r>
            <a:r>
              <a:rPr b="0" lang="en-US" sz="1500" spc="-1" strike="noStrike">
                <a:solidFill>
                  <a:srgbClr val="006600"/>
                </a:solidFill>
                <a:latin typeface="Bookman Old Style"/>
              </a:rPr>
              <a:t>é</a:t>
            </a: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 MORIN, adjoint au directeu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DESTINATAIRE : Le personnel professionn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OBJET : Congés annu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le 16 février 200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NOTE DE SERVI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Je vous rappelle que les congés annuels doivent faire l’objet d’une planification à l’intérieur de chaque service, ainsi que d’une autorisation individuelle préalab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Vous pouvez vous reporter à votre convention collective et à la directive générale qui en traite, pour obtenir plus de détails sur les règles qui régissent les congé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Toute demande particulière doit être soumise au ou à la gestionnaire du service et recevoir ensuite l’approbation de la Direction des Ressources Humai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Merci de votre collaboration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André Mor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6600"/>
                </a:solidFill>
                <a:latin typeface="Broadway"/>
              </a:rPr>
              <a:t>CARACT</a:t>
            </a:r>
            <a:r>
              <a:rPr b="1" lang="en-US" sz="3800" spc="-1" strike="noStrike">
                <a:solidFill>
                  <a:srgbClr val="006600"/>
                </a:solidFill>
                <a:latin typeface="Broadway"/>
              </a:rPr>
              <a:t>É</a:t>
            </a:r>
            <a:r>
              <a:rPr b="1" lang="fr-FR" sz="3800" spc="-1" strike="noStrike">
                <a:solidFill>
                  <a:srgbClr val="006600"/>
                </a:solidFill>
                <a:latin typeface="Broadway"/>
              </a:rPr>
              <a:t>RISTIQ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compréhension aisé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niveau de langue employ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précision de l’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nature du destinata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modalités d’appl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erreurs susceptibles d’entraver le bon déroulement du proces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00"/>
                </a:solidFill>
                <a:latin typeface="Broadway"/>
              </a:rPr>
              <a:t>PR</a:t>
            </a:r>
            <a:r>
              <a:rPr b="0" lang="en-US" sz="3800" spc="-1" strike="noStrike">
                <a:solidFill>
                  <a:srgbClr val="006600"/>
                </a:solidFill>
                <a:latin typeface="Broadway"/>
              </a:rPr>
              <a:t>É</a:t>
            </a:r>
            <a:r>
              <a:rPr b="0" lang="fr-FR" sz="3800" spc="-1" strike="noStrike">
                <a:solidFill>
                  <a:srgbClr val="006600"/>
                </a:solidFill>
                <a:latin typeface="Broadway"/>
              </a:rPr>
              <a:t>S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Elle est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dactylographié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car cela facilite la lisibilité et marque un professionnalisme cert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Elle peut se faire sur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papier simpl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ou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à en-têt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. Elle peut utiliser un imprimé préalablement composé à cet eff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Il ne faut écrire qu’au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recto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; si le texte nécessite plusieurs feuillets, il convient de les numéroter soigneusement et d’agrafer toutes les feuilles composant la no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Le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format reste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libre (A3, A4 ou A5) mais il faut laisser une marge d’au moins 2 cm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Les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paragraphes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doivent être clairement </a:t>
            </a: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séparés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Bookman Old Style"/>
              </a:rPr>
              <a:t>La diffusion</a:t>
            </a:r>
            <a:r>
              <a:rPr b="0" lang="fr-FR" sz="2000" spc="-1" strike="noStrike">
                <a:solidFill>
                  <a:srgbClr val="006600"/>
                </a:solidFill>
                <a:latin typeface="Bookman Old Style"/>
              </a:rPr>
              <a:t> de la note peut être effectuée de diverses façons: par distribution individuelle, par affichage, par circulation dans les services avec émargement, par courri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00"/>
                </a:solidFill>
                <a:latin typeface="Broadway"/>
              </a:rPr>
              <a:t>CONSEILS DE R</a:t>
            </a:r>
            <a:r>
              <a:rPr b="1" lang="en-US" sz="4400" spc="-1" strike="noStrike">
                <a:solidFill>
                  <a:srgbClr val="006600"/>
                </a:solidFill>
                <a:latin typeface="Broadway"/>
              </a:rPr>
              <a:t>É</a:t>
            </a:r>
            <a:r>
              <a:rPr b="1" lang="fr-FR" sz="4400" spc="-1" strike="noStrike">
                <a:solidFill>
                  <a:srgbClr val="006600"/>
                </a:solidFill>
                <a:latin typeface="Broadway"/>
              </a:rPr>
              <a:t>DA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un seul sujet dans la n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éviter la syntaxe lourde et confu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utiliser un style impersonn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rédiger dans une langue compréhensible par tous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00"/>
                </a:solidFill>
                <a:latin typeface="Bookman Old Style"/>
              </a:rPr>
              <a:t>hiérarchiser rigoureusement les informations (titres, sous-titres, alinéas…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00"/>
                </a:solidFill>
                <a:latin typeface="Broadway"/>
              </a:rPr>
              <a:t>MENTIONS OBLIGATO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’émetteur ou destinateur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la source du message et la fonction de celui qui signe la not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a date et le lieu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en haut à droite de la première page, comme pour une lettre. Il est préférable de rappeler la date d’entrée en applicatio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e titre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la nature de la note (de service, d’information). Il est inscrit </a:t>
            </a: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au milieu de la ligne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, en lettres majuscules. Le titre est souvent accompagné d’un numéro d’enregistrement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e ou les destinataire(s)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Il convient de faire précéder les noms ou fonctions des formules suivantes, au choi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information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exécution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attribution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affichag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vérification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entretien verbal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« Pour classement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’objet 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: comme dans une lettre, après la mention « Objet »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e corps de la note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Le corps même de la note n’appelle aucun préambule. Seule compte l’efficacité maximale. On peut toutefois conseiller quelques formules pour entamer le premier paragraphe :       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« Il paraît indispensable de… »     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« J’attache de l’intérêt à… »     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« Je crois utile de… »     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6600"/>
                </a:solidFill>
                <a:latin typeface="Bookman Old Style"/>
              </a:rPr>
              <a:t>« Il est rappelé que… »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a signature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La note doit absolument être signé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Bookman Old Style"/>
              </a:rPr>
              <a:t>Les pièces jointes</a:t>
            </a:r>
            <a:r>
              <a:rPr b="0" lang="fr-FR" sz="1400" spc="-1" strike="noStrike">
                <a:solidFill>
                  <a:srgbClr val="006600"/>
                </a:solidFill>
                <a:latin typeface="Bookman Old Style"/>
              </a:rPr>
              <a:t> : Une mention « Pièces jointes » est portée sur la note si celle-ci est accompagnée de documents divers. Elle peut préciser le titre de ces documents ou leur nombre tot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ia</cp:lastModifiedBy>
  <dcterms:modified xsi:type="dcterms:W3CDTF">2009-12-15T11:53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