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F54-4A30-4CC7-A8D1-86E991AA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3AB-EEEF-426C-83EB-06F81D94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105-8B6C-4831-A325-BD1D890F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80B-C386-4C29-9D93-6E4EA79D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45F6-A0BA-4CA6-8AA3-DC945D7E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6324-261C-44F5-A9CD-B1CE2251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3FFD-62FA-4D54-8A3B-A35E4FE9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2931-F038-4803-8735-44C12602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1553-A49B-48AD-9689-FA33A503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1769-91EE-4567-B818-1BE14AA3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6E6B-EBAD-419F-AEAD-F99DBD5B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A79-0882-4E3B-8BEC-52943317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0428-D267-47BC-9E11-40AB1F07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C5FD-FB0D-43B9-97BC-297ADDC5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46A1-6DFC-4B8A-916C-D2B18F1C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9475-4EAC-417E-930B-910C9FBA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1CE0-02D0-4AD2-9504-70506EAB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A93-C853-4C16-BC7B-2A77ABCE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B59-3D10-48BD-BEE4-4F6DA526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9DE-032A-4C8E-9D08-9B561ABA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2A6-9641-4FEB-B315-F5FC456F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ABF-D752-430E-AE46-31C28BAF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E19-1F3B-4D65-B577-5643BA47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596-3C03-4FC0-89B0-BC9012BD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4EEF-BBE9-4B47-9697-2CC5BD07CD6E}" type="slidenum">
              <a:rPr b="0" lang="fr-FR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BF6D-1B50-4BD3-9D56-BAAB721EB138}" type="slidenum">
              <a:rPr b="0" lang="fr-FR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6544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Broadway"/>
                <a:ea typeface="Times New Roman (Arabic)"/>
              </a:rPr>
              <a:t>LES OBSTACLES </a:t>
            </a:r>
            <a:r>
              <a:rPr b="1" lang="en-US" sz="4400" spc="-1" strike="noStrike">
                <a:solidFill>
                  <a:srgbClr val="003366"/>
                </a:solidFill>
                <a:latin typeface="Broadway"/>
              </a:rPr>
              <a:t>À</a:t>
            </a:r>
            <a:r>
              <a:rPr b="1" lang="fr-FR" sz="4400" spc="-1" strike="noStrike">
                <a:solidFill>
                  <a:srgbClr val="003366"/>
                </a:solidFill>
                <a:latin typeface="Broadway"/>
                <a:ea typeface="Times New Roman (Arabic)"/>
              </a:rPr>
              <a:t> LA COMMUNI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771640" y="2666880"/>
            <a:ext cx="4392720" cy="2967120"/>
            <a:chOff x="2771640" y="2666880"/>
            <a:chExt cx="4392720" cy="296712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2771640" y="2666880"/>
              <a:ext cx="439272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 txBox="1"/>
            <p:nvPr/>
          </p:nvSpPr>
          <p:spPr>
            <a:xfrm>
              <a:off x="2771640" y="2666880"/>
              <a:ext cx="4392720" cy="296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lvl="1" marL="743040" indent="-285840">
                <a:spcBef>
                  <a:spcPts val="799"/>
                </a:spcBef>
                <a:buClr>
                  <a:srgbClr val="003366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2440" y="609120"/>
            <a:ext cx="87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3- </a:t>
            </a:r>
            <a:r>
              <a:rPr b="1" lang="fr-FR" sz="4400" spc="-1" strike="noStrike">
                <a:solidFill>
                  <a:srgbClr val="003366"/>
                </a:solidFill>
                <a:latin typeface="Broadway"/>
              </a:rPr>
              <a:t>LES OBSTACLES ORGANISATIONNE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95816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Times New Roman"/>
              </a:rPr>
              <a:t>Résultats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Times New Roman"/>
              </a:rPr>
              <a:t>Les personnes au bout de la « chaîne » ne reçoivent parfois que le « squelette » du message, car l’idée principale est sérieusement déformée en cours de rout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Times New Roman"/>
              </a:rPr>
              <a:t>Le codage et le décodage répétés du message peuvent changer ce dernier, en cours de route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2057400"/>
            <a:ext cx="8763120" cy="441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366"/>
                </a:solidFill>
                <a:latin typeface="Broadway"/>
              </a:rPr>
              <a:t>PRINCIPAUX OBSTACLES </a:t>
            </a:r>
            <a:r>
              <a:rPr b="1" lang="en-US" sz="4000" spc="-1" strike="noStrike">
                <a:solidFill>
                  <a:srgbClr val="003366"/>
                </a:solidFill>
                <a:latin typeface="Broadway"/>
              </a:rPr>
              <a:t>À</a:t>
            </a:r>
            <a:r>
              <a:rPr b="1" lang="fr-FR" sz="4000" spc="-1" strike="noStrike">
                <a:solidFill>
                  <a:srgbClr val="003366"/>
                </a:solidFill>
                <a:latin typeface="Broadway"/>
              </a:rPr>
              <a:t> LA COMMUNIC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38280" y="2057400"/>
            <a:ext cx="0" cy="4419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95680" y="2057400"/>
            <a:ext cx="0" cy="4419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2057400"/>
            <a:ext cx="0" cy="4419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2666880"/>
            <a:ext cx="8763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060640"/>
            <a:ext cx="21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Broadway"/>
              </a:rPr>
              <a:t>Obstacle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Broadway"/>
              </a:rPr>
              <a:t>personnel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56000" y="198900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Broadway"/>
              </a:rPr>
              <a:t>Obstacles psycho</a:t>
            </a:r>
            <a:r>
              <a:rPr b="0" lang="fr-FR" sz="1600" spc="-1" strike="noStrike">
                <a:solidFill>
                  <a:srgbClr val="003366"/>
                </a:solidFill>
                <a:latin typeface="Broadway"/>
              </a:rPr>
              <a:t>logiqu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2060640"/>
            <a:ext cx="154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Broadway"/>
              </a:rPr>
              <a:t>Obstacle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Broadway"/>
              </a:rPr>
              <a:t>soci</a:t>
            </a:r>
            <a:r>
              <a:rPr b="0" lang="fr-FR" sz="1600" spc="-1" strike="noStrike">
                <a:solidFill>
                  <a:srgbClr val="003366"/>
                </a:solidFill>
                <a:latin typeface="Broadway"/>
              </a:rPr>
              <a:t>aux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1989000"/>
            <a:ext cx="137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Broadway"/>
              </a:rPr>
              <a:t>Autre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Broadway"/>
              </a:rPr>
              <a:t>obstacles</a:t>
            </a:r>
            <a:r>
              <a:rPr b="1" lang="fr-FR" sz="1800" spc="-1" strike="noStrike">
                <a:solidFill>
                  <a:srgbClr val="003366"/>
                </a:solidFill>
                <a:latin typeface="Broadway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2852640"/>
            <a:ext cx="21366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Times New Roman"/>
              </a:rPr>
              <a:t>1- </a:t>
            </a: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agressivité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2- manque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sympathi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3- degré d’instruc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4- degré de compréhensio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5- négligenc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6- manque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temp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20720" y="2716200"/>
            <a:ext cx="141192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Times New Roman"/>
              </a:rPr>
              <a:t>1- </a:t>
            </a: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manqu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d’objectivité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2- mauvais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percep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3- attitu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négativ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4- peu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5- évalu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hâtiv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6-méfianc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7760" y="2763720"/>
            <a:ext cx="2056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1- sex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2- group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ethniqu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3- groupe socia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4- group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professionne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5- différenc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dans le statu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6-liberté d’express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57760" y="2846520"/>
            <a:ext cx="1927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1- géographiqu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2- insuffisanc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de suppor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de communic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3- taille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l’organis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4- incapacité 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- d’écrir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- de parl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- d’entendr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Broadway"/>
              </a:rPr>
              <a:t>LE FILTRAGE ET </a:t>
            </a:r>
            <a:br>
              <a:rPr sz="4400"/>
            </a:br>
            <a:r>
              <a:rPr b="1" lang="fr-FR" sz="4400" spc="-1" strike="noStrike">
                <a:solidFill>
                  <a:srgbClr val="003366"/>
                </a:solidFill>
                <a:latin typeface="Broadway"/>
              </a:rPr>
              <a:t>LA DISTOR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Times New Roman"/>
              </a:rPr>
              <a:t>Toute communication doit franchir une série d’écrans présents dans le processus de communica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Times New Roman"/>
              </a:rPr>
              <a:t>Ces écrans ont pour effet de filtrer le contenu du message original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Times New Roman"/>
              </a:rPr>
              <a:t>Ce filtrage conduit à la distorsion de l’idée ou de l’information original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Times New Roman"/>
              </a:rPr>
              <a:t>L’écran se manifeste à travers tous les obstacles que rencontre le message de son point de départ à celui de son arrivée.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sui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Times New Roman"/>
              </a:rPr>
              <a:t>Résultats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Times New Roman"/>
              </a:rPr>
              <a:t>L’individu sélectionne la partie de l’idée ou de l’information qui se trouve en accord avec 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Times New Roman"/>
              </a:rPr>
              <a:t>Son attitu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Times New Roman"/>
              </a:rPr>
              <a:t>Sa cultu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Times New Roman"/>
              </a:rPr>
              <a:t>Sa pensé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Times New Roman"/>
              </a:rPr>
              <a:t>Et ignore celle qui s’y oppos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366"/>
                </a:solidFill>
                <a:latin typeface="Broadway"/>
                <a:ea typeface="Times New Roman (Arabic)"/>
              </a:rPr>
              <a:t>SCH</a:t>
            </a:r>
            <a:r>
              <a:rPr b="1" lang="en-US" sz="4000" spc="-1" strike="noStrike">
                <a:solidFill>
                  <a:srgbClr val="003366"/>
                </a:solidFill>
                <a:latin typeface="Broadway"/>
                <a:ea typeface="Times New Roman (Arabic)"/>
              </a:rPr>
              <a:t>É</a:t>
            </a:r>
            <a:r>
              <a:rPr b="1" lang="fr-FR" sz="4000" spc="-1" strike="noStrike">
                <a:solidFill>
                  <a:srgbClr val="003366"/>
                </a:solidFill>
                <a:latin typeface="Broadway"/>
                <a:ea typeface="Times New Roman (Arabic)"/>
              </a:rPr>
              <a:t>MA DE LA DISTORSION DANS LA COMMUNIC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33720" y="3352680"/>
            <a:ext cx="1143000" cy="114300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2743200"/>
            <a:ext cx="2438640" cy="259092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1981080"/>
            <a:ext cx="3504960" cy="381024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2743200"/>
            <a:ext cx="0" cy="6858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4267080"/>
            <a:ext cx="762120" cy="3812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4038480"/>
            <a:ext cx="609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908000" y="2349360"/>
            <a:ext cx="144792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ndalus"/>
              </a:rPr>
              <a:t>filtrage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ndalus"/>
              <a:ea typeface="Andalus"/>
            </a:endParaRPr>
          </a:p>
        </p:txBody>
      </p:sp>
      <p:sp>
        <p:nvSpPr>
          <p:cNvPr id="337" name=""/>
          <p:cNvSpPr/>
          <p:nvPr/>
        </p:nvSpPr>
        <p:spPr>
          <a:xfrm>
            <a:off x="2362680" y="3352680"/>
            <a:ext cx="7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Times New Roman"/>
              </a:rPr>
              <a:t>Idé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3366"/>
                </a:solidFill>
                <a:latin typeface="Times New Roman"/>
              </a:rPr>
              <a:t>Ou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Times New Roman"/>
              </a:rPr>
              <a:t>inf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981080" y="4419720"/>
            <a:ext cx="1219320" cy="68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obs.psy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752480" y="2635200"/>
            <a:ext cx="990720" cy="12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ndalus"/>
              </a:rPr>
              <a:t>obs.sém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ndalus"/>
              <a:ea typeface="Andalus"/>
            </a:endParaRPr>
          </a:p>
        </p:txBody>
      </p:sp>
      <p:sp>
        <p:nvSpPr>
          <p:cNvPr id="340" name=""/>
          <p:cNvSpPr txBox="1"/>
          <p:nvPr/>
        </p:nvSpPr>
        <p:spPr>
          <a:xfrm rot="4072200">
            <a:off x="2875320" y="3448800"/>
            <a:ext cx="13096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obs.org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5867280"/>
            <a:ext cx="198108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Times New Roman"/>
              </a:rPr>
              <a:t>distors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6172200"/>
            <a:ext cx="6098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4572000"/>
            <a:ext cx="2286000" cy="2133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3320" y="522288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fr-FR" sz="2400" spc="-1" strike="noStrike">
                <a:solidFill>
                  <a:srgbClr val="003366"/>
                </a:solidFill>
                <a:latin typeface="Times New Roman"/>
              </a:rPr>
              <a:t>fina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45" name=""/>
          <p:cNvCxnSpPr/>
          <p:nvPr/>
        </p:nvCxnSpPr>
        <p:spPr>
          <a:xfrm flipH="1" rot="16200000">
            <a:off x="3161520" y="5371920"/>
            <a:ext cx="305280" cy="1143720"/>
          </a:xfrm>
          <a:prstGeom prst="bentConnector2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050920" y="609480"/>
            <a:ext cx="3961080" cy="2675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09640" y="3213000"/>
            <a:ext cx="795816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Times New Roman"/>
              </a:rPr>
              <a:t>Les trois catégories d’obstacles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Times New Roman"/>
              </a:rPr>
              <a:t>d’ordre individu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Times New Roman"/>
              </a:rPr>
              <a:t>d’ordre sémantiq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Times New Roman"/>
              </a:rPr>
              <a:t>d’ordre organisationn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imes New Roman"/>
                <a:ea typeface="Times New Roman (Arabic)"/>
              </a:rPr>
              <a:t>1- </a:t>
            </a:r>
            <a:r>
              <a:rPr b="1" lang="fr-FR" sz="4400" spc="-1" strike="noStrike">
                <a:solidFill>
                  <a:srgbClr val="003366"/>
                </a:solidFill>
                <a:latin typeface="Broadway"/>
              </a:rPr>
              <a:t>LES OBSTACLES D’ORDRE INDIVIDU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95816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imes New Roman"/>
              </a:rPr>
              <a:t>Ils influencent le plus la communication individuelle.</a:t>
            </a: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imes New Roman"/>
              </a:rPr>
              <a:t>En général il y a deux sortes d’obstacles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A- </a:t>
            </a:r>
            <a:r>
              <a:rPr b="1" lang="fr-FR" sz="4400" spc="-1" strike="noStrike">
                <a:solidFill>
                  <a:srgbClr val="003366"/>
                </a:solidFill>
                <a:latin typeface="Broadway"/>
              </a:rPr>
              <a:t>LA </a:t>
            </a:r>
            <a:r>
              <a:rPr b="1" lang="fr-FR" sz="4400" spc="-1" strike="noStrike">
                <a:solidFill>
                  <a:srgbClr val="003366"/>
                </a:solidFill>
                <a:latin typeface="Broadway"/>
                <a:ea typeface="Times New Roman (Arabic)"/>
              </a:rPr>
              <a:t>PERCEP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1988640"/>
            <a:ext cx="79581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Times New Roman"/>
              </a:rPr>
              <a:t>L’individu </a:t>
            </a:r>
            <a:r>
              <a:rPr b="0" lang="fr-FR" sz="2400" spc="-1" strike="noStrike" u="sng">
                <a:solidFill>
                  <a:srgbClr val="003366"/>
                </a:solidFill>
                <a:uFillTx/>
                <a:latin typeface="Times New Roman"/>
              </a:rPr>
              <a:t>ne désire entendre</a:t>
            </a:r>
            <a:r>
              <a:rPr b="0" lang="fr-FR" sz="2400" spc="-1" strike="noStrike">
                <a:solidFill>
                  <a:srgbClr val="003366"/>
                </a:solidFill>
                <a:latin typeface="Times New Roman"/>
              </a:rPr>
              <a:t> que ce qu’il veut savoi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Times New Roman"/>
              </a:rPr>
              <a:t>Si </a:t>
            </a:r>
            <a:r>
              <a:rPr b="0" lang="fr-FR" sz="2400" spc="-1" strike="noStrike" u="sng">
                <a:solidFill>
                  <a:srgbClr val="003366"/>
                </a:solidFill>
                <a:uFillTx/>
                <a:latin typeface="Times New Roman"/>
              </a:rPr>
              <a:t>l’information ne correspond pas à l’attente du récepteur</a:t>
            </a:r>
            <a:r>
              <a:rPr b="0" lang="fr-FR" sz="2400" spc="-1" strike="noStrike">
                <a:solidFill>
                  <a:srgbClr val="003366"/>
                </a:solidFill>
                <a:latin typeface="Times New Roman"/>
              </a:rPr>
              <a:t>, celui-ci a tendance à la rejeter.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3366"/>
                </a:solidFill>
                <a:uFillTx/>
                <a:latin typeface="Times New Roman"/>
              </a:rPr>
              <a:t>Le récepteur interprète</a:t>
            </a:r>
            <a:r>
              <a:rPr b="0" lang="fr-FR" sz="2400" spc="-1" strike="noStrike">
                <a:solidFill>
                  <a:srgbClr val="003366"/>
                </a:solidFill>
                <a:latin typeface="Times New Roman"/>
              </a:rPr>
              <a:t> souvent </a:t>
            </a:r>
            <a:r>
              <a:rPr b="0" lang="fr-FR" sz="2400" spc="-1" strike="noStrike" u="sng">
                <a:solidFill>
                  <a:srgbClr val="003366"/>
                </a:solidFill>
                <a:uFillTx/>
                <a:latin typeface="Times New Roman"/>
              </a:rPr>
              <a:t>l’information</a:t>
            </a:r>
            <a:r>
              <a:rPr b="0" lang="fr-FR" sz="2400" spc="-1" strike="noStrike">
                <a:solidFill>
                  <a:srgbClr val="003366"/>
                </a:solidFill>
                <a:latin typeface="Times New Roman"/>
              </a:rPr>
              <a:t> à partir de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Times New Roman"/>
              </a:rPr>
              <a:t>ses préjugé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Times New Roman"/>
              </a:rPr>
              <a:t>son expérienc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Times New Roman"/>
              </a:rPr>
              <a:t>sa form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Times New Roman"/>
              </a:rPr>
              <a:t>ou selon ce qu’il a cru voir, entendre et sentir</a:t>
            </a:r>
            <a:r>
              <a:rPr b="0" lang="fr-FR" sz="1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                    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B- </a:t>
            </a:r>
            <a:r>
              <a:rPr b="1" lang="fr-FR" sz="4400" spc="-1" strike="noStrike">
                <a:solidFill>
                  <a:srgbClr val="003366"/>
                </a:solidFill>
                <a:latin typeface="Broadway"/>
              </a:rPr>
              <a:t>LES ATTITU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imes New Roman"/>
              </a:rPr>
              <a:t>= sont définies comme une disposition à formuler certaines opinions à l’égard de quelqu’un ou de quelque cho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imes New Roman"/>
              </a:rPr>
              <a:t>Elles forment un ensemble de jugements et de tendances poussant l’individu à agir dans tel ou tel sens en situation de communication.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                      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1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Broadway"/>
              </a:rPr>
              <a:t>2-LES OBSTACLES D’ORDRE S</a:t>
            </a:r>
            <a:r>
              <a:rPr b="1" lang="en-US" sz="4400" spc="-1" strike="noStrike">
                <a:solidFill>
                  <a:srgbClr val="003366"/>
                </a:solidFill>
                <a:latin typeface="Broadway"/>
              </a:rPr>
              <a:t>É</a:t>
            </a:r>
            <a:r>
              <a:rPr b="1" lang="fr-FR" sz="4400" spc="-1" strike="noStrike">
                <a:solidFill>
                  <a:srgbClr val="003366"/>
                </a:solidFill>
                <a:latin typeface="Broadway"/>
              </a:rPr>
              <a:t>MANTIQU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Times New Roman"/>
              </a:rPr>
              <a:t>Ce sont des éléments </a:t>
            </a:r>
            <a:r>
              <a:rPr b="1" lang="fr-FR" sz="2800" spc="-1" strike="noStrike">
                <a:solidFill>
                  <a:srgbClr val="003366"/>
                </a:solidFill>
                <a:latin typeface="Times New Roman"/>
                <a:ea typeface="Times New Roman (Arabic)"/>
              </a:rPr>
              <a:t>liés au langage utilisé et qui peuvent agir négativement sur la compréhension du messag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Times New Roman"/>
              </a:rPr>
              <a:t>vocabulaire inadéquat 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Times New Roman"/>
              </a:rPr>
              <a:t>expression non appropriée ;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Times New Roman"/>
              </a:rPr>
              <a:t>manque de cohérence 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Times New Roman"/>
              </a:rPr>
              <a:t>phrases obscures, mal choisies ou vides de sens 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Times New Roman"/>
              </a:rPr>
              <a:t>ton élevé de la voix 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Times New Roman"/>
              </a:rPr>
              <a:t>mouvements du corp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2- </a:t>
            </a:r>
            <a:r>
              <a:rPr b="1" lang="fr-FR" sz="4400" spc="-1" strike="noStrike">
                <a:solidFill>
                  <a:srgbClr val="003366"/>
                </a:solidFill>
                <a:latin typeface="Broadway"/>
              </a:rPr>
              <a:t>LES OBSTACLES D’ORDRE S</a:t>
            </a:r>
            <a:r>
              <a:rPr b="1" lang="en-US" sz="4400" spc="-1" strike="noStrike">
                <a:solidFill>
                  <a:srgbClr val="003366"/>
                </a:solidFill>
                <a:latin typeface="Broadway"/>
              </a:rPr>
              <a:t>É</a:t>
            </a:r>
            <a:r>
              <a:rPr b="1" lang="fr-FR" sz="4400" spc="-1" strike="noStrike">
                <a:solidFill>
                  <a:srgbClr val="003366"/>
                </a:solidFill>
                <a:latin typeface="Broadway"/>
              </a:rPr>
              <a:t>MANTIQU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3047760"/>
            <a:ext cx="795816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Times New Roman"/>
              </a:rPr>
              <a:t>En plus on peut y ajouter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Times New Roman"/>
              </a:rPr>
              <a:t>les différences de niveaux d’instruction entre l’émetteur et le récepteur 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Times New Roman"/>
              </a:rPr>
              <a:t>la signification que chaque individu donne aux mots et aux imag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Broadway"/>
              </a:rPr>
              <a:t>Une communication effic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83055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Times New Roman"/>
              </a:rPr>
              <a:t>Exige </a:t>
            </a:r>
            <a:r>
              <a:rPr b="0" lang="fr-FR" sz="2800" spc="-1" strike="noStrike" u="sng">
                <a:solidFill>
                  <a:srgbClr val="003366"/>
                </a:solidFill>
                <a:uFillTx/>
                <a:latin typeface="Times New Roman"/>
              </a:rPr>
              <a:t>l’adaptation du langage</a:t>
            </a:r>
            <a:r>
              <a:rPr b="0" lang="fr-FR" sz="2800" spc="-1" strike="noStrike">
                <a:solidFill>
                  <a:srgbClr val="003366"/>
                </a:solidFill>
                <a:latin typeface="Times New Roman"/>
              </a:rPr>
              <a:t> utilisé à la capacité de compréhension du récepteur 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Times New Roman"/>
              </a:rPr>
              <a:t>La communication doit se faire dans le langage du récepteur ou selon </a:t>
            </a:r>
            <a:r>
              <a:rPr b="0" lang="fr-FR" sz="2800" spc="-1" strike="noStrike" u="sng">
                <a:solidFill>
                  <a:srgbClr val="003366"/>
                </a:solidFill>
                <a:uFillTx/>
                <a:latin typeface="Times New Roman"/>
              </a:rPr>
              <a:t>ses</a:t>
            </a:r>
            <a:r>
              <a:rPr b="0" lang="fr-FR" sz="2800" spc="-1" strike="noStrike">
                <a:solidFill>
                  <a:srgbClr val="003366"/>
                </a:solidFill>
                <a:latin typeface="Times New Roman"/>
              </a:rPr>
              <a:t> conditions pour que le message soit compr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0840" y="6091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imes New Roman"/>
                <a:ea typeface="Times New Roman (Arabic)"/>
              </a:rPr>
              <a:t>3- </a:t>
            </a:r>
            <a:r>
              <a:rPr b="1" lang="fr-FR" sz="4400" spc="-1" strike="noStrike">
                <a:solidFill>
                  <a:srgbClr val="003366"/>
                </a:solidFill>
                <a:latin typeface="Broadway"/>
                <a:ea typeface="Times New Roman (Arabic)"/>
              </a:rPr>
              <a:t>LES OBSTACLES ORGANISATIONNE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9581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Times New Roman"/>
              </a:rPr>
              <a:t>La circulation des messages dans une organisation s’avère difficile surtout quand elle se heurte à la déformation de l’idée ou de l’information original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Times New Roman"/>
              </a:rPr>
              <a:t>Dans ce cas, le message franchit plusieurs étapes avant de parvenir au destinatair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À</a:t>
            </a:r>
            <a:r>
              <a:rPr b="1" lang="fr-FR" sz="2800" spc="-1" strike="noStrike">
                <a:solidFill>
                  <a:srgbClr val="003366"/>
                </a:solidFill>
                <a:latin typeface="Times New Roman"/>
              </a:rPr>
              <a:t> chacune de ces étapes, le message subit une modification plus ou moins importante.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ia</cp:lastModifiedBy>
  <dcterms:modified xsi:type="dcterms:W3CDTF">2009-12-15T11:13:08Z</dcterms:modified>
  <cp:revision>23</cp:revision>
  <dc:subject/>
  <dc:title>INTRODUCTION</dc:title>
</cp:coreProperties>
</file>