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Micheal%20Buble%20-%20Dream.wav" ContentType="audio/x-wav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E6B-B3BE-4A0C-A6D5-33A32A13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983-7D86-48A7-867E-AE0C564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BE6-1FA0-4034-AC98-4D6E0652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575-EEEB-4215-A751-B5D7617D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A63-9633-4EAE-9D23-0F6975C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97B-3999-41E4-8688-64C2506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5C8-4F9E-46E7-867B-96C919B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669-1733-4C2F-91CA-A729D8B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D7D-0907-4F1B-9EAB-05870236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7A1-1025-407C-ACA8-F3D512E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66E-833E-4C6B-8858-025AED2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BE8-7117-4590-8616-D2161FC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9E0D-2067-48F0-988A-4699BFA0AD8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icheal%20Buble%20-%20Dream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1341360"/>
            <a:ext cx="8136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Good 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  <p:sndAc>
      <p:stSnd>
        <p:snd r:embed="rId2" name="Micheal%20Buble%20-%20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325080" cy="7099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00160" y="-133200"/>
            <a:ext cx="9544320" cy="712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51080" y="0"/>
            <a:ext cx="464184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82520"/>
            <a:ext cx="9144000" cy="7223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52640" y="0"/>
            <a:ext cx="54244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325080" cy="6943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54280" y="0"/>
            <a:ext cx="5745240" cy="702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77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5877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B821-Deco"/>
              </a:rPr>
              <a:t>Sweet Dream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-12600"/>
            <a:ext cx="7993080" cy="694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9480" y="0"/>
            <a:ext cx="702288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937800" cy="720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88800"/>
            <a:ext cx="9396360" cy="6080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2:18:19Z</dcterms:created>
  <dc:creator>RNV03071</dc:creator>
  <dc:description/>
  <dc:language>en-US</dc:language>
  <cp:lastModifiedBy>Elaine Goodall</cp:lastModifiedBy>
  <dcterms:modified xsi:type="dcterms:W3CDTF">2014-01-04T00:52:42Z</dcterms:modified>
  <cp:revision>3</cp:revision>
  <dc:subject/>
  <dc:title>Slide 1</dc:title>
</cp:coreProperties>
</file>