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26-Pie%20Jesu%20-%20Sarah%20Brightma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073-B880-4C39-A5E5-089862A2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979-F3BD-4A03-9409-A170C80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487-8DDA-4329-BF64-3285D619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A93-7263-4764-8473-9F6A65D9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AC28F-499B-49EF-BD34-CC8D71F6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7D55A-EFC5-44C8-872A-1B50C07D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19C38-7307-4731-A8C6-4EB7454C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84534-BD8A-4A66-AE94-D1EA5168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D76CA-6BB5-4AD7-A31A-BEBDF1CE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B3ECB-CB7F-4573-9043-90CBBCBC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7274B-2D75-4785-9B66-C1C65D4A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8EA-0BCC-491D-9C91-ABA187ED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F620E-22FD-4A26-971D-EB18FFFD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0EC1B-C36E-41FD-8EF0-B413818D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6126A-974C-4FD3-B0CF-E6A84A2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5FC0D-51E6-4573-A9DA-D3970ED5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E4AC5-9FFD-4A68-90DA-CEC96BD8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6AF-C18A-4C8F-AFFB-8CA4BD25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1FD-82B5-446D-8596-6ABC0BDB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83A-E9DB-4915-B879-2FA530D0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C85-8E38-4BA3-8632-1EDFD623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64D-41C8-4E9F-8B8D-73110AE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537-DFE7-451F-8E9A-356B09D1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502-E885-48C0-845F-D1E44CA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3E92-14DB-412A-A978-2850E7EE211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6A6C-3C14-4F69-A0A4-7B915FB2BB6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26-Pie%20Jesu%20-%20Sarah%20Brightma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monducci@yahoo.com.br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76320" y="404640"/>
            <a:ext cx="52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OCÊ  NÃO ESTÁ SÓ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3200" y="1459080"/>
            <a:ext cx="375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s seres angélic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de o princípi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ssa criaçã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êm-se manifes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nos guiado de volta 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imeira premiss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ocê não está s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us Cuida de Voc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640" y="4740120"/>
            <a:ext cx="75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s cabe a nós abraçar essa idéia e atrair uma vida permeável 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rientação div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0120" y="5661000"/>
            <a:ext cx="76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redite que os anjos sejam capazes de representar uma gra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JUDA para nós em meio a um mundo de cri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94960" y="630864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gue o s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9640" y="1125360"/>
          <a:ext cx="446580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25360"/>
                    <a:ext cx="446580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0" y="210492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ze pela sua Paz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ze pela Paz do Plan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sualize toda a human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VENDO NA M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EITA HARMO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2960" y="779400"/>
            <a:ext cx="51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 você souber de alguém carente de Paz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viei este e-mai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vie aos amigos, às pessoas que você a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55840" y="2868480"/>
            <a:ext cx="363852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Esta mensagem foi canaliz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por Consolação Monducci k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Angelóloga, taróloga 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Pesquisadora Huna/Kahu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lang="pt-BR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monducci@yahoo.com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9040" y="28404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dos os conflitos se iniciam no interior de todos nó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 vez de nos amedrontar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do o tempo com tudo que nos cerc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demos abrir o coração e sentir as emoçõ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smo aquelas que não gostaríamos de confrontar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0320" y="2421000"/>
            <a:ext cx="619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dentificadas as crises interior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 próximo passo é BUSCAR AJUDA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7520" y="371484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aqui, agora, é um momento muito espec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ocê vai atrair para sua jornada a consciência 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sença do ARCANJO MIGU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7760" y="530064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o longo da história da humanidade a ajuda atribuí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o ARCANJO MIGUEL É SEMPRE INFALÍ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8000" y="1341360"/>
            <a:ext cx="46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STE É UM MOMENTO DE PAZ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0320" y="3933720"/>
            <a:ext cx="812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spire profundamente descontraindo o cor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isualize-se envolto em uma esfera de luz azu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lencie sua mente colocando toda a sua atenção no centro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u coração e declare esta oração em VOZ AL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46440" y="100332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5000" y="1508040"/>
            <a:ext cx="69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ixo lá fora todas as minhas preocup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evo neste instant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has vibrações de amor e paz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mais alta freqüência da energia cósm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5040" y="4076640"/>
            <a:ext cx="643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rguei Vossa luminosa espada na dir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 Luz e envolva-me na confianç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 quem eu s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87520" y="4762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98600" y="977760"/>
            <a:ext cx="65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correi-me quando eu estiver em dúv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bre o caminho a seg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stre-me por onde an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ente-me na direção da Lu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" y="335772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8880" y="3930480"/>
            <a:ext cx="781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aste de mim todas as vibrações negativ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iadas pela minha mente, e deixai-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viver na percepção dos sinais deix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la Vossa Prese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mita-me sentir a Vossa ajuda a cada mo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4440" y="6206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120" y="1197000"/>
            <a:ext cx="645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talai em minha consciência, e em m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ação, um dispositivo que me ale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ando me desviar do caminho da Pa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880" y="35002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3520" y="4005360"/>
            <a:ext cx="63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a Paz que desejo e mereç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ja repleta de movimentos de abertu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s questões que honrar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ha estada neste plan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87160" y="6206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480" y="1197000"/>
            <a:ext cx="73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a Paz que procuro se inic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ntro de mim mesmo, que eu convi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 meus familiares, amigos e estranh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 todas as crenças e sonh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mais perfeita harmonia e sintonia univers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4292640"/>
            <a:ext cx="43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0120" y="4941720"/>
            <a:ext cx="76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eu tenha consciência absoluta do verdad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ificado do estado de ser “pacífico”, e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 um instrumento inspirador de Pa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68200" y="406440"/>
            <a:ext cx="62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800" y="1484280"/>
            <a:ext cx="7154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ençoai meus pensamento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lavras e ações pa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stre-me, claramente, e sem dúvid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 lugar dentro de meu mund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 eu mais precise trabalhar a Pa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12120" y="549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17440" y="1052640"/>
            <a:ext cx="657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É MEU DESEJO SINCER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A PAZ QUE PROCURO E ENCONTR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ENDA-SE POR TODO O PLANETA TER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NA UNIÃO DOS POV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COMPREENSÃ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 PERDÃ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PACIÊNC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SOLIDARIEDADE,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HARMON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BITE UM ÚNICO PO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 PODER DO AMO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assim seja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3:53:28Z</dcterms:created>
  <dc:creator>orlei</dc:creator>
  <dc:description/>
  <dc:language>en-US</dc:language>
  <cp:lastModifiedBy>Roberta</cp:lastModifiedBy>
  <dcterms:modified xsi:type="dcterms:W3CDTF">2006-10-21T00:19:50Z</dcterms:modified>
  <cp:revision>11</cp:revision>
  <dc:subject/>
  <dc:title>Apresentação do PowerPoint</dc:title>
</cp:coreProperties>
</file>