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26-Pie%20Jesu%20-%20Sarah%20Brightman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2105-CD1A-4D25-AA38-9AC34762A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1F91-FD37-44E0-BEF1-173C47AE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FFC5-6068-4A49-8FA6-CCBE9E98E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719A-9254-4CFF-9AEB-343C17D7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23A20-2972-4BC6-9BE1-F8CC3D14B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6A41C-4576-4AA1-80D8-4651F983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EC090-664A-4F22-A18B-0EE15ADA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2256E-20C3-4797-BF8B-90B53AB7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66E77-F9B4-4C4F-815D-DB931DB5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8B14E-78F7-47FE-BF7A-1AFE277B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86FF3-597B-4792-B1A8-3FB89AFF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655F-8DB5-4525-995D-D1AC19B9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EA240-CD20-4FDA-90DB-5501EEA6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261FF-B4B0-4DEE-A1C0-03C709CE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9D699-8E9D-4FCC-BBC3-5C280B31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29C49-BF3A-4431-84BE-D54141810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25F66-279C-4061-814A-A7257D38C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B71E-E420-4E2D-A2D6-A4CFB948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330D-4665-43C3-978A-57DB16F6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B6E8-A4F6-40BF-83EB-A8C470D1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D54E-277C-4BCF-8639-A33B2A17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D1C9-E752-4837-A171-78285E1A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3D6F-0F06-4F1A-BAD2-42ED22DF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1385-5D45-4A9E-91FB-F437E5E7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C63C-F6C6-418B-B585-C84ACB6FFA91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716C-8999-48EE-AC9A-A2A50B4B57E7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audio" Target="../media/26-Pie%20Jesu%20-%20Sarah%20Brightman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cmonducci@yahoo.com.br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876320" y="404640"/>
            <a:ext cx="52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VOCÊ  NÃO ESTÁ SÓ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63200" y="1459080"/>
            <a:ext cx="3759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s seres angélico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sde o princípio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ossa criação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êm-se manifestad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 nos guiado de volta 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imeira premissa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ocê não está só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us Cuida de Você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46640" y="4740120"/>
            <a:ext cx="759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as cabe a nós abraçar essa idéia e atrair uma vida permeável à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rientação divin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80120" y="5661000"/>
            <a:ext cx="760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credite que os anjos sejam capazes de representar uma gra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JUDA para nós em meio a um mundo de cri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194960" y="6308640"/>
            <a:ext cx="14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igue o s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39640" y="1125360"/>
          <a:ext cx="4465800" cy="337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125360"/>
                    <a:ext cx="4465800" cy="33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6000" y="210492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ze pela sua Paz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ze pela Paz do Plane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isualize toda a humanida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IVENDO NA MA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RFEITA HARMON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12960" y="779400"/>
            <a:ext cx="518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 você souber de alguém carente de Paz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nviei este e-mai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nvie aos amigos, às pessoas que você am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55840" y="2868480"/>
            <a:ext cx="3638520" cy="36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Esta mensagem foi canaliz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por Consolação Monducci k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Angelóloga, taróloga 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Pesquisadora Huna/Kahun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E-mail: </a:t>
            </a:r>
            <a:r>
              <a:rPr b="0" lang="pt-BR" sz="1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cmonducci@yahoo.com.b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09040" y="284040"/>
            <a:ext cx="831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odos os conflitos se iniciam no interior de todos nó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m vez de nos amedrontarm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odo o tempo com tudo que nos cerc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odemos abrir o coração e sentir as emoçõ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esmo aquelas que não gostaríamos de confrontar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10320" y="2421000"/>
            <a:ext cx="619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dentificadas as crises interiore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 próximo passo é BUSCAR AJUDA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7520" y="3714840"/>
            <a:ext cx="760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 aqui, agora, é um momento muito especi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ocê vai atrair para sua jornada a consciência 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esença do ARCANJO MIGU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7760" y="5300640"/>
            <a:ext cx="847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o longo da história da humanidade a ajuda atribuíd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o ARCANJO MIGUEL É SEMPRE INFALÍV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908000" y="1341360"/>
            <a:ext cx="468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STE É UM MOMENTO DE PAZ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0320" y="3933720"/>
            <a:ext cx="8129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spire profundamente descontraindo o corp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Visualize-se envolto em uma esfera de luz azu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lencie sua mente colocando toda a sua atenção no centro d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u coração e declare esta oração em VOZ AL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46440" y="1003320"/>
            <a:ext cx="41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MADO ARCANJO MIGUEL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55000" y="1508040"/>
            <a:ext cx="69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ixo lá fora todas as minhas preocupaçõ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levo neste instant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inhas vibrações de amor e paz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a mais alta freqüência da energia cósm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75040" y="4076640"/>
            <a:ext cx="643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MADO ARCANJO MIGUE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rguei Vossa luminosa espada na dire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a Luz e envolva-me na confiança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r quem eu so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387520" y="47628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MADO ARCANJO MIGUE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98600" y="977760"/>
            <a:ext cx="65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ocorrei-me quando eu estiver em dúv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obre o caminho a segui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ostre-me por onde ando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iente-me na direção da Lu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8800" y="335772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MADO ARCANJO MIGUE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8880" y="3930480"/>
            <a:ext cx="7815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faste de mim todas as vibrações negativa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riadas pela minha mente, e deixai-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viver na percepção dos sinais deix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la Vossa Presenç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rmita-me sentir a Vossa ajuda a cada mom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74440" y="62064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MADO ARCANJO MIGUE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52120" y="1197000"/>
            <a:ext cx="645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talai em minha consciência, e em me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ração, um dispositivo que me ale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ando me desviar do caminho da Pa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1880" y="350028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MADO ARCANJO MIGUE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3520" y="4005360"/>
            <a:ext cx="636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e a Paz que desejo e mereço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ja repleta de movimentos de abertur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as questões que honrarã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inha estada neste plane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87160" y="62064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MADO ARCANJO MIGUE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5480" y="1197000"/>
            <a:ext cx="739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e a Paz que procuro se inici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ntro de mim mesmo, que eu conviv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m meus familiares, amigos e estranho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 todas as crenças e sonho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a mais perfeita harmonia e sintonia univers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4292640"/>
            <a:ext cx="43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MADO ARCANJO MIGUE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0120" y="4941720"/>
            <a:ext cx="768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e eu tenha consciência absoluta do verdadei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gnificado do estado de ser “pacífico”, e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r um instrumento inspirador de Pa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68200" y="406440"/>
            <a:ext cx="62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MADO ARCANJO MIGUEL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0800" y="1484280"/>
            <a:ext cx="7154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bençoai meus pensamento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alavras e ações pacífic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ostre-me, claramente, e sem dúvidas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 lugar dentro de meu mundo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que eu mais precise trabalhar a Paz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12120" y="54936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MADO ARCANJO MIGUEL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17440" y="1052640"/>
            <a:ext cx="6575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É MEU DESEJO SINCERO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E A PAZ QUE PROCURO E ENCONTRO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STENDA-SE POR TODO O PLANETA TER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E NA UNIÃO DOS POVO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A COMPREENSÃO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O PERDÃO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A PACIÊNCI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A SOLIDARIEDADE, 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A HARMONI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ABITE UM ÚNICO POD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 PODER DO AMOR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e assim seja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13:53:28Z</dcterms:created>
  <dc:creator>orlei</dc:creator>
  <dc:description/>
  <dc:language>en-US</dc:language>
  <cp:lastModifiedBy>Roberta</cp:lastModifiedBy>
  <dcterms:modified xsi:type="dcterms:W3CDTF">2006-10-21T00:19:50Z</dcterms:modified>
  <cp:revision>11</cp:revision>
  <dc:subject/>
  <dc:title>Apresentação do PowerPoint</dc:title>
</cp:coreProperties>
</file>