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851-A58B-4034-922D-E91780BB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770-8C6D-4CB1-BB87-412052C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0A7-EA96-4DBA-9D0E-700AD2BD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A46-ED6E-427E-BB63-B9671AE9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BAC-E39F-4AE5-9DAB-DE7A81D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400-F289-4B8B-9324-97288CB8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757-0763-4A94-84D1-A5966D49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284-48AF-4C0A-BC4F-3EA72327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05E-70AD-4365-9095-B3176CC3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7F0-0F3D-4FFD-8587-D258EA78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1C5-9E18-4CA4-8A20-C7F3804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050-D879-47F7-9D2C-F9164E6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CC7E-5796-48AC-AA8C-4D70A584C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Transi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“tool” for depicting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ral pa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P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 State Machine (more “classical” u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7960" y="17413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1817640"/>
            <a:ext cx="304920" cy="30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0960" y="1817640"/>
            <a:ext cx="304560" cy="30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3036960"/>
            <a:ext cx="304920" cy="304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3920" y="3036960"/>
            <a:ext cx="304920" cy="304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5160" y="18176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3112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34800" y="21225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34800" y="3417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21225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7960" y="21985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96920" y="2274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082520" y="2198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304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88880" y="1893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88880" y="3189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88880" y="2808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7440" y="2743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22400" y="2427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3960" y="2427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080" y="2427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2640" y="3657600"/>
            <a:ext cx="3439080" cy="228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“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Formal” Definition of 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= {A, S, T, I, Term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{0, 1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{s1, s2, s3, s4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= {(s1,0)-&gt; s2; (s1,1) -&gt; s4; -----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= 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= 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1219320"/>
            <a:ext cx="5029200" cy="462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seudo cod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for 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esign of 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d input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input string includes non - 0’s or 1’s, error msg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input string length is odd number, error msg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t state = s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ile (the string is non-emp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{   ele = first element from the string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lete the first element from the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1 &amp; ele = 0) then state = s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1 &amp; ele = 1) then state = s4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2 &amp; ele = 0) then state = s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2 &amp; ele = 1) then state = s3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3 &amp; ele = 0) then state = s4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3 &amp; ele = 1) then state = s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4 &amp; ele = 0) then state = s3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4 &amp; ele = 1) then state = s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f (state = s1) accept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se error msg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720" y="6324480"/>
            <a:ext cx="840888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is a string checker that accepts all strings that contain even number of 0’s and 1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560" y="1219320"/>
            <a:ext cx="31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tate Transition diagram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of 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UML’s “improvements” 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 State Transition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vent may be expressed with a st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vent-signature [guard] / action-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ate symbol may contain several compart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ocessing activities in the form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33"/>
                </a:solidFill>
                <a:uFillTx/>
                <a:latin typeface="Arial"/>
                <a:ea typeface="新細明體"/>
              </a:rPr>
              <a:t>Action-lab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/ </a:t>
            </a: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  <a:ea typeface="新細明體"/>
              </a:rPr>
              <a:t>Action-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  <a:ea typeface="新細明體"/>
              </a:rPr>
              <a:t>Action-labe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– specifies activities upon state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xi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– specifies activities upon state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– specifies activities to be performed after entry but before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Inclu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– names another state diagram to be used for “nested” state transition diagram for further refin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  <a:ea typeface="新細明體"/>
              </a:rPr>
              <a:t>Action-express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specifies the activities to be perform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stead of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, there may be a “stubbed” state which can be expanded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diagram may contain another state diagram (nested diagram) in its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M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State Transition Composite Dia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Exam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cruise control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- similar to page 401 of tex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4479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286000"/>
            <a:ext cx="4876920" cy="426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7524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00400" y="1676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2520" y="19051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onBtnc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19051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offBtnc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74320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8360" y="2438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3048120"/>
            <a:ext cx="25905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2767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560" y="302580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edal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35800" y="328788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try / spLock:= un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449568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472428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60020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44197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et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35080" y="4724280"/>
            <a:ext cx="196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try/ spLock 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urrent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/ lockState :=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360" y="38098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g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88620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ress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495680"/>
            <a:ext cx="213336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80060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560" y="44956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free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83000" y="4735440"/>
            <a:ext cx="1918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try / spLock 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/ lockState:=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xit / set offBtncli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638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867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05320" y="13712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143000"/>
            <a:ext cx="380880" cy="38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219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92880" y="2514600"/>
            <a:ext cx="2305080" cy="277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he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and termin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2. When entering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omposite diagram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he start state must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lear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3. How we exit th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omposite diagram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he freeSpeed stat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actually enter “off” st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1050800">
            <a:off x="2666880" y="4114080"/>
            <a:ext cx="1370160" cy="94932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600" h="21600">
                <a:moveTo>
                  <a:pt x="19547" y="4465"/>
                </a:moveTo>
                <a:arcTo wR="-10800" hR="-10800" stAng="-2154793" swAng="-7892403"/>
                <a:lnTo>
                  <a:pt x="21342" y="13146"/>
                </a:lnTo>
                <a:arcTo wR="10800" hR="10800" stAng="752803" swAng="7892403"/>
                <a:lnTo>
                  <a:pt x="-134" y="18719"/>
                </a:lnTo>
                <a:lnTo>
                  <a:pt x="469" y="14948"/>
                </a:lnTo>
                <a:lnTo>
                  <a:pt x="4240" y="155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7400" y="3733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0622600">
            <a:off x="5413320" y="3917520"/>
            <a:ext cx="990720" cy="76320"/>
          </a:xfrm>
          <a:prstGeom prst="leftArrow">
            <a:avLst>
              <a:gd name="adj1" fmla="val 50000"/>
              <a:gd name="adj2" fmla="val 3245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ome Deeper (Advanced) UML State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Concurren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 Composite State Dia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ontains two or more composite state diagrams that may be executed in parallel; state diagram is divided up into compartments by parallel doted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2666880"/>
            <a:ext cx="4038480" cy="342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3962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1080" y="2743200"/>
            <a:ext cx="292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Concurrent Composit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962520"/>
            <a:ext cx="3962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800600"/>
            <a:ext cx="3962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32767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767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41148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51055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41148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48769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54864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52680" y="5105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886200"/>
            <a:ext cx="7621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t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19112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429000"/>
            <a:ext cx="1371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1240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t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1400" y="3886200"/>
            <a:ext cx="3001680" cy="265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. Transition to a concurr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omposite state boundary w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nter initial states of all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oncurrent state dia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2. Or one can specify the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ates which will be enter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along with the one 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ar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3. similarly exits can be 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523880" y="3504960"/>
            <a:ext cx="83844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67080"/>
            <a:ext cx="76212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410080" y="3505320"/>
            <a:ext cx="762120" cy="2133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3429000"/>
            <a:ext cx="1143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01880" y="32004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vent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96252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vent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re Advanced UML State Transition Diagr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ith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Synchronization Mechan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447920"/>
            <a:ext cx="6400800" cy="21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752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4880" y="14479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ignalOperation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057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743200"/>
            <a:ext cx="64008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2362320"/>
            <a:ext cx="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3276720"/>
            <a:ext cx="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209680" y="2590920"/>
            <a:ext cx="3810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320" y="3505320"/>
            <a:ext cx="39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09680" y="2361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209680" y="3276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8954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2057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2057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2971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971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88760" y="1981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4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4720" y="281952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65640" y="327672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2362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3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46160" y="28954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9810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4038480"/>
            <a:ext cx="7086600" cy="281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44197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77560" y="40384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ynchronizedSignal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49528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5562720"/>
            <a:ext cx="70866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5105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066680" y="6400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4876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5715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4952880"/>
            <a:ext cx="0" cy="304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218960" y="4648320"/>
            <a:ext cx="4343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4648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294920" y="563832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57150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4495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9528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W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33720" y="62485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62485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NS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69640" y="487692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4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69840" y="56386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17880" y="61722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4419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3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55440" y="617220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1440" y="487692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fter 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552720" y="5029200"/>
            <a:ext cx="381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553080" y="518148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477120" y="464832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0" y="5410080"/>
            <a:ext cx="304920" cy="3049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343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15200" y="5638680"/>
            <a:ext cx="0" cy="304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315200" y="579132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095520" y="6400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047760" y="6400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5791320"/>
            <a:ext cx="0" cy="3045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4876920"/>
            <a:ext cx="0" cy="3045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37124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19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295280" y="5105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2200" y="4495680"/>
            <a:ext cx="99288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y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eg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20977200">
            <a:off x="7307280" y="53341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1080" y="3581280"/>
            <a:ext cx="99288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y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eg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01800">
            <a:off x="388440" y="5068800"/>
            <a:ext cx="838440" cy="76320"/>
          </a:xfrm>
          <a:prstGeom prst="rightArrow">
            <a:avLst>
              <a:gd name="adj1" fmla="val 50000"/>
              <a:gd name="adj2" fmla="val 2746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55880" y="1295280"/>
            <a:ext cx="17856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W= east-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=north-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ition Jun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amp; Compound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274320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_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52480" y="3124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2971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457200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327672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_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2057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_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56080" y="27432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_u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733920" y="2438280"/>
            <a:ext cx="1904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312408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33920" y="3200400"/>
            <a:ext cx="2057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0643000">
            <a:off x="3888720" y="2361600"/>
            <a:ext cx="12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=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17320" y="2971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=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404200">
            <a:off x="4183200" y="383364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=extre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Mechanism to set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Histo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1676520"/>
            <a:ext cx="3962160" cy="411480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114800"/>
              <a:gd name="textAreaBottom" fmla="*/ 3921480 h 4114800"/>
            </a:gdLst>
            <a:ahLst/>
            <a:rect l="textAreaLeft" t="textAreaTop" r="textAreaRight" b="textAreaBottom"/>
            <a:pathLst>
              <a:path w="21600" h="22432">
                <a:moveTo>
                  <a:pt x="3600" y="0"/>
                </a:moveTo>
                <a:arcTo wR="3600" hR="3600" stAng="16200000" swAng="-5400000"/>
                <a:lnTo>
                  <a:pt x="0" y="18832"/>
                </a:lnTo>
                <a:arcTo wR="3600" hR="3600" stAng="10800000" swAng="-5400000"/>
                <a:lnTo>
                  <a:pt x="18000" y="224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2362320"/>
            <a:ext cx="39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1320" y="196524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Radi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5105520"/>
            <a:ext cx="11430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9040" y="51814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548640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00560" y="51814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ur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5943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62485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143000" y="5715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60199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turn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3048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38098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4648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5181480"/>
            <a:ext cx="609480" cy="533520"/>
          </a:xfrm>
          <a:prstGeom prst="ellipse">
            <a:avLst/>
          </a:prstGeom>
          <a:solidFill>
            <a:srgbClr val="3366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34340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reset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358128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reset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274320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reset 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7240" y="274320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et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7960" y="434340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et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67600" y="3505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et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39625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43960" y="2514600"/>
            <a:ext cx="2294640" cy="255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The history of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t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remembered”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the radio is tur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n after it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turn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History state, H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re-enter the state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was last 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981080"/>
            <a:ext cx="899172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ad at least one example from the text on your own.</a:t>
            </a:r>
            <a:br>
              <a:rPr sz="24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Especially the Dialog Map and UI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ate Transi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te transition diagram is a technique to depi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n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itions of 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igger or the event that caused the trans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tate of th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nt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be a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physical dev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ch as a light switch or a vending machine; it may be a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system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  <a:ea typeface="新細明體"/>
              </a:rPr>
              <a:t> or 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as a word processor or an operating system; it may be a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biological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ch as a cell or a human; or  - - -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3000" y="5791320"/>
            <a:ext cx="8818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odeling technique came from a more formal area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omata the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ransition diagram depicted 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inite State Mach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Program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product of a software is a program which executes. In depicting the program (or an object) we can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Variabl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take on differ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ontrol structure and assignment stat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event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program that change the values of the variables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;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bu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“little”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 is said about how the control structure or the statement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42720" y="4876920"/>
            <a:ext cx="978552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bination of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alues of the data (variables &amp; constants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t any poi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program represent th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rogram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ta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Th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hange made to the values of the variabl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hrough assign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resent a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ransition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ery simple example </a:t>
            </a:r>
            <a:br>
              <a:rPr sz="2400"/>
            </a:br>
            <a:r>
              <a:rPr b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light 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68 of your tex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3124440" cy="205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762120" cy="228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981080"/>
            <a:ext cx="9144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981080"/>
            <a:ext cx="9144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209680"/>
            <a:ext cx="0" cy="137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209680"/>
            <a:ext cx="0" cy="137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6040" y="22096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l_st=o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0" cy="13716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666880"/>
            <a:ext cx="1371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6400" y="281952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l_st=of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352680"/>
            <a:ext cx="1371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2400" y="24382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nOff (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360" y="3124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nOn (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981080"/>
            <a:ext cx="26668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16765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9600" y="1371600"/>
            <a:ext cx="60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0033"/>
                </a:solidFill>
                <a:uFillTx/>
                <a:latin typeface="Arial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(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6160" y="1371600"/>
            <a:ext cx="60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0033"/>
                </a:solidFill>
                <a:uFillTx/>
                <a:latin typeface="Arial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(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7680" y="152388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wit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41960" y="2144880"/>
            <a:ext cx="25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              turnOff       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743200"/>
            <a:ext cx="25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               turnOn       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657600"/>
            <a:ext cx="4267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“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equence diagra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(alternative fragment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witc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3440" y="3429000"/>
            <a:ext cx="2925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tate transition tab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ght with switch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029200"/>
            <a:ext cx="83808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029200"/>
            <a:ext cx="83808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800600"/>
            <a:ext cx="1371600" cy="457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" y="11764"/>
                </a:moveTo>
                <a:arcTo wR="-10790" hR="-10790" stAng="10492459" swAng="-10548529"/>
                <a:lnTo>
                  <a:pt x="1" y="10976"/>
                </a:lnTo>
                <a:arcTo wR="10800" hR="10800" stAng="10743929" swAng="10548529"/>
                <a:lnTo>
                  <a:pt x="24246" y="9594"/>
                </a:lnTo>
                <a:lnTo>
                  <a:pt x="21793" y="12530"/>
                </a:lnTo>
                <a:lnTo>
                  <a:pt x="18858" y="1007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1116200">
            <a:off x="4411440" y="5183280"/>
            <a:ext cx="1369800" cy="83160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1795267"/>
                <a:lnTo>
                  <a:pt x="666" y="14533"/>
                </a:lnTo>
                <a:arcTo wR="10800" hR="10800" stAng="9586643" swAng="1179526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5720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640" y="5715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3800" y="6019920"/>
            <a:ext cx="3280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“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tate transition diagra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ght with switch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little “more” on the light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514600"/>
            <a:ext cx="83844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286000"/>
            <a:ext cx="1371600" cy="457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" y="11764"/>
                </a:moveTo>
                <a:arcTo wR="-10790" hR="-10790" stAng="10492459" swAng="-10548529"/>
                <a:lnTo>
                  <a:pt x="1" y="10976"/>
                </a:lnTo>
                <a:arcTo wR="10800" hR="10800" stAng="10743929" swAng="10548529"/>
                <a:lnTo>
                  <a:pt x="24246" y="9594"/>
                </a:lnTo>
                <a:lnTo>
                  <a:pt x="21793" y="12530"/>
                </a:lnTo>
                <a:lnTo>
                  <a:pt x="18858" y="100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116200">
            <a:off x="1592280" y="2668680"/>
            <a:ext cx="1370160" cy="8316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1795267"/>
                <a:lnTo>
                  <a:pt x="666" y="14533"/>
                </a:lnTo>
                <a:arcTo wR="10800" hR="10800" stAng="9586643" swAng="1179526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480" y="32004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514600"/>
            <a:ext cx="83808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2666880"/>
            <a:ext cx="83844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2438280"/>
            <a:ext cx="1371600" cy="457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" y="11764"/>
                </a:moveTo>
                <a:arcTo wR="-10790" hR="-10790" stAng="10492459" swAng="-10548529"/>
                <a:lnTo>
                  <a:pt x="1" y="10976"/>
                </a:lnTo>
                <a:arcTo wR="10800" hR="10800" stAng="10743929" swAng="10548529"/>
                <a:lnTo>
                  <a:pt x="24246" y="9594"/>
                </a:lnTo>
                <a:lnTo>
                  <a:pt x="21793" y="12530"/>
                </a:lnTo>
                <a:lnTo>
                  <a:pt x="18858" y="100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116200">
            <a:off x="6392880" y="2820600"/>
            <a:ext cx="1370160" cy="83196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1795267"/>
                <a:lnTo>
                  <a:pt x="666" y="14533"/>
                </a:lnTo>
                <a:arcTo wR="10800" hR="10800" stAng="9586643" swAng="1179526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2096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6080" y="33526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666880"/>
            <a:ext cx="838080" cy="45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720" y="4114800"/>
            <a:ext cx="31708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if we turn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ght that is already 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4340000">
            <a:off x="5579280" y="2649960"/>
            <a:ext cx="455400" cy="762120"/>
          </a:xfrm>
          <a:custGeom>
            <a:avLst/>
            <a:gdLst>
              <a:gd name="textAreaLeft" fmla="*/ 0 w 455400"/>
              <a:gd name="textAreaRight" fmla="*/ 455760 w 455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2191147"/>
                <a:lnTo>
                  <a:pt x="1162" y="15673"/>
                </a:lnTo>
                <a:arcTo wR="10800" hR="10800" stAng="9190763" swAng="1219114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840" y="3276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630000">
            <a:off x="8001360" y="2361240"/>
            <a:ext cx="455760" cy="761760"/>
          </a:xfrm>
          <a:custGeom>
            <a:avLst/>
            <a:gdLst>
              <a:gd name="textAreaLeft" fmla="*/ 0 w 455760"/>
              <a:gd name="textAreaRight" fmla="*/ 456120 w 4557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2191147"/>
                <a:lnTo>
                  <a:pt x="1162" y="15673"/>
                </a:lnTo>
                <a:arcTo wR="10800" hR="10800" stAng="9190763" swAng="1219114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22096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1160" y="4267080"/>
            <a:ext cx="31158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can “transition” to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362320"/>
            <a:ext cx="976320" cy="2133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Using State Transi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 the entity </a:t>
            </a:r>
            <a:r>
              <a:rPr b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at the “abstraction” leve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where the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umber of states i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manageable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(design) the </a:t>
            </a:r>
            <a:r>
              <a:rPr b="1" i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state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not be 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ist </a:t>
            </a:r>
            <a:r>
              <a:rPr b="1" i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event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will trigger the state trans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not be b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must be a </a:t>
            </a:r>
            <a:r>
              <a:rPr b="1" i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start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must be a </a:t>
            </a:r>
            <a:r>
              <a:rPr b="1" i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terminating state o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Design the </a:t>
            </a:r>
            <a:r>
              <a:rPr b="1" i="1" lang="en-US" sz="2000" spc="-1" strike="noStrike" u="sng">
                <a:solidFill>
                  <a:srgbClr val="006600"/>
                </a:solidFill>
                <a:uFillTx/>
                <a:latin typeface="Arial"/>
                <a:ea typeface="新細明體"/>
              </a:rPr>
              <a:t>transition r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(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  <a:ea typeface="新細明體"/>
              </a:rPr>
              <a:t>the bulk of your design work is thinking through the transition rule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960" y="5334120"/>
            <a:ext cx="853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.The above is not necessarily performed in sequence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iterate through the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with a modest number of states and events,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agram, which really depicts the transition r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an be enorm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666880"/>
            <a:ext cx="206280" cy="785880"/>
          </a:xfrm>
          <a:custGeom>
            <a:avLst/>
            <a:gdLst/>
            <a:ahLst/>
            <a:rect l="l" t="t" r="r" b="b"/>
            <a:pathLst>
              <a:path w="130" h="495">
                <a:moveTo>
                  <a:pt x="127" y="13"/>
                </a:moveTo>
                <a:cubicBezTo>
                  <a:pt x="113" y="10"/>
                  <a:pt x="99" y="0"/>
                  <a:pt x="85" y="4"/>
                </a:cubicBezTo>
                <a:cubicBezTo>
                  <a:pt x="75" y="7"/>
                  <a:pt x="75" y="23"/>
                  <a:pt x="68" y="30"/>
                </a:cubicBezTo>
                <a:cubicBezTo>
                  <a:pt x="61" y="37"/>
                  <a:pt x="51" y="41"/>
                  <a:pt x="43" y="47"/>
                </a:cubicBezTo>
                <a:cubicBezTo>
                  <a:pt x="32" y="112"/>
                  <a:pt x="69" y="218"/>
                  <a:pt x="0" y="242"/>
                </a:cubicBezTo>
                <a:cubicBezTo>
                  <a:pt x="19" y="270"/>
                  <a:pt x="41" y="277"/>
                  <a:pt x="51" y="309"/>
                </a:cubicBezTo>
                <a:cubicBezTo>
                  <a:pt x="54" y="357"/>
                  <a:pt x="55" y="405"/>
                  <a:pt x="60" y="453"/>
                </a:cubicBezTo>
                <a:cubicBezTo>
                  <a:pt x="61" y="462"/>
                  <a:pt x="59" y="477"/>
                  <a:pt x="68" y="479"/>
                </a:cubicBezTo>
                <a:cubicBezTo>
                  <a:pt x="130" y="495"/>
                  <a:pt x="127" y="487"/>
                  <a:pt x="127" y="46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343400"/>
            <a:ext cx="152640" cy="152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1760" y="3052800"/>
            <a:ext cx="458640" cy="1311120"/>
          </a:xfrm>
          <a:custGeom>
            <a:avLst/>
            <a:gdLst/>
            <a:ahLst/>
            <a:rect l="l" t="t" r="r" b="b"/>
            <a:pathLst>
              <a:path w="289" h="826">
                <a:moveTo>
                  <a:pt x="171" y="0"/>
                </a:moveTo>
                <a:cubicBezTo>
                  <a:pt x="134" y="11"/>
                  <a:pt x="78" y="45"/>
                  <a:pt x="43" y="68"/>
                </a:cubicBezTo>
                <a:cubicBezTo>
                  <a:pt x="27" y="93"/>
                  <a:pt x="19" y="115"/>
                  <a:pt x="10" y="144"/>
                </a:cubicBezTo>
                <a:cubicBezTo>
                  <a:pt x="18" y="260"/>
                  <a:pt x="0" y="400"/>
                  <a:pt x="35" y="508"/>
                </a:cubicBezTo>
                <a:cubicBezTo>
                  <a:pt x="41" y="561"/>
                  <a:pt x="51" y="669"/>
                  <a:pt x="94" y="711"/>
                </a:cubicBezTo>
                <a:cubicBezTo>
                  <a:pt x="106" y="723"/>
                  <a:pt x="141" y="739"/>
                  <a:pt x="154" y="745"/>
                </a:cubicBezTo>
                <a:cubicBezTo>
                  <a:pt x="162" y="754"/>
                  <a:pt x="169" y="764"/>
                  <a:pt x="179" y="771"/>
                </a:cubicBezTo>
                <a:cubicBezTo>
                  <a:pt x="186" y="776"/>
                  <a:pt x="197" y="773"/>
                  <a:pt x="204" y="779"/>
                </a:cubicBezTo>
                <a:cubicBezTo>
                  <a:pt x="212" y="786"/>
                  <a:pt x="213" y="798"/>
                  <a:pt x="221" y="805"/>
                </a:cubicBezTo>
                <a:cubicBezTo>
                  <a:pt x="246" y="826"/>
                  <a:pt x="260" y="821"/>
                  <a:pt x="289" y="821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Vo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cor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imilar to example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ge 397 of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entity, voice recorder,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design the st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is ent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states does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omewh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ed on requiremen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 voice recorder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t of recorder stat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ff, on, play, record, erase, stop, error-ms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initial and terminating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itial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rminating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List the 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will change the state of the ent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events that will change the recorder’s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660033"/>
                </a:solidFill>
                <a:uFillTx/>
                <a:latin typeface="Arial"/>
              </a:rPr>
              <a:t>Input signal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, 2, 3, 4, 5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 which correspon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ff, on, play, record, erase, st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5680" y="3505320"/>
            <a:ext cx="19134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no “rewi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212200">
            <a:off x="7238880" y="3200040"/>
            <a:ext cx="4860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the Voice Recor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xample form page 397 of text) –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Design the transition r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voice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438280"/>
            <a:ext cx="3886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096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2096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23640" y="213372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8760" y="21337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5360" y="21337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8000" y="236232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                         2                               on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8000" y="289548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                        1                               of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640" y="3200400"/>
            <a:ext cx="37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                        3                               pla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2400" y="472428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ase                      6                               stop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9080" y="3505320"/>
            <a:ext cx="386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                        4                              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8720" y="3809880"/>
            <a:ext cx="37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                        5                               e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9800" y="411480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                      6                              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4920" y="4419720"/>
            <a:ext cx="377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                    6                              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2040" y="5029200"/>
            <a:ext cx="38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p                        3                               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334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p                        4                              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6386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p                        5                               e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2040" y="5943600"/>
            <a:ext cx="37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p                        1                                o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3048120"/>
            <a:ext cx="3581280" cy="185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ore transition ru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y state transition not describ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e will transition to </a:t>
            </a:r>
            <a:r>
              <a:rPr b="1" lang="en-US" sz="1400" spc="-1" strike="noStrike" u="sng">
                <a:solidFill>
                  <a:srgbClr val="660033"/>
                </a:solidFill>
                <a:uFillTx/>
                <a:latin typeface="Arial"/>
              </a:rPr>
              <a:t>error-ms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once i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rror-msg st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isplays a message”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ally </a:t>
            </a:r>
            <a:r>
              <a:rPr b="1" lang="en-US" sz="1400" spc="-1" strike="noStrike" u="sng">
                <a:solidFill>
                  <a:srgbClr val="660033"/>
                </a:solidFill>
                <a:uFillTx/>
                <a:latin typeface="Arial"/>
              </a:rPr>
              <a:t>transitions to stop st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259092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                         1                               of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400800"/>
            <a:ext cx="5486400" cy="28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1=off, 2=on, 3=play, 4=record, 5=erase, 6=stop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tate Transition Diagram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oice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9051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051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38098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828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23623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Error-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362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076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133720" y="1981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5680" y="175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5549000">
            <a:off x="914760" y="1904400"/>
            <a:ext cx="455760" cy="761760"/>
          </a:xfrm>
          <a:custGeom>
            <a:avLst/>
            <a:gdLst>
              <a:gd name="textAreaLeft" fmla="*/ 0 w 455760"/>
              <a:gd name="textAreaRight" fmla="*/ 456120 w 4557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22" y="11485"/>
                </a:moveTo>
                <a:arcTo wR="-10800" hR="-10800" stAng="10581910" swAng="-12191147"/>
                <a:lnTo>
                  <a:pt x="1162" y="15673"/>
                </a:lnTo>
                <a:arcTo wR="10800" hR="10800" stAng="9190763" swAng="12191147"/>
                <a:lnTo>
                  <a:pt x="24273" y="9944"/>
                </a:lnTo>
                <a:lnTo>
                  <a:pt x="21749" y="12810"/>
                </a:lnTo>
                <a:lnTo>
                  <a:pt x="18884" y="102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60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71240" y="2438280"/>
            <a:ext cx="15238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2666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438280"/>
            <a:ext cx="15264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438280"/>
            <a:ext cx="167652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438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33720" y="2362320"/>
            <a:ext cx="289548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86200" y="2438280"/>
            <a:ext cx="152388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2438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340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3800" y="419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728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3720" y="2209680"/>
            <a:ext cx="2743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209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505320" y="2438280"/>
            <a:ext cx="167616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43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791320" y="2057040"/>
            <a:ext cx="1295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9810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[always tru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828800" y="1600200"/>
            <a:ext cx="3276720" cy="457200"/>
          </a:xfrm>
          <a:custGeom>
            <a:avLst/>
            <a:gdLst>
              <a:gd name="textAreaLeft" fmla="*/ 360 w 3276720"/>
              <a:gd name="textAreaRight" fmla="*/ 3277440 w 3276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9" y="14199"/>
                </a:moveTo>
                <a:arcTo wR="-10800" hR="-10800" stAng="9699435" swAng="-9522190"/>
                <a:lnTo>
                  <a:pt x="14" y="10243"/>
                </a:lnTo>
                <a:arcTo wR="10800" hR="10800" stAng="-10622756" swAng="9522190"/>
                <a:lnTo>
                  <a:pt x="23614" y="6552"/>
                </a:lnTo>
                <a:lnTo>
                  <a:pt x="21901" y="9964"/>
                </a:lnTo>
                <a:lnTo>
                  <a:pt x="18488" y="82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0800" y="1371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10080" y="2438280"/>
            <a:ext cx="7632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8195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1200" y="5330880"/>
            <a:ext cx="7424640" cy="1523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Couple things to no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1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All non-specified events for all the states go to “Error-msg” state - - -  is that o.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What happens when a signal of 6 comes in when in state “ON” - - - error messa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3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How do you specify “display error message” in Error-msg state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4. How do you specify “Starting” and “Terminating” state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981080"/>
            <a:ext cx="685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066680"/>
            <a:ext cx="5486400" cy="28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1=off, 2=on, 3=play, 4=record, 5=erase, 6=stop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8:50:40Z</dcterms:created>
  <dc:creator>Frank tsui</dc:creator>
  <dc:description/>
  <dc:language>en-US</dc:language>
  <cp:lastModifiedBy>Aurko-Aurni</cp:lastModifiedBy>
  <dcterms:modified xsi:type="dcterms:W3CDTF">2013-11-21T16:46:01Z</dcterms:modified>
  <cp:revision>27</cp:revision>
  <dc:subject/>
  <dc:title>Slide 1</dc:title>
</cp:coreProperties>
</file>