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DE40-5853-4F3E-B256-A6B6C44F4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9CCF-157A-4D10-9B02-8223BE4D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3B80-E8A4-45C1-BB88-EFFC512E3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93C2-0337-4948-BBA0-69063B014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6577-3D20-4DB4-9179-9D312F3A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8114-C53A-439F-A36D-DB827611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E6D4-D19F-4D38-A663-366BD59C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25B1-1499-4C78-B8EA-A047E6C0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4500-8B6D-43A0-BDDA-4FD43947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A152-2AC6-4FC3-9716-5F6171E8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0B7A-ADCC-4A05-A05C-7288F880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7942-6AD5-407D-9C17-2A489D13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13FE9D-1685-4402-9B48-9F61658612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11000"/>
            <a:ext cx="7772400" cy="31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A STUDY ON THE EFFECTVE NUMBER OF LIBRARIAN IN SOLAIR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 and 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247680" y="2063880"/>
            <a:ext cx="8659800" cy="38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 and 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l Comput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1217520" y="2435400"/>
            <a:ext cx="7284960" cy="30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 and Recommend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Librarian is enoug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1 Assistant is needed during exam / finals season since students registering at the library increases compared to ordinary d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istant will be responsible mainly on technical servi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brarian is described as the one responsible for providing library and research services for the organization and maintenance of the library and its collec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AIR Library is managed by Ms. Zenaida Salas and student assist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conduct job evaluation through time and motion study to determine the effective number of librarian in SOL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hod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ol used: Time and Motion Stu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servations ma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 hrs duty of librarian from Mon ~ Sat (1 week observ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justed time to compensate 9-hour working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hod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b Description was determin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tegorized work eleme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rcRect l="0" t="0" r="28821" b="10818"/>
          <a:stretch/>
        </p:blipFill>
        <p:spPr>
          <a:xfrm>
            <a:off x="623880" y="3014640"/>
            <a:ext cx="823896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hod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ulas us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rcRect l="0" t="0" r="29113" b="12012"/>
          <a:stretch/>
        </p:blipFill>
        <p:spPr>
          <a:xfrm>
            <a:off x="380880" y="2197080"/>
            <a:ext cx="838044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hod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ulas us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rcRect l="0" t="0" r="29113" b="28190"/>
          <a:stretch/>
        </p:blipFill>
        <p:spPr>
          <a:xfrm>
            <a:off x="453960" y="2254320"/>
            <a:ext cx="823284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 and 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ily Obser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268200" y="2363760"/>
            <a:ext cx="867420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 and 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stinghouse rat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rcRect l="25590" t="0" r="27204" b="15147"/>
          <a:stretch/>
        </p:blipFill>
        <p:spPr>
          <a:xfrm>
            <a:off x="876240" y="2416320"/>
            <a:ext cx="76741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2T13:45:04Z</dcterms:created>
  <dc:creator>Armi Shiela</dc:creator>
  <dc:description/>
  <dc:language>en-US</dc:language>
  <cp:lastModifiedBy>Armi Shiela</cp:lastModifiedBy>
  <dcterms:modified xsi:type="dcterms:W3CDTF">2013-10-02T14:43:02Z</dcterms:modified>
  <cp:revision>6</cp:revision>
  <dc:subject/>
  <dc:title>A STUDY ON THE EFFECTVE NUMBER OF LIBRARIAN IN THE SOLAIR </dc:title>
</cp:coreProperties>
</file>