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CBA-22A0-4845-A6C7-97BE2D7A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95D-5B7A-4FFA-B30C-94E115D3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41D-B7CC-4190-A262-A08E380A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2F8-5F82-4077-9939-788FDE16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C41-65FF-46B1-980D-005D9C9B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939-7095-43FB-941C-6709E1DA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1E2-E55D-4DBE-A6A8-A83439F0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648-FCD0-4B39-9EE7-9092333C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14B-DD1E-4589-95D5-CB0C5797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173-647D-478C-99A2-A36B50BE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161-0779-43E7-998C-2282C94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1C0-FCEC-4175-8416-B3B45847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7FD28-F332-4641-ABC0-E5DF13A6D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11000"/>
            <a:ext cx="7772400" cy="31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 STUDY ON THE EFFECTVE NUMBER OF LIBRARIAN IN SOLAI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an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47680" y="2063880"/>
            <a:ext cx="865980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an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Compu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217520" y="2435400"/>
            <a:ext cx="7284960" cy="30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 and Recommen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Librarian is en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1 Assistant is needed during exam / finals season since students registering at the library increases compared to ordinary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stant will be responsible mainly on technical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brarian is described as the one responsible for providing library and research services for the organization and maintenance of the library and its coll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AIR Library is managed by Ms. Zenaida Salas and student assist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onduct job evaluation through time and motion study to determine the effective number of librarian in SOL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l used: Time and Motion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s ma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hrs duty of librarian from Mon ~ Sat (1 week observ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ed time to compensate 9-hour work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Description was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egorized work el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0" t="0" r="28821" b="10818"/>
          <a:stretch/>
        </p:blipFill>
        <p:spPr>
          <a:xfrm>
            <a:off x="623880" y="3014640"/>
            <a:ext cx="82389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ulas us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0" r="29113" b="12012"/>
          <a:stretch/>
        </p:blipFill>
        <p:spPr>
          <a:xfrm>
            <a:off x="380880" y="2197080"/>
            <a:ext cx="8380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ulas us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0" r="29113" b="28190"/>
          <a:stretch/>
        </p:blipFill>
        <p:spPr>
          <a:xfrm>
            <a:off x="453960" y="2254320"/>
            <a:ext cx="82328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an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68200" y="2363760"/>
            <a:ext cx="86742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an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inghouse rat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25590" t="0" r="27204" b="15147"/>
          <a:stretch/>
        </p:blipFill>
        <p:spPr>
          <a:xfrm>
            <a:off x="876240" y="2416320"/>
            <a:ext cx="76741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3:45:04Z</dcterms:created>
  <dc:creator>Armi Shiela</dc:creator>
  <dc:description/>
  <dc:language>en-US</dc:language>
  <cp:lastModifiedBy>Armi Shiela</cp:lastModifiedBy>
  <dcterms:modified xsi:type="dcterms:W3CDTF">2013-10-02T14:43:02Z</dcterms:modified>
  <cp:revision>6</cp:revision>
  <dc:subject/>
  <dc:title>A STUDY ON THE EFFECTVE NUMBER OF LIBRARIAN IN THE SOLAIR </dc:title>
</cp:coreProperties>
</file>