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bomb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6B72-7B21-4DBC-878C-49B250D5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ED3E-C06E-4D8C-A1AF-250F342B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015A-FBB1-4232-90DA-9474F4E5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6336-E64A-4CEB-8B54-67C65037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8E8D-DD0A-4742-987C-232AA966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9CE-E89D-4784-953B-6ADAE94A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B02E-56BB-4B31-B227-8EA18457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7395-C175-4431-99F9-37A57433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B571-D160-4D32-95AC-C3BE4493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8144-E943-408E-A45D-C9818549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0D41-BD53-4CDE-9CCC-7456499C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25B7-0E59-4F8D-98F9-F93B7160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19EA-D08A-4F9E-BC90-53E79361B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68400" y="2060640"/>
            <a:ext cx="7191000" cy="2227320"/>
          </a:xfrm>
          <a:prstGeom prst="rect">
            <a:avLst/>
          </a:prstGeom>
          <a:solidFill>
            <a:srgbClr val="ff3300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Como não se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assaltado via Intern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50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2484360" y="3213000"/>
            <a:ext cx="1656000" cy="26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5811840"/>
            <a:ext cx="3097080" cy="642600"/>
          </a:xfrm>
          <a:prstGeom prst="rect">
            <a:avLst/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ff"/>
                </a:solidFill>
                <a:latin typeface="Arial"/>
              </a:rPr>
              <a:t>Alguém, supostamente, enviou-lhe um cart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80" y="14400"/>
            <a:ext cx="9124920" cy="6843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9280" y="4941720"/>
            <a:ext cx="4248360" cy="14655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sso 2 -  Ao abrir o e-mail, ele orienta-o a clicar no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link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e ser redireccionado à página do site de cartões. Neste caso  o fornecedor de serviços “mascarado” é o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rra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340000" y="3429000"/>
            <a:ext cx="71928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5229360"/>
            <a:ext cx="3024360" cy="11912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Observe que os </a:t>
            </a:r>
            <a:r>
              <a:rPr b="1" i="1" lang="pt-BR" sz="1800" spc="-1" strike="noStrike">
                <a:solidFill>
                  <a:srgbClr val="ff3300"/>
                </a:solidFill>
                <a:latin typeface="Arial"/>
              </a:rPr>
              <a:t>hackers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, mascaram até mesmo o nome do e-mail do remet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1907640" y="2133360"/>
            <a:ext cx="431964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16720" y="2708280"/>
            <a:ext cx="2448000" cy="14655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 link aponta para o fornecedor de serviços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rra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mas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tudo não passa de uma másc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995280" y="2997360"/>
            <a:ext cx="2521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789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236000" y="1700280"/>
            <a:ext cx="1763640" cy="14655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bserve que o endereço onde o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link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o direccionou foi ou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492360" y="981000"/>
            <a:ext cx="367200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08720" y="3860640"/>
            <a:ext cx="1764000" cy="22885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udo nesta página é mascarad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 barra com o logótipo do Terra, os anúncios, etc..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826560" y="1267920"/>
            <a:ext cx="6481800" cy="324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676160" y="4876560"/>
            <a:ext cx="3733560" cy="99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o clicar no botão acima em vez de aparecer o cartão, </a:t>
            </a:r>
            <a:r>
              <a:rPr b="1" lang="en-US" sz="1200" spc="-1" strike="noStrike" u="sng">
                <a:solidFill>
                  <a:srgbClr val="ff3300"/>
                </a:solidFill>
                <a:uFillTx/>
                <a:latin typeface="Arial"/>
              </a:rPr>
              <a:t>pede para ser executada uma instalaçã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serve as instruções da página seguin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5185080" cy="384336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sp>
        <p:nvSpPr>
          <p:cNvPr id="64" name=""/>
          <p:cNvSpPr txBox="1"/>
          <p:nvPr/>
        </p:nvSpPr>
        <p:spPr>
          <a:xfrm>
            <a:off x="1403280" y="333360"/>
            <a:ext cx="6381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ste muita atenção neste momento</a:t>
            </a:r>
            <a:endParaRPr b="1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2438280"/>
            <a:ext cx="2691000" cy="30708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Observe que não é do Ter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2743200"/>
            <a:ext cx="277200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4800600"/>
            <a:ext cx="4495680" cy="1465560"/>
          </a:xfrm>
          <a:prstGeom prst="rect">
            <a:avLst/>
          </a:prstGeom>
          <a:solidFill>
            <a:srgbClr val="ff3300"/>
          </a:solidFill>
          <a:ln w="316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ste tipo de ficheiro é um espião. Se o abrir, quando tentar entrar em qualquer programa que lhe peça senha, ela será remetida automaticamente à pessoa  que lhe enviou esta armadilh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148360" y="2708280"/>
            <a:ext cx="2014560" cy="20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5300640"/>
            <a:ext cx="4191120" cy="11912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unca abra ficheiros com extensões: “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.scr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”, “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.ex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”, “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.com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”. Entre outros suspeitos, esses são os mais comuns e mais perigo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195640" y="2743200"/>
            <a:ext cx="2757240" cy="25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63640" y="2276640"/>
            <a:ext cx="5545080" cy="2043720"/>
          </a:xfrm>
          <a:prstGeom prst="rect">
            <a:avLst/>
          </a:prstGeom>
          <a:solidFill>
            <a:srgbClr val="3333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Arial"/>
              </a:rPr>
              <a:t>Envie este e-mail a todos os seus amigos(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1:37:34Z</dcterms:created>
  <dc:creator>Aplicativos/Arquivos</dc:creator>
  <dc:description/>
  <dc:language>en-US</dc:language>
  <cp:lastModifiedBy>Homo Sapiens</cp:lastModifiedBy>
  <dcterms:modified xsi:type="dcterms:W3CDTF">2008-09-17T11:36:25Z</dcterms:modified>
  <cp:revision>28</cp:revision>
  <dc:subject/>
  <dc:title>Co</dc:title>
</cp:coreProperties>
</file>