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0BD-5143-4BC8-8E02-21CE6104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40E-00BB-4F25-A56F-A05F432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EAF-5863-4B9A-84F1-9B567CCF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CD9-C7C5-4159-8A61-BEA16342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6A3-3DDC-47A1-95A5-7610FEB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D2F-F75C-4154-9055-47C3A58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EAE-97B8-444B-8523-D8D018C9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7AC-601C-4EB9-A19A-22A9405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C8E-A6B9-41E7-BF7A-6B653EFB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9C8-CD21-480F-BBAB-71A2675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F79-2021-4910-B589-FB4FA5D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63-B689-4820-BA5B-2AC1FB3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D0F-C50A-4B20-8398-0CFF815B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8400" y="2060640"/>
            <a:ext cx="7191000" cy="2227320"/>
          </a:xfrm>
          <a:prstGeom prst="rect">
            <a:avLst/>
          </a:prstGeom>
          <a:solidFill>
            <a:srgbClr val="ff33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ssaltado via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484360" y="3213000"/>
            <a:ext cx="1656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811840"/>
            <a:ext cx="309708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Alguém, supostamente, enviou-lhe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941720"/>
            <a:ext cx="4248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o 2 -  Ao abrir o e-mail, ele orienta-o a clicar n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e ser redireccionado à página do site de cartões. Neste caso  o fornecedor de serviços “mascarado” é 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0000" y="342900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bserve que os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2708280"/>
            <a:ext cx="2448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link aponta para o fornecedor de serviço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ma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udo não passa de uma más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36000" y="1700280"/>
            <a:ext cx="176364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e que o endereço onde 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 direccionou foi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92360" y="981000"/>
            <a:ext cx="367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3860640"/>
            <a:ext cx="176400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udo nesta página é mascar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barra com o logó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26560" y="1267920"/>
            <a:ext cx="648180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4876560"/>
            <a:ext cx="373356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pede para ser executada uma instalaçã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 as instruções da página seguin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e momento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438280"/>
            <a:ext cx="2691000" cy="3070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743200"/>
            <a:ext cx="2772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800600"/>
            <a:ext cx="4495680" cy="1465560"/>
          </a:xfrm>
          <a:prstGeom prst="rect">
            <a:avLst/>
          </a:prstGeom>
          <a:solidFill>
            <a:srgbClr val="ff3300"/>
          </a:solidFill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e tipo de ficheiro é um espião. Se o abrir, quando tentar entrar em qualquer programa que lhe peça senha, ela será remetida automaticamente à pessoa  que lhe enviou esta armadil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48360" y="2708280"/>
            <a:ext cx="2014560" cy="20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300640"/>
            <a:ext cx="419112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unca abra ficheiros com extensões: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sc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ex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co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. Entre outros suspeitos, esses são os mais comuns e mais perig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5640" y="2743200"/>
            <a:ext cx="275724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2276640"/>
            <a:ext cx="5545080" cy="2043720"/>
          </a:xfrm>
          <a:prstGeom prst="rect">
            <a:avLst/>
          </a:prstGeom>
          <a:solidFill>
            <a:srgbClr val="3333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Envie este e-mail a todos os seus amigos(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Homo Sapiens</cp:lastModifiedBy>
  <dcterms:modified xsi:type="dcterms:W3CDTF">2008-09-17T11:36:25Z</dcterms:modified>
  <cp:revision>28</cp:revision>
  <dc:subject/>
  <dc:title>Co</dc:title>
</cp:coreProperties>
</file>