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B98-A288-48E1-B576-1B06A807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76C-2B80-4358-AAEE-39DB6055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100-C108-4A4E-997F-018383EA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C29-5C48-4579-B233-65E87D2F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7F2-2585-4748-AB81-8EDE5AD0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62B-5895-42B3-B987-BAD3E75B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3E3-0558-4867-B741-F42D7FD3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9E0-F283-4A5B-8066-2D696A2D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CF5-04F3-4A5B-A82A-56949014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8B3-1275-4A7F-B232-AC0EE09C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9F1-2D68-44AB-94ED-87FC84E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C7E-C3E6-4FC9-842D-40C7EE49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6390-4195-408A-855E-4C23E58E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2205000"/>
            <a:ext cx="676908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CIEDAD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CRET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02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3300"/>
                </a:solidFill>
                <a:latin typeface="Arial"/>
              </a:rPr>
              <a:t>18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c3300"/>
                </a:solidFill>
                <a:latin typeface="Arial"/>
              </a:rPr>
              <a:t>Ku Klux Klan - K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29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undada por 6 amigos da cidade de Pulaski, Tennessee, após o final da Guerra civil america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u objetivo era impedir a integração social dos negros recém-libertados, matando todos el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4321440" cy="4143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952960" cy="5321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157720"/>
            <a:ext cx="91440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osae Cruc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9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rganização de caráter místico-filosófico, que se de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missão de despertar o potencial interior do ser hum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71640" y="1144440"/>
            <a:ext cx="3888000" cy="3461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29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797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calhou com todas as anterior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288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objetivo inicial era “apenas” tomar o poder no Bras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 transformou-se em Sociedade Secreta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 fins lucrativ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71640" y="1144440"/>
            <a:ext cx="3888000" cy="3461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486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tão secreta a ponto do Dirigente 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saber como todos eles enriquece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78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F I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cc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7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ão aquelas que ocultam a sua existência, as datas e loc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sessões, os rituais de iniciação de seus memb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os sinais usados para se reconhecer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28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mp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77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Fundada com o propósito de proteger os cristãos que voltavam 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00"/>
                </a:solidFill>
                <a:latin typeface="Arial"/>
              </a:rPr>
              <a:t>peregrinação à Jerusalém, depois de ela ser conquistada pela 1ª Cru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8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6800" y="1125360"/>
            <a:ext cx="4525920" cy="343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292640"/>
            <a:ext cx="9144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00"/>
                </a:solidFill>
                <a:latin typeface="Arial"/>
              </a:rPr>
              <a:t>Priorado de S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3300"/>
                </a:solidFill>
                <a:latin typeface="Arial"/>
              </a:rPr>
              <a:t>1099</a:t>
            </a:r>
            <a:r>
              <a:rPr b="0" lang="pt-PT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00"/>
                </a:solidFill>
                <a:latin typeface="Arial"/>
              </a:rPr>
              <a:t>Sociedade fundada em Jerusalém, para proteger o segredo do Santo Gra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3300"/>
                </a:solidFill>
                <a:latin typeface="Arial"/>
              </a:rPr>
              <a:t>(Sang real), entendido por alguns como a descendência de Jesus Cristo.</a:t>
            </a:r>
            <a:r>
              <a:rPr b="1" lang="pt-BR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8360" y="60278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ç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0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Louva o “Grande Arquiteto do Universo”, </a:t>
            </a:r>
            <a:r>
              <a:rPr b="1" i="1" lang="en-US" sz="1400" spc="-1" strike="noStrike">
                <a:solidFill>
                  <a:srgbClr val="ffcc99"/>
                </a:solidFill>
                <a:latin typeface="Arial"/>
              </a:rPr>
              <a:t>G.A.D.U.</a:t>
            </a: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, ou </a:t>
            </a:r>
            <a:r>
              <a:rPr b="1" i="1" lang="en-US" sz="1400" spc="-1" strike="noStrike">
                <a:solidFill>
                  <a:srgbClr val="ffcc99"/>
                </a:solidFill>
                <a:latin typeface="Arial"/>
              </a:rPr>
              <a:t>G.A.U</a:t>
            </a: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, o Grande Geôme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Exclusiva para homens, tem por objetivo ajudá-los na conquista de ascensão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0560" y="189000"/>
            <a:ext cx="57610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cc00"/>
                </a:solidFill>
                <a:latin typeface="Arial"/>
              </a:rPr>
              <a:t>Grupo com o objetivo de unir o mundo em uma única regênc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cc00"/>
                </a:solidFill>
                <a:latin typeface="Arial"/>
              </a:rPr>
              <a:t>baseado em um modelo “político” onde todos são igua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36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17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873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Fundada na Itália, com ideologia semelhante à Maçonar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a sociedade se fazia notar pelo marcante anticlericalismo.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22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Carb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1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12920" cy="458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40080" y="404640"/>
            <a:ext cx="4219560" cy="4680000"/>
          </a:xfrm>
          <a:prstGeom prst="rect">
            <a:avLst/>
          </a:prstGeom>
          <a:noFill/>
          <a:ln w="2030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61080" cy="414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462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c99"/>
                </a:solidFill>
                <a:latin typeface="Arial"/>
              </a:rPr>
              <a:t>Skull &amp; 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c99"/>
                </a:solidFill>
                <a:latin typeface="Arial"/>
              </a:rPr>
              <a:t>1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300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cc99"/>
                </a:solidFill>
                <a:latin typeface="Arial"/>
              </a:rPr>
              <a:t>Sociedade secreta estudantil dos USA, que p</a:t>
            </a: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rega a formação de um gove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mundial único e absoluto, também conhecido como Nova Ordem Mund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620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157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Tem em seus quadros os Bush e é dominada por famílias como os Rockefeller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J.P.Morgan, Taft, Stinsom, Whitney, Bundy, Harriman, Weyerhaeuser, Pillsbu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99"/>
                </a:solidFill>
                <a:latin typeface="Arial"/>
              </a:rPr>
              <a:t>Payne, e Wadsworth. </a:t>
            </a:r>
            <a:r>
              <a:rPr b="1" lang="en" sz="1400" spc="-1" strike="noStrike">
                <a:solidFill>
                  <a:srgbClr val="ffcc99"/>
                </a:solidFill>
                <a:latin typeface="Arial"/>
              </a:rPr>
              <a:t>Seu objetivo é o de estabelecer uma ditadura glo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61080" cy="414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462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cc99"/>
                </a:solidFill>
                <a:latin typeface="Arial"/>
              </a:rPr>
              <a:t>Caveira &amp; O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620640"/>
            <a:ext cx="144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1:28:14Z</dcterms:created>
  <dc:creator>User</dc:creator>
  <dc:description/>
  <dc:language>en-US</dc:language>
  <cp:lastModifiedBy>User</cp:lastModifiedBy>
  <dcterms:modified xsi:type="dcterms:W3CDTF">2010-07-05T22:16:02Z</dcterms:modified>
  <cp:revision>92</cp:revision>
  <dc:subject/>
  <dc:title>Slide 1</dc:title>
</cp:coreProperties>
</file>