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4D4-7026-46B9-B447-9EBE73B2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94E-3A28-477F-9420-AC6227D9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48E-8044-41FD-AC20-79D804D9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FE1-D2AF-4882-9889-0CCB20E1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AF5-46DE-44AA-AF80-C1539C6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797-BF35-4F82-8A6D-C170D6F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665-C77F-44E0-844C-E805F3E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197-1B8E-46F9-B850-6C0F7C1B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BD5-68C7-4E11-BC94-58CCD3EE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173-2A45-4139-A026-5A3DBA5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1E5-D4FD-48B9-BE39-7FA4AF5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1B7-AF87-4725-8E74-0815A27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6C66-441C-49CD-B196-E221B756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2205000"/>
            <a:ext cx="676908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CIEDAD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CRET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02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3300"/>
                </a:solidFill>
                <a:latin typeface="Arial"/>
              </a:rPr>
              <a:t>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3300"/>
                </a:solidFill>
                <a:latin typeface="Arial"/>
              </a:rPr>
              <a:t>Ku Klux Klan - K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29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undada por 6 amigos da cidade de Pulaski, Tennessee, após o final da Guerra civil america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u objetivo era impedir a integração social dos negros recém-libertados, matando todos el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321440" cy="4143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952960" cy="5321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157720"/>
            <a:ext cx="91440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sae Cru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rganização de caráter místico-filosófico, que se de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missão de despertar o potencial interior do ser hum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71640" y="1144440"/>
            <a:ext cx="3888000" cy="3461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29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797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calhou com todas as anterior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288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objetivo inicial era “apenas” tomar o poder no Bras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 transformou-se em Sociedade Secreta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 fins lucrativ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71640" y="1144440"/>
            <a:ext cx="3888000" cy="3461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486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tão secreta a ponto do Dirigente 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saber como todos eles enriquece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8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F I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cc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7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ão aquelas que ocultam a sua existência, as datas e loc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sessões, os rituais de iniciação de seus memb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os sinais usados para se reconhece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28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mp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77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Fundada com o propósito de proteger os cristãos que voltavam 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peregrinação à Jerusalém, depois de ela ser conquistada pela 1ª Cru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8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6800" y="1125360"/>
            <a:ext cx="4525920" cy="343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292640"/>
            <a:ext cx="9144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00"/>
                </a:solidFill>
                <a:latin typeface="Arial"/>
              </a:rPr>
              <a:t>Priorado de S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00"/>
                </a:solidFill>
                <a:latin typeface="Arial"/>
              </a:rPr>
              <a:t>1099</a:t>
            </a:r>
            <a:r>
              <a:rPr b="0" lang="pt-PT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00"/>
                </a:solidFill>
                <a:latin typeface="Arial"/>
              </a:rPr>
              <a:t>Sociedade fundada em Jerusalém, para proteger o segredo do Santo Gra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00"/>
                </a:solidFill>
                <a:latin typeface="Arial"/>
              </a:rPr>
              <a:t>(Sang real), entendido por alguns como a descendência de Jesus Cristo.</a:t>
            </a:r>
            <a:r>
              <a:rPr b="1" lang="pt-BR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8360" y="60278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ç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0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Louva o “Grande Arquiteto do Universo”, </a:t>
            </a:r>
            <a:r>
              <a:rPr b="1" i="1" lang="en-US" sz="1400" spc="-1" strike="noStrike">
                <a:solidFill>
                  <a:srgbClr val="ffcc99"/>
                </a:solidFill>
                <a:latin typeface="Arial"/>
              </a:rPr>
              <a:t>G.A.D.U.</a:t>
            </a: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, ou </a:t>
            </a:r>
            <a:r>
              <a:rPr b="1" i="1" lang="en-US" sz="1400" spc="-1" strike="noStrike">
                <a:solidFill>
                  <a:srgbClr val="ffcc99"/>
                </a:solidFill>
                <a:latin typeface="Arial"/>
              </a:rPr>
              <a:t>G.A.U</a:t>
            </a: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, o Grande Geôme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Exclusiva para homens, tem por objetivo ajudá-los na conquista de ascensão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0560" y="18900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cc00"/>
                </a:solidFill>
                <a:latin typeface="Arial"/>
              </a:rPr>
              <a:t>Grupo com o objetivo de unir o mundo em uma única regênc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cc00"/>
                </a:solidFill>
                <a:latin typeface="Arial"/>
              </a:rPr>
              <a:t>baseado em um modelo “político” onde todos são igua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6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17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873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undada na Itália, com ideologia semelhante à Maçonar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a sociedade se fazia notar pelo marcante anticlericalismo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22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Carb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12920" cy="458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40080" y="404640"/>
            <a:ext cx="4219560" cy="4680000"/>
          </a:xfrm>
          <a:prstGeom prst="rect">
            <a:avLst/>
          </a:prstGeom>
          <a:noFill/>
          <a:ln w="2030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61080" cy="414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462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c99"/>
                </a:solidFill>
                <a:latin typeface="Arial"/>
              </a:rPr>
              <a:t>Skull &amp; 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c99"/>
                </a:solidFill>
                <a:latin typeface="Arial"/>
              </a:rPr>
              <a:t>1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300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cc99"/>
                </a:solidFill>
                <a:latin typeface="Arial"/>
              </a:rPr>
              <a:t>Sociedade secreta estudantil dos USA, que p</a:t>
            </a: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rega a formação de um gove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mundial único e absoluto, também conhecido como Nova Ordem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62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157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Tem em seus quadros os Bush e é dominada por famílias como os Rockefeller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J.P.Morgan, Taft, Stinsom, Whitney, Bundy, Harriman, Weyerhaeuser, Pillsbu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Payne, e Wadsworth. </a:t>
            </a:r>
            <a:r>
              <a:rPr b="1" lang="en" sz="1400" spc="-1" strike="noStrike">
                <a:solidFill>
                  <a:srgbClr val="ffcc99"/>
                </a:solidFill>
                <a:latin typeface="Arial"/>
              </a:rPr>
              <a:t>Seu objetivo é o de estabelecer uma ditadura glo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61080" cy="414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462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c99"/>
                </a:solidFill>
                <a:latin typeface="Arial"/>
              </a:rPr>
              <a:t>Caveira &amp; O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62064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1:28:14Z</dcterms:created>
  <dc:creator>User</dc:creator>
  <dc:description/>
  <dc:language>en-US</dc:language>
  <cp:lastModifiedBy>User</cp:lastModifiedBy>
  <dcterms:modified xsi:type="dcterms:W3CDTF">2010-07-05T22:16:02Z</dcterms:modified>
  <cp:revision>92</cp:revision>
  <dc:subject/>
  <dc:title>Slide 1</dc:title>
</cp:coreProperties>
</file>