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9.jpeg" ContentType="image/jpeg"/>
  <Override PartName="/ppt/media/image42.jpeg" ContentType="image/jpeg"/>
  <Override PartName="/ppt/media/IL%20DIVO%20Unchained%20M%C3%A9lody...wav" ContentType="audio/x-wav"/>
  <Override PartName="/ppt/media/image26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25A8-E7B3-4243-93C9-F59079E0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6FBE-32AC-4810-A812-6DD85A7E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BFB9-3630-428D-9805-E58FE709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BCDF-10CF-4F4B-900A-D1BA9DD3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EAA7-1035-4315-9FDF-971D4191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E8F6-B980-4CB1-AB67-032AA0F8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D567-0657-4199-A675-4AC2551F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FBC-16F4-4E1C-8BE3-B2258FD8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895-E799-4E11-A899-0388018F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0C84-F789-40C2-BB73-E5E5C014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2788-3C38-46D8-A73A-B3FBD858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5D5E-8DC1-4412-A216-5A1712E0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26AD-AC4E-4C2C-BA3F-25AB962C4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L%20DIVO%20Unchained%20M&#233;lody..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2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84720" y="2565360"/>
            <a:ext cx="395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00000" y="20520"/>
            <a:ext cx="7201080" cy="683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165720"/>
            <a:ext cx="7380360" cy="69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8900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¿Era un gen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¿Era un lo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26028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Esa es la preg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92360" y="1916280"/>
            <a:ext cx="324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920" y="-12600"/>
            <a:ext cx="8642160" cy="69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528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-3240"/>
            <a:ext cx="8280360" cy="689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260280"/>
            <a:ext cx="871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0720" cy="689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219640" y="3357720"/>
            <a:ext cx="367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19160" y="0"/>
            <a:ext cx="5389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637000"/>
            <a:ext cx="244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41400"/>
            <a:ext cx="8496000" cy="68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56000" y="260280"/>
            <a:ext cx="37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40000" y="17640"/>
            <a:ext cx="5062680" cy="68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5373720"/>
            <a:ext cx="431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90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260280"/>
            <a:ext cx="871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41400" y="0"/>
            <a:ext cx="5500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227640" y="2781360"/>
            <a:ext cx="273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42840"/>
            <a:ext cx="8569080" cy="685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08720" y="0"/>
            <a:ext cx="1835280" cy="54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72360" y="620640"/>
            <a:ext cx="252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8675640" cy="681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340000" y="1125360"/>
            <a:ext cx="144360" cy="460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5661000"/>
            <a:ext cx="453708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7080" y="1197000"/>
            <a:ext cx="71280" cy="460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125360"/>
            <a:ext cx="468000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60280"/>
            <a:ext cx="36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558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5373720"/>
            <a:ext cx="3097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92240" y="0"/>
            <a:ext cx="5338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25640" y="0"/>
            <a:ext cx="5167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093080" y="5300640"/>
            <a:ext cx="1726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3500280"/>
            <a:ext cx="36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831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076720" y="2781360"/>
            <a:ext cx="381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-17640"/>
            <a:ext cx="8642160" cy="695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260280"/>
            <a:ext cx="547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32040" y="0"/>
            <a:ext cx="57610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03280" y="5805360"/>
            <a:ext cx="633744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1341360"/>
            <a:ext cx="626436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24720" y="1413000"/>
            <a:ext cx="71640" cy="453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26028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62000"/>
            <a:ext cx="8964720" cy="6721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6920" y="765000"/>
            <a:ext cx="216000" cy="554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3645000"/>
            <a:ext cx="4824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86120" y="0"/>
            <a:ext cx="55101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524640"/>
            <a:ext cx="7812000" cy="3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01880" y="0"/>
            <a:ext cx="5406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56000" y="6308640"/>
            <a:ext cx="28728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12536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3160" y="0"/>
            <a:ext cx="5462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27280" y="260280"/>
            <a:ext cx="651672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964720" y="404640"/>
            <a:ext cx="179280" cy="645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076640"/>
            <a:ext cx="381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76360" y="1052640"/>
            <a:ext cx="287280" cy="46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4000" y="6021360"/>
            <a:ext cx="84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60480" y="0"/>
            <a:ext cx="5840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03280" y="5373720"/>
            <a:ext cx="2448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5877000"/>
            <a:ext cx="856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4400"/>
            <a:ext cx="8569080" cy="685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597720"/>
            <a:ext cx="518472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0"/>
            <a:ext cx="144360" cy="666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0"/>
            <a:ext cx="518472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3249720"/>
            <a:ext cx="381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73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372360" y="5300640"/>
            <a:ext cx="25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7640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260280"/>
            <a:ext cx="828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14400"/>
            <a:ext cx="8713800" cy="688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44880" y="0"/>
            <a:ext cx="5476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00000" y="260280"/>
            <a:ext cx="6912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5734080"/>
            <a:ext cx="504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627120"/>
            <a:ext cx="9144000" cy="56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43280" y="2997360"/>
            <a:ext cx="410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03240" y="0"/>
            <a:ext cx="5443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4000" y="260280"/>
            <a:ext cx="84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27280" y="6021360"/>
            <a:ext cx="381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39600"/>
            <a:ext cx="7777080" cy="681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716360" y="6021360"/>
            <a:ext cx="144144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64000" y="4724280"/>
            <a:ext cx="36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17800" y="0"/>
            <a:ext cx="5148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51280" y="260280"/>
            <a:ext cx="108108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268280"/>
            <a:ext cx="424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42840"/>
            <a:ext cx="8207280" cy="686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55640" y="4211640"/>
            <a:ext cx="3529080" cy="2646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4000" y="2421000"/>
            <a:ext cx="3311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076720" y="4156200"/>
            <a:ext cx="3602160" cy="27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076720" y="3068640"/>
            <a:ext cx="37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2637000"/>
            <a:ext cx="180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44760" y="0"/>
            <a:ext cx="59878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5950080"/>
            <a:ext cx="842472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260280"/>
            <a:ext cx="7921800" cy="86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44360"/>
            <a:ext cx="89647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3492360" cy="822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132000" y="1125360"/>
            <a:ext cx="5796000" cy="4673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940360" y="6021360"/>
            <a:ext cx="280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260280"/>
            <a:ext cx="82087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 u="sng">
                <a:solidFill>
                  <a:srgbClr val="ff0000"/>
                </a:solidFill>
                <a:uFillTx/>
                <a:latin typeface="Comic Sans MS"/>
              </a:rPr>
              <a:t>Déjame por un instante, sumergirme en la locura de los artistas. Olvidar las reglas que impone el hombre para no transgredir todo aquello que conocemos. No le temo a la aventura de vivir en un mundo surrealista porque mi espíritu, no conoce otra verdad que la que me eleva hasta las fronteras de lo imposible.</a:t>
            </a:r>
            <a:r>
              <a:rPr b="0" i="1" lang="es-E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i="1" lang="es-ES" sz="3200" spc="-1" strike="noStrike" u="sng">
                <a:solidFill>
                  <a:srgbClr val="ff0000"/>
                </a:solidFill>
                <a:uFillTx/>
                <a:latin typeface="Comic Sans MS"/>
              </a:rPr>
              <a:t>El día que deje de soñar, mándame flores blancas…</a:t>
            </a: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5950080"/>
            <a:ext cx="2808360" cy="90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500"/>
                            </p:stCondLst>
                            <p:childTnLst>
                              <p:par>
                                <p:cTn id="3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500"/>
                            </p:stCondLst>
                            <p:childTnLst>
                              <p:par>
                                <p:cTn id="4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0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2852640"/>
            <a:ext cx="36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777080" cy="686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35280" y="549360"/>
            <a:ext cx="532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55440"/>
            <a:ext cx="7848360" cy="680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292720" y="2637000"/>
            <a:ext cx="3527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-1440"/>
            <a:ext cx="8569080" cy="688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79640" y="0"/>
            <a:ext cx="655308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32000" y="-531720"/>
            <a:ext cx="360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58680"/>
            <a:ext cx="7921440" cy="686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 0.33295 E">
                                      <p:cBhvr>
                                        <p:cTn id="6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2708280"/>
            <a:ext cx="36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3204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0:34:15Z</dcterms:created>
  <dc:creator>José Carlos</dc:creator>
  <dc:description/>
  <dc:language>en-US</dc:language>
  <cp:lastModifiedBy>Wolf</cp:lastModifiedBy>
  <dcterms:modified xsi:type="dcterms:W3CDTF">2010-01-22T13:10:45Z</dcterms:modified>
  <cp:revision>1</cp:revision>
  <dc:subject/>
  <dc:title>dali</dc:title>
</cp:coreProperties>
</file>