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9.jpeg" ContentType="image/jpeg"/>
  <Override PartName="/ppt/media/image42.jpeg" ContentType="image/jpeg"/>
  <Override PartName="/ppt/media/IL%20DIVO%20Unchained%20M%C3%A9lody...wav" ContentType="audio/x-wav"/>
  <Override PartName="/ppt/media/image26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29.jpeg" ContentType="image/jpeg"/>
  <Override PartName="/ppt/media/image1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F851-BE22-4920-B6C0-6002DDE0C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18DE-A700-4847-943A-55CAE488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7DEA-1E65-4B18-8A75-C7E03B595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04FF-5E31-4399-B1AA-62B3A3B51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EB58-47A3-43EB-A9AF-C089C951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FAE6-ED6C-454C-A9F8-5EA64E51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5707-355F-46D5-BE08-668C3DB5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F627-2590-44A8-8D05-81285B66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CEA5-8F3B-418B-9704-08BFBD74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3FC8-5A63-48B6-AF31-B09344A9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15BD-F408-4482-8FB7-834960FE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DF86-62C1-4D97-AFC3-482B7734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466D-DD98-48F6-BC20-BD68FAD86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IL%20DIVO%20Unchained%20M&#233;lody..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image" Target="../media/image42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8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84720" y="2565360"/>
            <a:ext cx="3959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00000" y="20520"/>
            <a:ext cx="7201080" cy="6837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6165720"/>
            <a:ext cx="7380360" cy="69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189000"/>
            <a:ext cx="34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¿Era un geni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¿Era un loc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67280" y="26028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Esa es la pregu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492360" y="1916280"/>
            <a:ext cx="3240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0920" y="-12600"/>
            <a:ext cx="8642160" cy="691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Scale>
                                      <p:cBhvr>
                                        <p:cTn id="84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95280" y="5157720"/>
            <a:ext cx="39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-3240"/>
            <a:ext cx="8280360" cy="689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260280"/>
            <a:ext cx="871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40720" cy="689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219640" y="3357720"/>
            <a:ext cx="3673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19160" y="0"/>
            <a:ext cx="53895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637000"/>
            <a:ext cx="244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24000" y="41400"/>
            <a:ext cx="8496000" cy="68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56000" y="260280"/>
            <a:ext cx="37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340000" y="17640"/>
            <a:ext cx="5062680" cy="68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68360" y="5373720"/>
            <a:ext cx="4319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90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0920" y="260280"/>
            <a:ext cx="871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841400" y="0"/>
            <a:ext cx="55008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227640" y="2781360"/>
            <a:ext cx="2737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0920" y="42840"/>
            <a:ext cx="8569080" cy="685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308720" y="0"/>
            <a:ext cx="1835280" cy="54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372360" y="620640"/>
            <a:ext cx="252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8675640" cy="681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340000" y="1125360"/>
            <a:ext cx="144360" cy="460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11280" y="5661000"/>
            <a:ext cx="4537080" cy="73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77080" y="1197000"/>
            <a:ext cx="71280" cy="4608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40000" y="1125360"/>
            <a:ext cx="4680000" cy="14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260280"/>
            <a:ext cx="360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558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9280" y="5373720"/>
            <a:ext cx="3097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92240" y="0"/>
            <a:ext cx="53388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25640" y="0"/>
            <a:ext cx="51674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093080" y="5300640"/>
            <a:ext cx="1726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9640" y="3500280"/>
            <a:ext cx="360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831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076720" y="2781360"/>
            <a:ext cx="3816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-17640"/>
            <a:ext cx="8642160" cy="695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0920" y="260280"/>
            <a:ext cx="5473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832040" y="0"/>
            <a:ext cx="57610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03280" y="5805360"/>
            <a:ext cx="6337440" cy="14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360" y="1341360"/>
            <a:ext cx="6264360" cy="7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24720" y="1413000"/>
            <a:ext cx="71640" cy="453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260280"/>
            <a:ext cx="842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62000"/>
            <a:ext cx="8964720" cy="6721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26920" y="765000"/>
            <a:ext cx="216000" cy="5543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9640" y="3645000"/>
            <a:ext cx="4824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86120" y="0"/>
            <a:ext cx="55101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6524640"/>
            <a:ext cx="7812000" cy="333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901880" y="0"/>
            <a:ext cx="5406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56000" y="6308640"/>
            <a:ext cx="28728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125360"/>
            <a:ext cx="316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73160" y="0"/>
            <a:ext cx="54626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627280" y="260280"/>
            <a:ext cx="651672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964720" y="404640"/>
            <a:ext cx="179280" cy="6453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4076640"/>
            <a:ext cx="381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56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476360" y="1052640"/>
            <a:ext cx="287280" cy="4681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24000" y="6021360"/>
            <a:ext cx="849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60480" y="0"/>
            <a:ext cx="58406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03280" y="5373720"/>
            <a:ext cx="2448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5877000"/>
            <a:ext cx="8569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14400"/>
            <a:ext cx="8569080" cy="685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32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6597720"/>
            <a:ext cx="518472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0"/>
            <a:ext cx="144360" cy="666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0"/>
            <a:ext cx="5184720" cy="404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88000" y="3249720"/>
            <a:ext cx="3816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73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372360" y="5300640"/>
            <a:ext cx="259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97640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68360" y="260280"/>
            <a:ext cx="828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9280" y="14400"/>
            <a:ext cx="8713800" cy="688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144880" y="0"/>
            <a:ext cx="5476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00000" y="260280"/>
            <a:ext cx="691200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5734080"/>
            <a:ext cx="5040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627120"/>
            <a:ext cx="9144000" cy="562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43280" y="2997360"/>
            <a:ext cx="4105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803240" y="0"/>
            <a:ext cx="54435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24000" y="260280"/>
            <a:ext cx="849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27280" y="6021360"/>
            <a:ext cx="381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5640" y="39600"/>
            <a:ext cx="7777080" cy="681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716360" y="6021360"/>
            <a:ext cx="144144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64000" y="4724280"/>
            <a:ext cx="360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017800" y="0"/>
            <a:ext cx="5148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51280" y="260280"/>
            <a:ext cx="108108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1268280"/>
            <a:ext cx="424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42840"/>
            <a:ext cx="8207280" cy="686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003640" y="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755640" y="4211640"/>
            <a:ext cx="3529080" cy="2646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24000" y="2421000"/>
            <a:ext cx="3311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5076720" y="4156200"/>
            <a:ext cx="3602160" cy="270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076720" y="3068640"/>
            <a:ext cx="374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0920" y="2637000"/>
            <a:ext cx="1800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44760" y="0"/>
            <a:ext cx="59878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95280" y="5950080"/>
            <a:ext cx="842472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6920" y="260280"/>
            <a:ext cx="7921800" cy="865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79280" y="144360"/>
            <a:ext cx="8964720" cy="67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2492280"/>
            <a:ext cx="3492360" cy="822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132000" y="1125360"/>
            <a:ext cx="5796000" cy="4673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940360" y="6021360"/>
            <a:ext cx="2808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24000" y="260280"/>
            <a:ext cx="820872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 u="sng">
                <a:solidFill>
                  <a:srgbClr val="ff0000"/>
                </a:solidFill>
                <a:uFillTx/>
                <a:latin typeface="Comic Sans MS"/>
              </a:rPr>
              <a:t>Déjame por un instante, sumergirme en la locura de los artistas. Olvidar las reglas que impone el hombre para no transgredir todo aquello que conocemos. No le temo a la aventura de vivir en un mundo surrealista porque mi espíritu, no conoce otra verdad que la que me eleva hasta las fronteras de lo imposible.</a:t>
            </a:r>
            <a:r>
              <a:rPr b="0" i="1" lang="es-E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i="1" lang="es-ES" sz="3200" spc="-1" strike="noStrike" u="sng">
                <a:solidFill>
                  <a:srgbClr val="ff0000"/>
                </a:solidFill>
                <a:uFillTx/>
                <a:latin typeface="Comic Sans MS"/>
              </a:rPr>
              <a:t>El día que deje de soñar, mándame flores blancas…</a:t>
            </a:r>
            <a:r>
              <a:rPr b="0" lang="es-ES" sz="3600" spc="-1" strike="noStrike">
                <a:solidFill>
                  <a:srgbClr val="ff0000"/>
                </a:solidFill>
                <a:latin typeface="Comic Sans MS"/>
              </a:rPr>
              <a:t>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5280" y="5950080"/>
            <a:ext cx="2808360" cy="90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0500"/>
                            </p:stCondLst>
                            <p:childTnLst>
                              <p:par>
                                <p:cTn id="3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0500"/>
                            </p:stCondLst>
                            <p:childTnLst>
                              <p:par>
                                <p:cTn id="4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0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4360" y="2852640"/>
            <a:ext cx="360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777080" cy="686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835280" y="549360"/>
            <a:ext cx="5329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55440"/>
            <a:ext cx="7848360" cy="680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292720" y="2637000"/>
            <a:ext cx="3527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4000" y="-1440"/>
            <a:ext cx="8569080" cy="688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79640" y="0"/>
            <a:ext cx="655308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32000" y="-531720"/>
            <a:ext cx="3600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1280" y="58680"/>
            <a:ext cx="7921440" cy="686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L 0 0.33295 E">
                                      <p:cBhvr>
                                        <p:cTn id="6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2708280"/>
            <a:ext cx="360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732040" y="0"/>
            <a:ext cx="41148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20:34:15Z</dcterms:created>
  <dc:creator>José Carlos</dc:creator>
  <dc:description/>
  <dc:language>en-US</dc:language>
  <cp:lastModifiedBy>Wolf</cp:lastModifiedBy>
  <dcterms:modified xsi:type="dcterms:W3CDTF">2010-01-22T13:10:45Z</dcterms:modified>
  <cp:revision>1</cp:revision>
  <dc:subject/>
  <dc:title>dali</dc:title>
</cp:coreProperties>
</file>