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Nicolau%20-%20All%20I%20ask%20of%20you%20(violino)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69C0-952D-4057-98AF-E0E28C832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7163-2A41-4E98-9E6F-C1BDC49C0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7682-D7E4-49EF-9CB4-6A57A969F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B90B-8545-466C-AD6A-15FB4B3F2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A539-3AC4-440C-ABB7-5D76DD3AB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4597-695F-49D4-AE07-B1960808D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2E2C-0736-404E-88E9-3D3DB926C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CAC2-4536-4274-8068-CA694C787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5ACC-524F-4170-9C02-D44F9723F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6FBF-09A6-4C4C-ACCC-7DC00756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2D5E-BC16-450A-B21D-E0AFAFC8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AA1F-4C2D-44ED-B761-E61439C54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12C0-68DE-4C6B-9FD6-DF88BB446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Nicolau%20-%20All%20I%20ask%20of%20you%20(violino)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hyperlink" Target="mailto:mimabadan@yahoo.com.br" TargetMode="External"/><Relationship Id="rId4" Type="http://schemas.openxmlformats.org/officeDocument/2006/relationships/hyperlink" Target="mailto:www.mimabadan.blogspot.com" TargetMode="External"/><Relationship Id="rId5" Type="http://schemas.openxmlformats.org/officeDocument/2006/relationships/hyperlink" Target="mailto:www.mimabadan.blogspot.com" TargetMode="External"/><Relationship Id="rId6" Type="http://schemas.openxmlformats.org/officeDocument/2006/relationships/hyperlink" Target="http://www.slideshare.net/mimabadan" TargetMode="Externa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85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6885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411280" y="981000"/>
            <a:ext cx="4248360" cy="20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Comic Sans MS"/>
              </a:rPr>
              <a:t>A massacrante felicidade dos ou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Comic Sans MS"/>
              </a:rPr>
              <a:t>Martha Medei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85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6885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197080" y="1058760"/>
            <a:ext cx="4751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ernando Pessoa também já se sentiu abafado pela perfeição alheia, e olha que na época em que ele escreveu estes versos não havia esta overdose de revistas que há hoje, vendendo um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undo de faz-de-conta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85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6885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276720" y="2205000"/>
            <a:ext cx="2879640" cy="39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Nesta era de exaltação de celebridades - reais e inventadas - fica difícil</a:t>
            </a:r>
            <a:br>
              <a:rPr sz="1800"/>
            </a:b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mesmo achar que a vida da gente tem graç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Mas t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Paz interior, amigos</a:t>
            </a:r>
            <a:br>
              <a:rPr sz="1800"/>
            </a:b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leais, nossas músicas, livros, fantasias, desilusões e recomeços, tudo isso</a:t>
            </a:r>
            <a:br>
              <a:rPr sz="1800"/>
            </a:b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vale ser incluído na nossa biograf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700360" y="5157720"/>
            <a:ext cx="396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Ou será que é tão divertido passar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dois dias na Ilha de Caras fotografando junto a todos os produtos dos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patrocinadore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85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6885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195640" y="620640"/>
            <a:ext cx="4751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Compensa passar a vida comendo alface para ter o corpo que</a:t>
            </a:r>
            <a:br>
              <a:rPr sz="1800"/>
            </a:b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a profissão de modelo exig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Será tão gratificante ter um paparazzo na sua cola cada vez que você sai de casa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Estarão mesmo todos realizando um</a:t>
            </a:r>
            <a:br>
              <a:rPr sz="1800"/>
            </a:b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milhão de coisas interessantes enquanto só você está sentada no sofá</a:t>
            </a:r>
            <a:br>
              <a:rPr sz="1800"/>
            </a:b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pintando as unhas do pé?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85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6885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203640" y="2349360"/>
            <a:ext cx="2879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avor não confundir uma vida sensacional com uma vida sensacionalis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elhores festas acontecem dentro do nosso próprio apartamento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556000" y="1628640"/>
            <a:ext cx="3960720" cy="3641400"/>
          </a:xfrm>
          <a:prstGeom prst="rect">
            <a:avLst/>
          </a:prstGeom>
          <a:solidFill>
            <a:srgbClr val="5450a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Comic Sans MS"/>
              </a:rPr>
              <a:t>FORMATAÇÃO: Mima (Wilma) Bad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 u="sng">
                <a:solidFill>
                  <a:srgbClr val="009999"/>
                </a:solidFill>
                <a:uFillTx/>
                <a:latin typeface="Comic Sans MS"/>
                <a:hlinkClick r:id="rId3"/>
              </a:rPr>
              <a:t>mimabadan@yahoo.com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Comic Sans MS"/>
              </a:rPr>
              <a:t>MÚSICA: All I ask of yo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Comic Sans MS"/>
              </a:rPr>
              <a:t>Execução: Nicolau (violin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Comic Sans MS"/>
              </a:rPr>
              <a:t>IMAGENS: Arquivo próp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Comic Sans MS"/>
              </a:rPr>
              <a:t>(Repasse com os devidos crédit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Comic Sans MS"/>
              </a:rPr>
              <a:t>BLOG:</a:t>
            </a:r>
            <a:r>
              <a:rPr b="0" lang="pt-BR" sz="1600" spc="-1" strike="noStrike" u="sng">
                <a:solidFill>
                  <a:srgbClr val="009999"/>
                </a:solidFill>
                <a:uFillTx/>
                <a:latin typeface="Comic Sans MS"/>
                <a:hlinkClick r:id="rId4"/>
              </a:rPr>
              <a:t> </a:t>
            </a:r>
            <a:r>
              <a:rPr b="0" lang="pt-BR" sz="1600" spc="-1" strike="noStrike" u="sng">
                <a:solidFill>
                  <a:srgbClr val="009999"/>
                </a:solidFill>
                <a:uFillTx/>
                <a:latin typeface="Comic Sans MS"/>
                <a:hlinkClick r:id="rId5"/>
              </a:rPr>
              <a:t>www.mimabadan.blogspo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Comic Sans MS"/>
              </a:rPr>
              <a:t>OUTROS PPSs. em: </a:t>
            </a:r>
            <a:r>
              <a:rPr b="0" lang="pt-BR" sz="1600" spc="-1" strike="noStrike" u="sng">
                <a:solidFill>
                  <a:srgbClr val="009999"/>
                </a:solidFill>
                <a:uFillTx/>
                <a:latin typeface="Comic Sans MS"/>
                <a:hlinkClick r:id="rId6"/>
              </a:rPr>
              <a:t>www.slideshare.net/mimabad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85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6885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059280" y="2343240"/>
            <a:ext cx="3097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Ao amadurecer, descobrimos que a grama do vizinho não é mais verde</a:t>
            </a: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coisíssima nenhuma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Estamos todos no mesmo bar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Há no ar um certo queixume sem razões muito clar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635280" y="692280"/>
            <a:ext cx="1800360" cy="57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Comic Sans MS"/>
              </a:rPr>
              <a:t>Converso com mulheres</a:t>
            </a:r>
            <a:br>
              <a:rPr sz="1800"/>
            </a:br>
            <a:r>
              <a:rPr b="0" lang="pt-BR" sz="1800" spc="-1" strike="noStrike">
                <a:solidFill>
                  <a:srgbClr val="ffff00"/>
                </a:solidFill>
                <a:latin typeface="Comic Sans MS"/>
              </a:rPr>
              <a:t>que estão entre os 40 e 50 anos, todas com profissão, marido, filhos,</a:t>
            </a:r>
            <a:br>
              <a:rPr sz="1800"/>
            </a:br>
            <a:r>
              <a:rPr b="0" lang="pt-BR" sz="1800" spc="-1" strike="noStrike">
                <a:solidFill>
                  <a:srgbClr val="ffff00"/>
                </a:solidFill>
                <a:latin typeface="Comic Sans MS"/>
              </a:rPr>
              <a:t>saúde, e ainda assim elas trazem dentro delas um não-sei-o-quê perturbador,</a:t>
            </a:r>
            <a:br>
              <a:rPr sz="1800"/>
            </a:br>
            <a:r>
              <a:rPr b="0" lang="pt-BR" sz="1800" spc="-1" strike="noStrike">
                <a:solidFill>
                  <a:srgbClr val="ffff00"/>
                </a:solidFill>
                <a:latin typeface="Comic Sans MS"/>
              </a:rPr>
              <a:t>algo que as incomoda, mesmo estando tudo b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De onde vem iss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85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6885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547640" y="476280"/>
            <a:ext cx="597708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Anos atrás, a cantora Marina Lima compôs com o seu irmão, o poeta Antonio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Cícero, uma música que dizi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"Eu espero/ acontecimentos/ só que quando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anoitece/ é festa no outro apartamento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Passei minha adolescência com esta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sensação: a de que algo muito animado estava acontecendo em algum lugar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para o qual eu não tinha convi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85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6885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03640" y="1989000"/>
            <a:ext cx="2879640" cy="42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É uma das características da juventude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onsiderar-se deslocado e impedido de ser feliz como os outros são - ou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parentam s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ó que chega uma hora em que é preciso deixar de ficar tão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ligada na grama do vizinh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780000" y="1413000"/>
            <a:ext cx="165564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As festas em outros apartamentos são fruto da nossa imaginação, que é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infectada por falsos holofotes, falsos sorrisos e falsas notícias.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85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6885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908000" y="836640"/>
            <a:ext cx="5257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Os notáveis alardeiam muito suas vitórias, mas falam pouco das suas angústias, revelam pouco suas aflições,                                 não dão bandeira das suas fraquezas, então fica parecendo que todos estão comemorando grandes paixões e fortunas, quando na verdade a festa lá fora                       não está tão animada ass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85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6885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132000" y="2060640"/>
            <a:ext cx="3095640" cy="44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Ao amadurecer, descobrimos que a grama do vizinho não é mais verde</a:t>
            </a:r>
            <a:br>
              <a:rPr sz="1800"/>
            </a:b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coisíssima nenhum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Estamos todos no mesmo barco, com motivos pra dançar</a:t>
            </a:r>
            <a:br>
              <a:rPr sz="1800"/>
            </a:b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pela sala e também motivos pra se refugiar no escuro, alternadame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Só</a:t>
            </a:r>
            <a:br>
              <a:rPr sz="1800"/>
            </a:b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que os motivos pra se refugiar no escuro raramente são divulgad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708360" y="836640"/>
            <a:ext cx="1728720" cy="54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Pra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onsumo externo, todos são belos, sexy’s, lúcidos, íntegros, ricos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dut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"Nunca conheci quem tivesse levado porrada; todos os meus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conhecidos têm sido campeões em tudo".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21:59:15Z</dcterms:created>
  <dc:creator>mima&amp;familia</dc:creator>
  <dc:description/>
  <dc:language>en-US</dc:language>
  <cp:lastModifiedBy>mima&amp;familia</cp:lastModifiedBy>
  <dcterms:modified xsi:type="dcterms:W3CDTF">2010-01-15T22:50:08Z</dcterms:modified>
  <cp:revision>4</cp:revision>
  <dc:subject/>
  <dc:title>Slide 1</dc:title>
</cp:coreProperties>
</file>