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Nicolau%20-%20All%20I%20ask%20of%20you%20(violino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B83-E2ED-4D71-BC49-91AB26B0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751-6669-41C0-B9E8-26622B6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A97-E3C0-450D-BF4C-4392C27E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CA7-A310-46A4-8B61-6EC408C7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D73-0CA8-4661-B1E0-70D0F6E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FBE-1E4F-48AC-AA25-9A64F49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FF9-7813-44FC-9B0F-A1C35CA1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063-C7E7-44F6-81B2-BF40192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FC0-EDD3-40C0-AFDA-1E1D7611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10A-C2C5-486E-A595-7C5B864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75F-0DC8-4384-9505-A952F43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D76-A428-43E8-8477-0D280B2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0A0-0D5F-4287-B20E-C6E193557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Nicolau%20-%20All%20I%20ask%20of%20you%20(violino)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mailto:mimabadan@yahoo.com.br" TargetMode="External"/><Relationship Id="rId4" Type="http://schemas.openxmlformats.org/officeDocument/2006/relationships/hyperlink" Target="mailto:www.mimabadan.blogspot.com" TargetMode="External"/><Relationship Id="rId5" Type="http://schemas.openxmlformats.org/officeDocument/2006/relationships/hyperlink" Target="mailto:www.mimabadan.blogspot.com" TargetMode="External"/><Relationship Id="rId6" Type="http://schemas.openxmlformats.org/officeDocument/2006/relationships/hyperlink" Target="http://www.slideshare.net/mimabadan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11280" y="981000"/>
            <a:ext cx="42483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omic Sans MS"/>
              </a:rPr>
              <a:t>A massacrante felicidade dos ou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Comic Sans MS"/>
              </a:rPr>
              <a:t>Martha Med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97080" y="1058760"/>
            <a:ext cx="4751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ernando Pessoa também já se sentiu abafado pela perfeição alheia, e olha que na época em que ele escreveu estes versos não havia esta overdose de revistas que há hoje, vendendo u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ndo de faz-de-conta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76720" y="2205000"/>
            <a:ext cx="28796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Nesta era de exaltação de celebridades - reais e inventadas - fica difícil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esmo achar que a vida da gente tem graç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as 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az interior, amigos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leais, nossas músicas, livros, fantasias, desilusões e recomeços, tudo iss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vale ser incluído na nossa biograf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515772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Ou será que é tão divertido passar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ois dias na Ilha de Caras fotografando junto a todos os produtos do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atrocinador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20640"/>
            <a:ext cx="47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ompensa passar a vida comendo alface para ter o corpo qu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 profissão de modelo exig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erá tão gratificante ter um paparazzo na sua cola cada vez que você sai de cas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Estarão mesmo todos realizando um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milhão de coisas interessantes enquanto só você está sentada no sofá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intando as unhas do pé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3640" y="2349360"/>
            <a:ext cx="287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avor não confundir uma vida sensacional com uma vida sensacional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elhores festas acontecem dentro do nosso próprio apartamento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56000" y="1628640"/>
            <a:ext cx="3960720" cy="3641400"/>
          </a:xfrm>
          <a:prstGeom prst="rect">
            <a:avLst/>
          </a:prstGeom>
          <a:solidFill>
            <a:srgbClr val="5450a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FORMATAÇÃO: Mima (Wilma) B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mimabadan@yahoo.com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MÚSICA: All I ask of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Execução: Nicolau (violi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IMAGENS: Arquivo próp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(Repasse com os devidos crédi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BLOG: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www.mimabadan.blogsp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Comic Sans MS"/>
              </a:rPr>
              <a:t>OUTROS PPSs. em: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www.slideshare.net/mimaba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59280" y="2343240"/>
            <a:ext cx="309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Ao amadurecer, descobrimos que a grama do vizinho não é mais verde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oisíssima nenhuma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Estamos todos no mesmo bar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Há no ar um certo queixume sem razões muito cla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692280"/>
            <a:ext cx="180036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Converso com mulheres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que estão entre os 40 e 50 anos, todas com profissão, marido, filhos,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saúde, e ainda assim elas trazem dentro delas um não-sei-o-quê perturbador,</a:t>
            </a:r>
            <a:br>
              <a:rPr sz="1800"/>
            </a:br>
            <a:r>
              <a:rPr b="0" lang="pt-BR" sz="1800" spc="-1" strike="noStrike">
                <a:solidFill>
                  <a:srgbClr val="ffff00"/>
                </a:solidFill>
                <a:latin typeface="Comic Sans MS"/>
              </a:rPr>
              <a:t>algo que as incomoda, mesmo estando tudo b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e onde vem is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476280"/>
            <a:ext cx="5977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nos atrás, a cantora Marina Lima compôs com o seu irmão, o poeta Antoni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ícero, uma música que diz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"Eu espero/ acontecimentos/ só que quando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noitece/ é festa no outro apartamento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assei minha adolescência com esta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ensação: a de que algo muito animado estava acontecendo em algum lugar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ara o qual eu não tinha conv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3640" y="1989000"/>
            <a:ext cx="28796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É uma das características da juventude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ar-se deslocado e impedido de ser feliz como os outros são - o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parentam s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ó que chega uma hora em que é preciso deixar de ficar tã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igada na grama do vizin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80000" y="1413000"/>
            <a:ext cx="16556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s festas em outros apartamentos são fruto da nossa imaginação, que é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fectada por falsos holofotes, falsos sorrisos e falsas notícias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8000" y="836640"/>
            <a:ext cx="525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s notáveis alardeiam muito suas vitórias, mas falam pouco das suas angústias, revelam pouco suas aflições,                                 não dão bandeira das suas fraquezas, então fica parecendo que todos estão comemorando grandes paixões e fortunas, quando na verdade a festa lá fora                       não está tão animada ass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132000" y="2060640"/>
            <a:ext cx="309564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o amadurecer, descobrimos que a grama do vizinho não é mais ver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oisíssima nenhu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Estamos todos no mesmo barco, com motivos pra dançar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pela sala e também motivos pra se refugiar no escuro, alternad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ó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que os motivos pra se refugiar no escuro raramente são divulg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08360" y="836640"/>
            <a:ext cx="17287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sumo externo, todos são belos, sexy’s, lúcidos, íntegros, ricos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du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"Nunca conheci quem tivesse levado porrada; todos os meu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conhecidos têm sido campeões em tudo"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21:59:15Z</dcterms:created>
  <dc:creator>mima&amp;familia</dc:creator>
  <dc:description/>
  <dc:language>en-US</dc:language>
  <cp:lastModifiedBy>mima&amp;familia</cp:lastModifiedBy>
  <dcterms:modified xsi:type="dcterms:W3CDTF">2010-01-15T22:50:08Z</dcterms:modified>
  <cp:revision>4</cp:revision>
  <dc:subject/>
  <dc:title>Slide 1</dc:title>
</cp:coreProperties>
</file>