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949-DDC8-4382-900C-65208E7A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DCE-F855-413D-B48C-113F897D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4E72-E93A-4C44-B5C5-0F917D38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BB7-A033-4A14-BD01-6B48AB47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605-C1E4-4C9E-9D34-5896855F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7A0-65E9-4BEC-AA80-5D915556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CBE-9A24-42C9-B1AD-264FE0E1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890-61A9-474B-B78F-A5FA8067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978-46AF-4B6B-90B4-8696D055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710-6B6A-4C67-AB6B-975E8EB7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811-B626-4B4F-91B0-B8F0063E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199-DA3D-4943-95D1-BAF03945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4582-802C-4AD5-AE0F-EC27CF983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PPS-IL-DIVA-unchained%20melody%20%5Bwww.pctorrent.com%5D.wav" TargetMode="External"/><Relationship Id="rId3" Type="http://schemas.microsoft.com/office/2007/relationships/media" Target="file:///tmp/home/.config/libreoffice/4/user/gallery/PPS-IL-DIVA-unchained%20melody%20%5Bwww.pctorrent.com%5D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2060640"/>
            <a:ext cx="619128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askerville Old Face"/>
              </a:rPr>
              <a:t>UN  PARQUE  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askerville Old Face"/>
              </a:rPr>
              <a:t>MONTRE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7389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32360" y="6237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be0e3"/>
                </a:solidFill>
                <a:latin typeface="Arial"/>
              </a:rPr>
              <a:t>AUTOMA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75280" cy="583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566640"/>
            <a:ext cx="7559640" cy="5668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488360" cy="5616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705800" cy="578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561080" cy="5672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67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493560"/>
            <a:ext cx="7344000" cy="5784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848360" cy="588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559640" cy="5670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777440" cy="5851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71640" y="2205000"/>
            <a:ext cx="7272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bbe0e3"/>
                </a:solidFill>
                <a:latin typeface="Arial"/>
              </a:rPr>
              <a:t>Espero que hayas disfrutado con las imágenes    y la música de IL DIVO,                                (Unchained Melod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4437000"/>
            <a:ext cx="648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Noviembre 200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000"/>
                            </p:stCondLst>
                            <p:childTnLst>
                              <p:par>
                                <p:cTn id="2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651640" y="4724280"/>
            <a:ext cx="30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bbe0e3"/>
                </a:solidFill>
                <a:latin typeface="Cooper Black"/>
              </a:rPr>
              <a:t>FI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672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67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672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5672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488000" cy="5724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489800" cy="5618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632720" cy="5724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40:57Z</dcterms:created>
  <dc:creator>F.A.E.</dc:creator>
  <dc:description/>
  <dc:language>en-US</dc:language>
  <cp:lastModifiedBy>F.A.E.</cp:lastModifiedBy>
  <dcterms:modified xsi:type="dcterms:W3CDTF">2007-11-07T17:35:28Z</dcterms:modified>
  <cp:revision>4</cp:revision>
  <dc:subject/>
  <dc:title>Diapositiva 1</dc:title>
</cp:coreProperties>
</file>