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311-0DE6-4CC1-8CC2-7C12B908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6FC-5A54-4FE7-9765-3A8C4A37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10F-BB29-4F66-B00C-BE829A57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CEF-5F9B-47D0-B721-222A8834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379-CEAA-410F-9059-E4CAB4E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C98-3DB4-4C7E-8006-B5C43286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B60-F0C2-47E4-9B9E-8C961C75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707-86D7-4276-A42E-F8373B2E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5AB-673C-422B-9E20-C2724B56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EBB-39E5-4531-847E-90B4845F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AC2-C166-4CDB-B422-427671BF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F71-A8CD-4796-BCBC-C379CD88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50C-4098-4D08-A8C0-8B61F1F6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PPS-IL-DIVA-unchained%20melody%20%5Bwww.pctorrent.com%5D.wav" TargetMode="External"/><Relationship Id="rId3" Type="http://schemas.microsoft.com/office/2007/relationships/media" Target="file:///tmp/home/.config/libreoffice/4/user/gallery/PPS-IL-DIVA-unchained%20melody%20%5Bwww.pctorrent.com%5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2060640"/>
            <a:ext cx="619128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UN  PARQUE  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askerville Old Face"/>
              </a:rPr>
              <a:t>MONTRE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7389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2360" y="6237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be0e3"/>
                </a:solidFill>
                <a:latin typeface="Arial"/>
              </a:rPr>
              <a:t>AUTOMA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566640"/>
            <a:ext cx="7559640" cy="566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78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5672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493560"/>
            <a:ext cx="7344000" cy="5784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848360" cy="588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559640" cy="567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5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71640" y="2205000"/>
            <a:ext cx="7272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bbe0e3"/>
                </a:solidFill>
                <a:latin typeface="Arial"/>
              </a:rPr>
              <a:t>Espero que hayas disfrutado con las imágenes    y la música de IL DIVO,                                (Unchained Melod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4437000"/>
            <a:ext cx="648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Noviembre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651640" y="4724280"/>
            <a:ext cx="30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be0e3"/>
                </a:solidFill>
                <a:latin typeface="Cooper Black"/>
              </a:rPr>
              <a:t>F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672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88000" cy="572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489800" cy="5618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0:57Z</dcterms:created>
  <dc:creator>F.A.E.</dc:creator>
  <dc:description/>
  <dc:language>en-US</dc:language>
  <cp:lastModifiedBy>F.A.E.</cp:lastModifiedBy>
  <dcterms:modified xsi:type="dcterms:W3CDTF">2007-11-07T17:35:28Z</dcterms:modified>
  <cp:revision>4</cp:revision>
  <dc:subject/>
  <dc:title>Diapositiva 1</dc:title>
</cp:coreProperties>
</file>