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jpeg" ContentType="image/jpeg"/>
  <Override PartName="/ppt/media/salvatore_adamo_f_comme_femme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ACE8-180C-483F-A07D-876D8CF9FD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mailto:agropesc@uol.com.br" TargetMode="External"/><Relationship Id="rId2" Type="http://schemas.openxmlformats.org/officeDocument/2006/relationships/hyperlink" Target="mailto:tata.tlc@uol.com.br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----- Original Message ----- </a:t>
            </a: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gropecuária Santa Cecília Ltd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t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Tuesday, November 23, 2004 8:55 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Oi, amor, bom di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ver...tenho algumas coisinhas a dizer a respeit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ois quilos em você somente são excesso de gostosur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Li atentamente, reli e tudo mais...Antes que argumente com seu *orgulho*, leia e releia, ok 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everíamos nos ver antes disso tudo...Por um motivo simples... Suponha que a gente seja o que cada um quer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, não argumente dizendo que sabe o que irei dizer...Não será justo, isso acontecendo, você me manter afastado desses problemas todos...Da mesma forma que não gostaria que eu fizesse isso se a situação fosse invers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sentar, ver o que somos, tudo mais... Juro que se você não gostar de mim, meto a viola no saco e deixo você se virar sozinha (sei que é capaz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Mas, se dermos certo, porque eu não posso ajudar ??? Não sou seu *gerente*, nem seu *ex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 sou machista, jamais argumentaria isso a meu favor, em circunstância algum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Por favor, pense... É uma carga enorme para carregar sozinha, mesmo porque sua mãe ainda está aí e precisa de você... Não seria *dado*... Ficará a seu critério como irá repor (pode pagar a viagem de lua de mel - risos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hê, tô falando sério, viu ? Brinco para aliviar, mas imagino o que você deve estar passand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E o babaca aqui, pentelhando você por não saber... Estou péssimo com isso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om.... Degluta isso tudo...reflit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omo dizem os americanos, *merdas acontecem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eij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45A-E87E-4421-B2A2-F42159CF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7BA-56F8-4E2A-888E-253F5054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7ED-9A6C-47A7-BFFD-DC9A2BF4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6EF-A2DE-40C0-B58E-08877C23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17F-FE4D-4CB0-912E-5F3F9C20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394-C15B-445A-B3B5-72C4658E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F9E-3B6B-4874-80D2-0A261BEF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892-5F06-4D28-ACD1-5CBF5F3D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32E-044C-4029-8D9C-FF36A78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6E6-CD91-4B43-BD11-93B729DC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A89-4BD4-4196-8593-163A79D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BF7-D233-4FC3-814A-F084E3C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923-306B-4170-8786-533A1D3F3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lvatore_adamo_f_comme_fem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2730600" cy="361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08600" y="189000"/>
            <a:ext cx="64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9900"/>
                </a:solidFill>
                <a:latin typeface="Calligraph421 BT"/>
              </a:rPr>
              <a:t>PINTURAS DE STEVE HAN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9900"/>
                </a:solidFill>
                <a:latin typeface="Calligraph421 BT"/>
              </a:rPr>
              <a:t>“</a:t>
            </a:r>
            <a:r>
              <a:rPr b="1" lang="en-US" sz="3600" spc="-1" strike="noStrike">
                <a:solidFill>
                  <a:srgbClr val="cd9900"/>
                </a:solidFill>
                <a:latin typeface="Calligraph421 BT"/>
              </a:rPr>
              <a:t>O mestre da Aquarel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080" y="6381720"/>
            <a:ext cx="83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d9900"/>
                </a:solidFill>
                <a:latin typeface="BernhardMod BT"/>
              </a:rPr>
              <a:t>Steve Hanks nasceu em San Diego, California, Estados Unidos, em 194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084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9900"/>
                </a:solidFill>
                <a:latin typeface="Calligraph421 BT"/>
              </a:rPr>
              <a:t>“</a:t>
            </a:r>
            <a:r>
              <a:rPr b="1" lang="en-US" sz="1800" spc="-1" strike="noStrike">
                <a:solidFill>
                  <a:srgbClr val="cd9900"/>
                </a:solidFill>
                <a:latin typeface="Calligraph421 BT"/>
              </a:rPr>
              <a:t>A arte vem de um profundo senso de direção interior. Ela começa com uma reavaliação de sua própria vida, de uma busca pela fonte dos impulsos, o mistério de tudo. Eu me julgo um realista emocional. Emoção é o que eu quero retratar. O realismo é apenas a minha maneira de fazê-lo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09640" y="144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96880"/>
            <a:ext cx="914400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0040" y="0"/>
            <a:ext cx="2925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09760" y="0"/>
            <a:ext cx="45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404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924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64200" y="553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327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92480" y="144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0880" y="0"/>
            <a:ext cx="370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81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356000" y="6165720"/>
            <a:ext cx="79236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i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47800"/>
            <a:ext cx="914400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44000" cy="60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35240" y="1440"/>
            <a:ext cx="4675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4:59Z</dcterms:created>
  <dc:creator>Aura da Lua</dc:creator>
  <dc:description/>
  <dc:language>en-US</dc:language>
  <cp:lastModifiedBy>JULIO ARTUSI</cp:lastModifiedBy>
  <dcterms:modified xsi:type="dcterms:W3CDTF">2009-12-02T20:18:36Z</dcterms:modified>
  <cp:revision>83</cp:revision>
  <dc:subject/>
  <dc:title>Pinturas de Steve Hanks</dc:title>
</cp:coreProperties>
</file>