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9.jpeg" ContentType="image/jpeg"/>
  <Override PartName="/ppt/media/salvatore_adamo_f_comme_femme.wav" ContentType="audio/x-wav"/>
  <Override PartName="/ppt/media/image17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EA72-CD9F-4A66-98AC-15DA86F32F8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mailto:agropesc@uol.com.br" TargetMode="External"/><Relationship Id="rId2" Type="http://schemas.openxmlformats.org/officeDocument/2006/relationships/hyperlink" Target="mailto:tata.tlc@uol.com.br" TargetMode="External"/><Relationship Id="rId3" Type="http://schemas.openxmlformats.org/officeDocument/2006/relationships/slide" Target="../slides/slide1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----- Original Message ----- </a:t>
            </a: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From: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9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Agropecuária Santa Cecília Ltda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To: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9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Tata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Sent: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 Tuesday, November 23, 2004 8:55 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Oi, amor, bom dia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Vamos ver...tenho algumas coisinhas a dizer a respeito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Dois quilos em você somente são excesso de gostosura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Li atentamente, reli e tudo mais...Antes que argumente com seu *orgulho*, leia e releia, ok 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Deveríamos nos ver antes disso tudo...Por um motivo simples... Suponha que a gente seja o que cada um quer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Não, não argumente dizendo que sabe o que irei dizer...Não será justo, isso acontecendo, você me manter afastado desses problemas todos...Da mesma forma que não gostaria que eu fizesse isso se a situação fosse inversa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Vamos sentar, ver o que somos, tudo mais... Juro que se você não gostar de mim, meto a viola no saco e deixo você se virar sozinha (sei que é capaz)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Mas, se dermos certo, porque eu não posso ajudar ??? Não sou seu *gerente*, nem seu *ex*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Não sou machista, jamais argumentaria isso a meu favor, em circunstância alguma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Por favor, pense... É uma carga enorme para carregar sozinha, mesmo porque sua mãe ainda está aí e precisa de você... Não seria *dado*... Ficará a seu critério como irá repor (pode pagar a viagem de lua de mel - risos)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Thê, tô falando sério, viu ? Brinco para aliviar, mas imagino o que você deve estar passando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E o babaca aqui, pentelhando você por não saber... Estou péssimo com isso 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Bom.... Degluta isso tudo...reflita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Como dizem os americanos, *merdas acontecem*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Beij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BEF-2FD3-45C4-A3EA-22C8E034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9389-2DA5-461A-9C95-0C7E5A6E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A147-416E-475E-BD7A-8EB83674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7446-4E17-4C79-BA8D-638E4990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BB91-DA4E-462C-9535-F2A21BA0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552-8887-494E-907E-E4FD32B1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6AAE-00D8-49E6-B197-D22FCAF8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37EA-ACC0-4CC9-8254-273DC040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585-7A84-42DC-8189-D8288F52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DA33-FCB7-4719-A9F8-AE976BDD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122C-DF7B-4E53-9528-7F7DC9E0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59E4-24EA-4E0C-91B1-A5C63C97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1FED-CB60-42B5-A2DF-A2B8D5A6D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alvatore_adamo_f_comme_femm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03640" y="1413000"/>
            <a:ext cx="2730600" cy="3616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08600" y="189000"/>
            <a:ext cx="64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d9900"/>
                </a:solidFill>
                <a:latin typeface="Calligraph421 BT"/>
              </a:rPr>
              <a:t>PINTURAS DE STEVE HANK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d9900"/>
                </a:solidFill>
                <a:latin typeface="Calligraph421 BT"/>
              </a:rPr>
              <a:t>“</a:t>
            </a:r>
            <a:r>
              <a:rPr b="1" lang="en-US" sz="3600" spc="-1" strike="noStrike">
                <a:solidFill>
                  <a:srgbClr val="cd9900"/>
                </a:solidFill>
                <a:latin typeface="Calligraph421 BT"/>
              </a:rPr>
              <a:t>O mestre da Aquarel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080" y="6381720"/>
            <a:ext cx="83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d9900"/>
                </a:solidFill>
                <a:latin typeface="BernhardMod BT"/>
              </a:rPr>
              <a:t>Steve Hanks nasceu em San Diego, California, Estados Unidos, em 194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508464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9900"/>
                </a:solidFill>
                <a:latin typeface="Calligraph421 BT"/>
              </a:rPr>
              <a:t>“</a:t>
            </a:r>
            <a:r>
              <a:rPr b="1" lang="en-US" sz="1800" spc="-1" strike="noStrike">
                <a:solidFill>
                  <a:srgbClr val="cd9900"/>
                </a:solidFill>
                <a:latin typeface="Calligraph421 BT"/>
              </a:rPr>
              <a:t>A arte vem de um profundo senso de direção interior. Ela começa com uma reavaliação de sua própria vida, de uma busca pela fonte dos impulsos, o mistério de tudo. Eu me julgo um realista emocional. Emoção é o que eu quero retratar. O realismo é apenas a minha maneira de fazê-lo.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1596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5396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09640" y="1440"/>
            <a:ext cx="5726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496880"/>
            <a:ext cx="9144000" cy="38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10040" y="0"/>
            <a:ext cx="2925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825480"/>
            <a:ext cx="914400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14640" y="0"/>
            <a:ext cx="491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54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09760" y="0"/>
            <a:ext cx="4525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37960"/>
            <a:ext cx="9144000" cy="638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761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622440"/>
            <a:ext cx="914400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624040" y="0"/>
            <a:ext cx="3897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92480" y="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64200" y="553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46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82840" y="0"/>
            <a:ext cx="4378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06800" y="0"/>
            <a:ext cx="4732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92480" y="144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20880" y="0"/>
            <a:ext cx="370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890640"/>
            <a:ext cx="9144000" cy="5081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356000" y="6165720"/>
            <a:ext cx="792360" cy="5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i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847800"/>
            <a:ext cx="9144000" cy="51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17600"/>
            <a:ext cx="9144000" cy="60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35240" y="1440"/>
            <a:ext cx="4675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988920"/>
            <a:ext cx="9144000" cy="48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871560"/>
            <a:ext cx="9144000" cy="51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693720"/>
            <a:ext cx="9144000" cy="547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2:04:59Z</dcterms:created>
  <dc:creator>Aura da Lua</dc:creator>
  <dc:description/>
  <dc:language>en-US</dc:language>
  <cp:lastModifiedBy>JULIO ARTUSI</cp:lastModifiedBy>
  <dcterms:modified xsi:type="dcterms:W3CDTF">2009-12-02T20:18:36Z</dcterms:modified>
  <cp:revision>83</cp:revision>
  <dc:subject/>
  <dc:title>Pinturas de Steve Hanks</dc:title>
</cp:coreProperties>
</file>