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Presentaci%C3%B3n%20dram%C3%A1tica.wav" ContentType="audio/x-wav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46F0-2F0D-4556-8E3D-FAAC52C55215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BA1D-E3F8-4179-A178-6079B8DB1B96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2706-EB1B-42F6-918E-B278E106ACC1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2F81-1FAF-4A66-A66A-509116234CDF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2E54-EB65-43F1-A8EE-48C4D69DD278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6AC3-9403-443C-8646-2897E68B4B75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31A8-4417-4FEA-9096-FD62F2981289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B581-722F-44F3-A1FC-0E85C372ECC4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29FE-25A4-45E1-A02A-7A45458BDC57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7110-38E0-4696-BCDB-543C0F61BD42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6702-E676-4575-8FC7-802EA2002F65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9D88-6F6B-4FDB-AD7A-D313EE1F3180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F20A-A6B6-4CEE-8AFF-0E3A602FD07E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D6F2-CC20-43A0-839C-9328FE828FB9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9CD8-5B0A-4653-BB64-FC5453B3F4FD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CF8-D427-478B-87D7-9C71FA0F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E79-D0BE-459F-8850-F49FB24B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7AD-B36F-4C07-9D4F-7662B982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D7D-93B8-4E8A-AD57-CA5BD4C4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5E9-8E13-4ED3-8CAB-D56E9E7D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17F-DF23-4075-B484-249558D8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B0A-3425-4970-978F-99B2CD98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5C9-A3F2-4145-A792-9E42DB36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DF3-AC62-4D20-9404-F7116061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3A5-4D33-46F3-BF2A-A78BEF74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CDF-DA7E-45F6-9961-99AD74CB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E1C-1E2B-4B9C-B28E-D3D704C7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C2AA-4756-412C-8268-1E0C1DC73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esentaci&#243;n%20dram&#225;tic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4.bp.blogspot.com/_1E-ebc1qY5w/SjK1eBtnpiI/AAAAAAAAGFY/e5wCf18IoRE/s1600-h/seou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4.bp.blogspot.com/_1E-ebc1qY5w/SjKzz_9sQ4I/AAAAAAAAGE4/ALzYA4acz3c/s1600-h/delhi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1"/>
          <p:cNvSpPr/>
          <p:nvPr/>
        </p:nvSpPr>
        <p:spPr>
          <a:xfrm>
            <a:off x="1857240" y="5643720"/>
            <a:ext cx="671544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¿Les gustaría saber cuáles son?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PULSEN EL RAT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WordArt 22"/>
          <p:cNvSpPr txBox="1"/>
          <p:nvPr/>
        </p:nvSpPr>
        <p:spPr>
          <a:xfrm>
            <a:off x="228600" y="304920"/>
            <a:ext cx="871524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Las Doce Ciudades más Grandes del Mundo "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3410280" y="3124080"/>
            <a:ext cx="4758840" cy="764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PRESENTAMOS..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25"/>
          <p:cNvSpPr/>
          <p:nvPr/>
        </p:nvSpPr>
        <p:spPr>
          <a:xfrm>
            <a:off x="4002120" y="2514600"/>
            <a:ext cx="4560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ara su conocimi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  <p:sndAc>
      <p:stSnd>
        <p:snd r:embed="rId2" name="Presentaci%C3%B3n%20dram%C3%A1tic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BLOGGER_PHOTO_ID_5346525711889783714" descr="http://1.bp.blogspot.com/_1E-ebc1qY5w/SjKszs-u26I/AAAAAAAAGDo/payusB5eeok/s400/los-angeli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0" y="214200"/>
            <a:ext cx="4786200" cy="703800"/>
          </a:xfrm>
          <a:prstGeom prst="rect">
            <a:avLst/>
          </a:prstGeom>
          <a:solidFill>
            <a:srgbClr val="dddddd">
              <a:alpha val="50000"/>
            </a:srgbClr>
          </a:solidFill>
          <a:ln w="19080">
            <a:solidFill>
              <a:srgbClr val="00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Número NUEVE es Los Angeles, US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con 18,000,000 habitan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873720" y="228600"/>
            <a:ext cx="72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úmero DIEZ es Shangai, China con 17,900,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68580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Rounded MT Bold"/>
              </a:rPr>
              <a:t>Como país, China tiene 1,300 millones de habitantes,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Rounded MT Bold"/>
              </a:rPr>
              <a:t>la misma población que en 1939 </a:t>
            </a:r>
            <a:r>
              <a:rPr b="1" i="1" lang="es-ES" sz="2000" spc="-1" strike="noStrike">
                <a:solidFill>
                  <a:srgbClr val="cc3300"/>
                </a:solidFill>
                <a:latin typeface="Arial Rounded MT Bold"/>
              </a:rPr>
              <a:t>tenía</a:t>
            </a:r>
            <a:r>
              <a:rPr b="1" lang="es-ES" sz="2000" spc="-1" strike="noStrike">
                <a:solidFill>
                  <a:srgbClr val="cc3300"/>
                </a:solidFill>
                <a:latin typeface="Arial Rounded MT Bol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3300"/>
                </a:solidFill>
                <a:latin typeface="Arial Rounded MT Bold"/>
              </a:rPr>
              <a:t>                 </a:t>
            </a:r>
            <a:r>
              <a:rPr b="1" i="1" lang="es-ES" sz="2400" spc="-1" strike="noStrike">
                <a:solidFill>
                  <a:srgbClr val="cc3300"/>
                </a:solidFill>
                <a:latin typeface="Arial Rounded MT Bold"/>
              </a:rPr>
              <a:t>todo el MUN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BLOGGER_PHOTO_ID_5346523663856863058" descr="http://2.bp.blogspot.com/_1E-ebc1qY5w/SjKq8fdoh1I/AAAAAAAAGDI/-ejRDj76IgY/s400/osak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26"/>
          <p:cNvSpPr/>
          <p:nvPr/>
        </p:nvSpPr>
        <p:spPr>
          <a:xfrm>
            <a:off x="0" y="142920"/>
            <a:ext cx="48578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número ONCE es Osaca, Jap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on 16,700,000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42920" y="428760"/>
            <a:ext cx="86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úmero DOCE es Calcuta, India con 16,000,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in" orient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57200" y="228600"/>
            <a:ext cx="8686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ffff"/>
                </a:solidFill>
                <a:latin typeface="Arial"/>
              </a:rPr>
              <a:t>Hacemos ahora aquí algunas observaciones importantes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 Ninguna ciudad europea figura en la lista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990720" y="5670720"/>
            <a:ext cx="7924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Veamos ahora algunos aspectos de las condiciones en que se vive en las grandes ciudades, sobre todo en las asiáticas..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slide0026_image010"/>
          <p:cNvPicPr/>
          <p:nvPr/>
        </p:nvPicPr>
        <p:blipFill>
          <a:blip r:embed="rId2"/>
          <a:stretch/>
        </p:blipFill>
        <p:spPr>
          <a:xfrm>
            <a:off x="4419720" y="228600"/>
            <a:ext cx="4495680" cy="3230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77" name="Picture 4" descr="slide0004_image009"/>
          <p:cNvPicPr/>
          <p:nvPr/>
        </p:nvPicPr>
        <p:blipFill>
          <a:blip r:embed="rId3"/>
          <a:stretch/>
        </p:blipFill>
        <p:spPr>
          <a:xfrm>
            <a:off x="228600" y="3505320"/>
            <a:ext cx="4038480" cy="3143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78" name="Picture 5" descr="slide0022_image006"/>
          <p:cNvPicPr/>
          <p:nvPr/>
        </p:nvPicPr>
        <p:blipFill>
          <a:blip r:embed="rId4"/>
          <a:stretch/>
        </p:blipFill>
        <p:spPr>
          <a:xfrm>
            <a:off x="4495680" y="3962520"/>
            <a:ext cx="4419720" cy="272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9" name="Text Box 7"/>
          <p:cNvSpPr/>
          <p:nvPr/>
        </p:nvSpPr>
        <p:spPr>
          <a:xfrm>
            <a:off x="152280" y="297180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Los transportes y las unidades habita-cionales hacen que la gente se sienta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4881960" y="3429000"/>
            <a:ext cx="347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comprimida, amontonada, reducida,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ahogada en un pequeño espacio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Picture 9" descr="slide0027_image012"/>
          <p:cNvPicPr/>
          <p:nvPr/>
        </p:nvPicPr>
        <p:blipFill>
          <a:blip r:embed="rId5"/>
          <a:stretch/>
        </p:blipFill>
        <p:spPr>
          <a:xfrm>
            <a:off x="304920" y="228600"/>
            <a:ext cx="3962160" cy="27320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82" name="Text Box 11"/>
          <p:cNvSpPr/>
          <p:nvPr/>
        </p:nvSpPr>
        <p:spPr>
          <a:xfrm>
            <a:off x="869760" y="712800"/>
            <a:ext cx="2750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ritannic Bold"/>
              </a:rPr>
              <a:t>Aquí viven mile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ritannic Bold"/>
              </a:rPr>
              <a:t>de familia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433080" y="3733920"/>
            <a:ext cx="24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Una playa saturad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de bañista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4800600" y="2666880"/>
            <a:ext cx="3809880" cy="580680"/>
          </a:xfrm>
          <a:prstGeom prst="rect">
            <a:avLst/>
          </a:prstGeom>
          <a:solidFill>
            <a:srgbClr val="ffff66">
              <a:alpha val="50000"/>
            </a:srgbClr>
          </a:solidFill>
          <a:ln w="381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Los multifamiliares semejan enormes panales de abej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lide0071_image135"/>
          <p:cNvPicPr/>
          <p:nvPr/>
        </p:nvPicPr>
        <p:blipFill>
          <a:blip r:embed="rId2"/>
          <a:stretch/>
        </p:blipFill>
        <p:spPr>
          <a:xfrm>
            <a:off x="228600" y="152280"/>
            <a:ext cx="4343400" cy="3081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86" name="Picture 3" descr="slide0073_image133"/>
          <p:cNvPicPr/>
          <p:nvPr/>
        </p:nvPicPr>
        <p:blipFill>
          <a:blip r:embed="rId3"/>
          <a:stretch/>
        </p:blipFill>
        <p:spPr>
          <a:xfrm>
            <a:off x="4724280" y="152280"/>
            <a:ext cx="4114800" cy="3086280"/>
          </a:xfrm>
          <a:prstGeom prst="rect">
            <a:avLst/>
          </a:prstGeom>
          <a:ln w="28440">
            <a:solidFill>
              <a:srgbClr val="f8f8f8"/>
            </a:solidFill>
            <a:miter/>
          </a:ln>
        </p:spPr>
      </p:pic>
      <p:pic>
        <p:nvPicPr>
          <p:cNvPr id="87" name="Picture 4" descr="slide0078_image125"/>
          <p:cNvPicPr/>
          <p:nvPr/>
        </p:nvPicPr>
        <p:blipFill>
          <a:blip r:embed="rId4"/>
          <a:stretch/>
        </p:blipFill>
        <p:spPr>
          <a:xfrm>
            <a:off x="380880" y="3809880"/>
            <a:ext cx="4191120" cy="286884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  <p:pic>
        <p:nvPicPr>
          <p:cNvPr id="88" name="Picture 5" descr="slide0081_image143"/>
          <p:cNvPicPr/>
          <p:nvPr/>
        </p:nvPicPr>
        <p:blipFill>
          <a:blip r:embed="rId5"/>
          <a:stretch/>
        </p:blipFill>
        <p:spPr>
          <a:xfrm>
            <a:off x="4876920" y="3809880"/>
            <a:ext cx="4038480" cy="2895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89" name="Text Box 6"/>
          <p:cNvSpPr/>
          <p:nvPr/>
        </p:nvSpPr>
        <p:spPr>
          <a:xfrm>
            <a:off x="1385280" y="3200400"/>
            <a:ext cx="597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Y no tenemos que viajar mucho para ver algunas escen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increíbles en nuestra propia Ciudad de México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981080" y="380880"/>
            <a:ext cx="52578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38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¿Desean tomar un autobús o un taxi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514160" y="3962520"/>
            <a:ext cx="1884600" cy="276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El Mercado de Abas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331760" y="3962520"/>
            <a:ext cx="1325160" cy="246240"/>
          </a:xfrm>
          <a:prstGeom prst="rect">
            <a:avLst/>
          </a:prstGeom>
          <a:solidFill>
            <a:srgbClr val="3333cc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00"/>
                </a:solidFill>
                <a:latin typeface="Verdana"/>
              </a:rPr>
              <a:t>El “deshuesadero”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50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reeway 09"/>
          <p:cNvPicPr/>
          <p:nvPr/>
        </p:nvPicPr>
        <p:blipFill>
          <a:blip r:embed="rId1"/>
          <a:stretch/>
        </p:blipFill>
        <p:spPr>
          <a:xfrm>
            <a:off x="152280" y="152280"/>
            <a:ext cx="4419720" cy="52056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94" name="Text Box 7"/>
          <p:cNvSpPr/>
          <p:nvPr/>
        </p:nvSpPr>
        <p:spPr>
          <a:xfrm>
            <a:off x="5000760" y="500076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an esta saturada autopist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digan con sinceridad cuánto darían por poder salir de ella y estar en una tranquila carretera.  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119200" y="2666880"/>
            <a:ext cx="285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arretera Transpeninsular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364320" y="4929120"/>
            <a:ext cx="178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doni MT Black"/>
              </a:rPr>
              <a:t>¡QUE HORROR!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2000160" y="1357200"/>
            <a:ext cx="4086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oudy Stout"/>
              </a:rPr>
              <a:t>F i n 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oudy Stout"/>
              <a:ea typeface="Goudy Stout"/>
            </a:endParaRPr>
          </a:p>
        </p:txBody>
      </p:sp>
    </p:spTree>
  </p:cSld>
  <p:transition spd="slow">
    <p:zoom dir="ou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028520" y="228600"/>
            <a:ext cx="7323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La número UNO, la indiscutible campeona,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es TOKIO, Japón, con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33,800,000 habitante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048120" y="6400800"/>
            <a:ext cx="6095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¡Una verdadera explosión demográfica!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LOGGER_PHOTO_ID_5346535235102680610" descr="http://4.bp.blogspot.com/_1E-ebc1qY5w/SjK1eBtnpiI/AAAAAAAAGFY/e5wCf18IoRE/s400/seou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4786200" y="5500800"/>
            <a:ext cx="4578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número DOS es Seúl, Corea con 23,900,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28760" y="214200"/>
            <a:ext cx="5643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número TRES es la Ciudad de México con 22,900,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4409280" y="6156360"/>
            <a:ext cx="4784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 Rounded MT Bold"/>
              </a:rPr>
              <a:t>(Estos habitantes son los que tenía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toda</a:t>
            </a:r>
            <a:r>
              <a:rPr b="1" lang="es-ES" sz="2000" spc="-1" strike="noStrike">
                <a:solidFill>
                  <a:srgbClr val="ffff00"/>
                </a:solidFill>
                <a:latin typeface="Arial Rounded MT Bold"/>
              </a:rPr>
              <a:t> la República Mexicana en 1939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BLOGGER_PHOTO_ID_5346533413567087490" descr="http://4.bp.blogspot.com/_1E-ebc1qY5w/SjKzz_9sQ4I/AAAAAAAAGE4/ALzYA4acz3c/s400/delh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0" y="285840"/>
            <a:ext cx="8962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número CUATRO es Delhi, India con 22,400,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296360" y="304920"/>
            <a:ext cx="65768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La número CINCO es Bombay, India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con 22,300,000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800600" y="129528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(Toda la India tiene un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población de 1,1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millones de habitantes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285840"/>
            <a:ext cx="8962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número SEIS es Nueva York con 21,900,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52960" y="969840"/>
            <a:ext cx="8170920" cy="459720"/>
          </a:xfrm>
          <a:prstGeom prst="rect">
            <a:avLst/>
          </a:prstGeom>
          <a:solidFill>
            <a:srgbClr val="dddddd">
              <a:alpha val="5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La número SIETE es Sâo Paulo (Brasil) con 21,000,000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0"/>
            <a:ext cx="6661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Rounded MT Bold"/>
              </a:rPr>
              <a:t>Una ciudad que crece a pasos agigantado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LOGGER_PHOTO_ID_5346528691640168450" descr="http://2.bp.blogspot.com/_1E-ebc1qY5w/SjKvhJalcAI/AAAAAAAAGD4/QonAfKOn-u0/s400/manil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142920" y="42876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73"/>
                </a:solidFill>
                <a:latin typeface="Verdana"/>
              </a:rPr>
              <a:t>Número OCHO es Manila, Filipinas con 19,200,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00:13:36Z</dcterms:created>
  <dc:creator>Francisco Aramburo</dc:creator>
  <dc:description/>
  <dc:language>en-US</dc:language>
  <cp:lastModifiedBy>Arturo</cp:lastModifiedBy>
  <dcterms:modified xsi:type="dcterms:W3CDTF">2010-03-17T01:01:42Z</dcterms:modified>
  <cp:revision>131</cp:revision>
  <dc:subject/>
  <dc:title>Presentación de PowerPoint</dc:title>
</cp:coreProperties>
</file>