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Presentaci%C3%B3n%20dram%C3%A1tica.wav" ContentType="audio/x-wav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8221-FC16-49BB-B610-25E2D90AA1A5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481A-FFA8-4711-A157-83E02E018685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CC9B-4EF5-45E6-9F55-FCB7D997FE3C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B197-0BDB-4EE6-A1E8-79DC2FA859D7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A32C-DCBA-4E29-8DC2-C4190AE16E4C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6F88-C027-4461-914A-2F39CE26C41E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F404-500C-4CC0-83D7-19D0CF69EA00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917-1A31-4596-94AC-E45191B6AB70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E86E-13A1-40E0-B643-370FED2C65A1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268-B855-40ED-AEB5-C37BDE4C00E7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74F2-0104-4258-8040-5259F8EA9977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5BE0-6204-4AF3-BDCC-82D9293A60BA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1212-90C3-4B33-90F4-50AAC317536B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F0DB-927B-4835-BC6F-EF493B87DB01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584A-C7F7-4093-B73E-FA7348D4D11C}" type="slidenum">
              <a:rPr b="1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E66-C6DC-43FD-AA11-32AF11D3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166-EE71-4056-BDA6-A9FC2DB3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824-77CC-4964-8023-BFD5078E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D08-78FE-4850-B3D1-BFBC1067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613-95BA-4CC1-94FD-7A7EEB9E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97E-136D-4270-A713-F7FAE24D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3EE-2607-4044-8D5E-F988A206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79E-EE32-4F77-A88D-ECE9FC5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9D6-F1FE-4725-9A58-D37BAC77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476-20B4-4C95-810C-E52DD73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784-2D32-46BD-BC36-55E7BA01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2CB-92D5-4E10-947D-4C4DDD5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E7D6-5DC1-49FB-8DA5-26E72EAE9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esentaci&#243;n%20dram&#225;tic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4.bp.blogspot.com/_1E-ebc1qY5w/SjK1eBtnpiI/AAAAAAAAGFY/e5wCf18IoRE/s1600-h/seou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4.bp.blogspot.com/_1E-ebc1qY5w/SjKzz_9sQ4I/AAAAAAAAGE4/ALzYA4acz3c/s1600-h/delhi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1"/>
          <p:cNvSpPr/>
          <p:nvPr/>
        </p:nvSpPr>
        <p:spPr>
          <a:xfrm>
            <a:off x="1857240" y="5643720"/>
            <a:ext cx="6715440" cy="88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¿Les gustaría saber cuáles son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PULSEN EL RAT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WordArt 22"/>
          <p:cNvSpPr txBox="1"/>
          <p:nvPr/>
        </p:nvSpPr>
        <p:spPr>
          <a:xfrm>
            <a:off x="228600" y="304920"/>
            <a:ext cx="871524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Las Doce Ciudades más Grandes del Mundo "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3410280" y="3124080"/>
            <a:ext cx="4758840" cy="764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PRESENTAMOS..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25"/>
          <p:cNvSpPr/>
          <p:nvPr/>
        </p:nvSpPr>
        <p:spPr>
          <a:xfrm>
            <a:off x="4002120" y="2514600"/>
            <a:ext cx="4560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a su conocimi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  <p:sndAc>
      <p:stSnd>
        <p:snd r:embed="rId2" name="Presentaci%C3%B3n%20dram%C3%A1t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LOGGER_PHOTO_ID_5346525711889783714" descr="http://1.bp.blogspot.com/_1E-ebc1qY5w/SjKszs-u26I/AAAAAAAAGDo/payusB5eeok/s400/los-angeli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0" y="214200"/>
            <a:ext cx="4786200" cy="703800"/>
          </a:xfrm>
          <a:prstGeom prst="rect">
            <a:avLst/>
          </a:prstGeom>
          <a:solidFill>
            <a:srgbClr val="dddddd">
              <a:alpha val="50000"/>
            </a:srgbClr>
          </a:solidFill>
          <a:ln w="19080">
            <a:solidFill>
              <a:srgbClr val="00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Número NUEVE es Los Angeles, US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con 18,000,000 habitan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73720" y="22860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úmero DIEZ es Shangai, China con 17,9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68580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Como país, China tiene 1,300 millones de habitantes,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la misma población que en 1939 </a:t>
            </a:r>
            <a:r>
              <a:rPr b="1" i="1" lang="es-ES" sz="2000" spc="-1" strike="noStrike">
                <a:solidFill>
                  <a:srgbClr val="cc3300"/>
                </a:solidFill>
                <a:latin typeface="Arial Rounded MT Bold"/>
              </a:rPr>
              <a:t>tenía</a:t>
            </a:r>
            <a:r>
              <a:rPr b="1" lang="es-ES" sz="2000" spc="-1" strike="noStrike">
                <a:solidFill>
                  <a:srgbClr val="cc3300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3300"/>
                </a:solidFill>
                <a:latin typeface="Arial Rounded MT Bold"/>
              </a:rPr>
              <a:t>                 </a:t>
            </a:r>
            <a:r>
              <a:rPr b="1" i="1" lang="es-ES" sz="2400" spc="-1" strike="noStrike">
                <a:solidFill>
                  <a:srgbClr val="cc3300"/>
                </a:solidFill>
                <a:latin typeface="Arial Rounded MT Bold"/>
              </a:rPr>
              <a:t>todo el MUN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LOGGER_PHOTO_ID_5346523663856863058" descr="http://2.bp.blogspot.com/_1E-ebc1qY5w/SjKq8fdoh1I/AAAAAAAAGDI/-ejRDj76IgY/s400/osak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26"/>
          <p:cNvSpPr/>
          <p:nvPr/>
        </p:nvSpPr>
        <p:spPr>
          <a:xfrm>
            <a:off x="0" y="142920"/>
            <a:ext cx="48578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a número ONCE es Osaca, Jap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on 16,700,000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42920" y="428760"/>
            <a:ext cx="86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úmero DOCE es Calcuta, India con 16,0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in" orient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57200" y="228600"/>
            <a:ext cx="8686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ffff"/>
                </a:solidFill>
                <a:latin typeface="Arial"/>
              </a:rPr>
              <a:t>Hacemos ahora aquí algunas observaciones importantes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Ninguna ciudad europea figura en la lista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90720" y="5670720"/>
            <a:ext cx="7924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Veamos ahora algunos aspectos de las condiciones en que se vive en las grandes ciudades, sobre todo en las asiáticas..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slide0026_image010"/>
          <p:cNvPicPr/>
          <p:nvPr/>
        </p:nvPicPr>
        <p:blipFill>
          <a:blip r:embed="rId2"/>
          <a:stretch/>
        </p:blipFill>
        <p:spPr>
          <a:xfrm>
            <a:off x="4419720" y="228600"/>
            <a:ext cx="4495680" cy="3230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77" name="Picture 4" descr="slide0004_image009"/>
          <p:cNvPicPr/>
          <p:nvPr/>
        </p:nvPicPr>
        <p:blipFill>
          <a:blip r:embed="rId3"/>
          <a:stretch/>
        </p:blipFill>
        <p:spPr>
          <a:xfrm>
            <a:off x="228600" y="3505320"/>
            <a:ext cx="4038480" cy="3143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78" name="Picture 5" descr="slide0022_image006"/>
          <p:cNvPicPr/>
          <p:nvPr/>
        </p:nvPicPr>
        <p:blipFill>
          <a:blip r:embed="rId4"/>
          <a:stretch/>
        </p:blipFill>
        <p:spPr>
          <a:xfrm>
            <a:off x="4495680" y="3962520"/>
            <a:ext cx="4419720" cy="27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Text Box 7"/>
          <p:cNvSpPr/>
          <p:nvPr/>
        </p:nvSpPr>
        <p:spPr>
          <a:xfrm>
            <a:off x="152280" y="29718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Los transportes y las unidades habita-cionales hacen que la gente se sienta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881960" y="3429000"/>
            <a:ext cx="34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comprimida, amontonada, reducida,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ahogada en un pequeño espacio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9" descr="slide0027_image012"/>
          <p:cNvPicPr/>
          <p:nvPr/>
        </p:nvPicPr>
        <p:blipFill>
          <a:blip r:embed="rId5"/>
          <a:stretch/>
        </p:blipFill>
        <p:spPr>
          <a:xfrm>
            <a:off x="304920" y="228600"/>
            <a:ext cx="3962160" cy="2732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82" name="Text Box 11"/>
          <p:cNvSpPr/>
          <p:nvPr/>
        </p:nvSpPr>
        <p:spPr>
          <a:xfrm>
            <a:off x="869760" y="712800"/>
            <a:ext cx="2750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itannic Bold"/>
              </a:rPr>
              <a:t>Aquí viven mile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ritannic Bold"/>
              </a:rPr>
              <a:t>de famili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433080" y="3733920"/>
            <a:ext cx="24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Una playa satura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8f8f8"/>
                </a:solidFill>
                <a:latin typeface="Verdana"/>
              </a:rPr>
              <a:t>de bañis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4800600" y="2666880"/>
            <a:ext cx="3809880" cy="580680"/>
          </a:xfrm>
          <a:prstGeom prst="rect">
            <a:avLst/>
          </a:prstGeom>
          <a:solidFill>
            <a:srgbClr val="ffff66">
              <a:alpha val="50000"/>
            </a:srgbClr>
          </a:solidFill>
          <a:ln w="381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os multifamiliares semejan enormes panales de abej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0071_image135"/>
          <p:cNvPicPr/>
          <p:nvPr/>
        </p:nvPicPr>
        <p:blipFill>
          <a:blip r:embed="rId2"/>
          <a:stretch/>
        </p:blipFill>
        <p:spPr>
          <a:xfrm>
            <a:off x="228600" y="152280"/>
            <a:ext cx="4343400" cy="3081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6" name="Picture 3" descr="slide0073_image133"/>
          <p:cNvPicPr/>
          <p:nvPr/>
        </p:nvPicPr>
        <p:blipFill>
          <a:blip r:embed="rId3"/>
          <a:stretch/>
        </p:blipFill>
        <p:spPr>
          <a:xfrm>
            <a:off x="4724280" y="152280"/>
            <a:ext cx="4114800" cy="3086280"/>
          </a:xfrm>
          <a:prstGeom prst="rect">
            <a:avLst/>
          </a:prstGeom>
          <a:ln w="28440">
            <a:solidFill>
              <a:srgbClr val="f8f8f8"/>
            </a:solidFill>
            <a:miter/>
          </a:ln>
        </p:spPr>
      </p:pic>
      <p:pic>
        <p:nvPicPr>
          <p:cNvPr id="87" name="Picture 4" descr="slide0078_image125"/>
          <p:cNvPicPr/>
          <p:nvPr/>
        </p:nvPicPr>
        <p:blipFill>
          <a:blip r:embed="rId4"/>
          <a:stretch/>
        </p:blipFill>
        <p:spPr>
          <a:xfrm>
            <a:off x="380880" y="3809880"/>
            <a:ext cx="4191120" cy="2868840"/>
          </a:xfrm>
          <a:prstGeom prst="rect">
            <a:avLst/>
          </a:prstGeom>
          <a:ln w="28440">
            <a:solidFill>
              <a:srgbClr val="cc3300"/>
            </a:solidFill>
            <a:miter/>
          </a:ln>
        </p:spPr>
      </p:pic>
      <p:pic>
        <p:nvPicPr>
          <p:cNvPr id="88" name="Picture 5" descr="slide0081_image143"/>
          <p:cNvPicPr/>
          <p:nvPr/>
        </p:nvPicPr>
        <p:blipFill>
          <a:blip r:embed="rId5"/>
          <a:stretch/>
        </p:blipFill>
        <p:spPr>
          <a:xfrm>
            <a:off x="4876920" y="3809880"/>
            <a:ext cx="4038480" cy="2895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1385280" y="3200400"/>
            <a:ext cx="597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Y no tenemos que viajar mucho para ver algunas escen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creíbles en nuestra propia Ciudad de México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981080" y="380880"/>
            <a:ext cx="52578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38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¿Desean tomar un autobús o un taxi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514160" y="3962520"/>
            <a:ext cx="1884600" cy="276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El Mercado de Abas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331760" y="3962520"/>
            <a:ext cx="1325160" cy="246240"/>
          </a:xfrm>
          <a:prstGeom prst="rect">
            <a:avLst/>
          </a:prstGeom>
          <a:solidFill>
            <a:srgbClr val="3333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00"/>
                </a:solidFill>
                <a:latin typeface="Verdana"/>
              </a:rPr>
              <a:t>El “deshuesadero”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5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reeway 09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52056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94" name="Text Box 7"/>
          <p:cNvSpPr/>
          <p:nvPr/>
        </p:nvSpPr>
        <p:spPr>
          <a:xfrm>
            <a:off x="5000760" y="500076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an esta saturada autopist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igan con sinceridad cuánto darían por poder salir de ella y estar en una tranquila carretera.  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119200" y="2666880"/>
            <a:ext cx="285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rretera Transpeninsula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364320" y="4929120"/>
            <a:ext cx="1785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doni MT Black"/>
              </a:rPr>
              <a:t>¡QUE HORROR!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2000160" y="1357200"/>
            <a:ext cx="408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oudy Stout"/>
              </a:rPr>
              <a:t>F i n 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</p:spTree>
  </p:cSld>
  <p:transition spd="slow"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28520" y="228600"/>
            <a:ext cx="7323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La número UNO, la indiscutible campeona,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s TOKIO, Japón, con</a:t>
            </a: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33,800,000 habitante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048120" y="640080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¡Una verdadera explosión demográfica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LOGGER_PHOTO_ID_5346535235102680610" descr="http://4.bp.blogspot.com/_1E-ebc1qY5w/SjK1eBtnpiI/AAAAAAAAGFY/e5wCf18IoRE/s400/seou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4786200" y="5500800"/>
            <a:ext cx="45784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DOS es Seúl, Corea con 23,9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28760" y="214200"/>
            <a:ext cx="5643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TRES es la Ciudad de México con 22,9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4409280" y="6156360"/>
            <a:ext cx="4784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(Estos habitantes son los que tenía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toda</a:t>
            </a:r>
            <a:r>
              <a:rPr b="1" lang="es-ES" sz="2000" spc="-1" strike="noStrike">
                <a:solidFill>
                  <a:srgbClr val="ffff00"/>
                </a:solidFill>
                <a:latin typeface="Arial Rounded MT Bold"/>
              </a:rPr>
              <a:t> la República Mexicana en 1939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BLOGGER_PHOTO_ID_5346533413567087490" descr="http://4.bp.blogspot.com/_1E-ebc1qY5w/SjKzz_9sQ4I/AAAAAAAAGE4/ALzYA4acz3c/s400/delh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0" y="285840"/>
            <a:ext cx="8962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CUATRO es Delhi, India con 22,4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96360" y="304920"/>
            <a:ext cx="6576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La número CINCO es Bombay, India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 22,300,000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9528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(Toda la India tiene un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población de 1,1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millones de habitantes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285840"/>
            <a:ext cx="8962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La número SEIS es Nueva York con 21,9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52960" y="969840"/>
            <a:ext cx="8170920" cy="459720"/>
          </a:xfrm>
          <a:prstGeom prst="rect">
            <a:avLst/>
          </a:prstGeom>
          <a:solidFill>
            <a:srgbClr val="dddddd">
              <a:alpha val="5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</a:rPr>
              <a:t>La número SIETE es Sâo Paulo (Brasil) con 21,000,000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0"/>
            <a:ext cx="666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 Rounded MT Bold"/>
              </a:rPr>
              <a:t>Una ciudad que crece a pasos agigantado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LOGGER_PHOTO_ID_5346528691640168450" descr="http://2.bp.blogspot.com/_1E-ebc1qY5w/SjKvhJalcAI/AAAAAAAAGD4/QonAfKOn-u0/s400/mani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142920" y="42876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73"/>
                </a:solidFill>
                <a:latin typeface="Verdana"/>
              </a:rPr>
              <a:t>Número OCHO es Manila, Filipinas con 19,200,00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0:13:36Z</dcterms:created>
  <dc:creator>Francisco Aramburo</dc:creator>
  <dc:description/>
  <dc:language>en-US</dc:language>
  <cp:lastModifiedBy>Arturo</cp:lastModifiedBy>
  <dcterms:modified xsi:type="dcterms:W3CDTF">2010-03-17T01:01:42Z</dcterms:modified>
  <cp:revision>131</cp:revision>
  <dc:subject/>
  <dc:title>Presentación de PowerPoint</dc:title>
</cp:coreProperties>
</file>