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07E-8C0F-4F57-8E88-0A3AE847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54A-5F43-4CE5-94B3-03CAB77B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986-ADB7-4638-8C64-D8416A13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26B-4ECD-4B98-B011-2F7D91B8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EAC-F6FA-4921-99D6-6B0B547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443-D23A-45FF-BB81-BD36CD0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E89-F083-4949-8870-3B2F1D6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BC3-23BA-4E43-9B63-4806F73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9ED-AD85-4A87-8196-9D615B1E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DD7-33C1-4E8F-B101-1ECC9D8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D8A-C1FE-4548-A4D1-BC7A3F6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07B-C772-4A89-9285-D0B136B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0AE-A8A0-4AF6-8DC4-848D20B83408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Comic Sans MS"/>
              </a:rPr>
              <a:t>Último grito em edição fotográf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a é a razão pela qual não se pode acreditar em qualquer fo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que se vê na Internet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e é um exemplo perfeito daquilo que um perito pode fazer 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 Adobe Photoshop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pessoa que elaborou estas fotos fez um trabalho fantástico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870360" y="77004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LETÂN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9.jpg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1"/>
          <a:stretch/>
        </p:blipFill>
        <p:spPr>
          <a:xfrm>
            <a:off x="2131920" y="0"/>
            <a:ext cx="4880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1.jpg"/>
          <p:cNvPicPr/>
          <p:nvPr/>
        </p:nvPicPr>
        <p:blipFill>
          <a:blip r:embed="rId1"/>
          <a:stretch/>
        </p:blipFill>
        <p:spPr>
          <a:xfrm>
            <a:off x="2279520" y="0"/>
            <a:ext cx="4584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13.jpg"/>
          <p:cNvPicPr/>
          <p:nvPr/>
        </p:nvPicPr>
        <p:blipFill>
          <a:blip r:embed="rId1"/>
          <a:stretch/>
        </p:blipFill>
        <p:spPr>
          <a:xfrm>
            <a:off x="932040" y="0"/>
            <a:ext cx="7279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4.jpg"/>
          <p:cNvPicPr/>
          <p:nvPr/>
        </p:nvPicPr>
        <p:blipFill>
          <a:blip r:embed="rId1"/>
          <a:stretch/>
        </p:blipFill>
        <p:spPr>
          <a:xfrm>
            <a:off x="251928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.jpg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16.jpg"/>
          <p:cNvPicPr/>
          <p:nvPr/>
        </p:nvPicPr>
        <p:blipFill>
          <a:blip r:embed="rId1"/>
          <a:stretch/>
        </p:blipFill>
        <p:spPr>
          <a:xfrm>
            <a:off x="844560" y="0"/>
            <a:ext cx="7454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17.jpg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18.jpg"/>
          <p:cNvPicPr/>
          <p:nvPr/>
        </p:nvPicPr>
        <p:blipFill>
          <a:blip r:embed="rId1"/>
          <a:stretch/>
        </p:blipFill>
        <p:spPr>
          <a:xfrm>
            <a:off x="1824120" y="0"/>
            <a:ext cx="54957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1.jpg"/>
          <p:cNvPicPr/>
          <p:nvPr/>
        </p:nvPicPr>
        <p:blipFill>
          <a:blip r:embed="rId1"/>
          <a:stretch/>
        </p:blipFill>
        <p:spPr>
          <a:xfrm>
            <a:off x="1028880" y="0"/>
            <a:ext cx="7084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19.jpg"/>
          <p:cNvPicPr/>
          <p:nvPr/>
        </p:nvPicPr>
        <p:blipFill>
          <a:blip r:embed="rId1"/>
          <a:stretch/>
        </p:blipFill>
        <p:spPr>
          <a:xfrm>
            <a:off x="236700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2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21.jpg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23.jpg"/>
          <p:cNvPicPr/>
          <p:nvPr/>
        </p:nvPicPr>
        <p:blipFill>
          <a:blip r:embed="rId1"/>
          <a:stretch/>
        </p:blipFill>
        <p:spPr>
          <a:xfrm>
            <a:off x="728640" y="0"/>
            <a:ext cx="7686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7278480" cy="54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550800"/>
            <a:ext cx="8569080" cy="570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4840" y="404640"/>
            <a:ext cx="395748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60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557760" cy="60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33360"/>
            <a:ext cx="58118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53700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49160"/>
            <a:ext cx="8642160" cy="535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2600" y="366840"/>
            <a:ext cx="4438800" cy="61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97160" y="95400"/>
            <a:ext cx="634968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21000" y="189000"/>
            <a:ext cx="4302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614520"/>
            <a:ext cx="7848720" cy="547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3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216000"/>
            <a:ext cx="7632720" cy="642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14680" y="189000"/>
            <a:ext cx="5715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9760" y="260280"/>
            <a:ext cx="63244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574560"/>
            <a:ext cx="8280360" cy="556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7160" y="514440"/>
            <a:ext cx="6349680" cy="58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865080"/>
            <a:ext cx="8137440" cy="499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4880" y="189000"/>
            <a:ext cx="60008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68600" y="333360"/>
            <a:ext cx="567360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4.jpg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0600" y="461880"/>
            <a:ext cx="4762800" cy="593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677880"/>
            <a:ext cx="8353440" cy="55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76040"/>
            <a:ext cx="7344000" cy="650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696960"/>
            <a:ext cx="8280360" cy="55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17440"/>
            <a:ext cx="6840360" cy="630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153120" cy="563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-28440"/>
            <a:ext cx="4762800" cy="69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5.jpg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7.jpg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.jpg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6:16:38Z</dcterms:created>
  <dc:creator>Só Riso Mail</dc:creator>
  <dc:description/>
  <dc:language>en-US</dc:language>
  <cp:lastModifiedBy>Frederico Marcondes Machado Filho</cp:lastModifiedBy>
  <dcterms:modified xsi:type="dcterms:W3CDTF">2009-10-28T01:26:38Z</dcterms:modified>
  <cp:revision>2</cp:revision>
  <dc:subject/>
  <dc:title>Último grito em edição fotográfica</dc:title>
</cp:coreProperties>
</file>