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A57-10BC-4147-9388-D1DEE683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031-BD46-4014-8A0F-481ACC9B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CF1-D3F1-4C3E-A215-4AA74B69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398-1045-4B38-BE8E-80647E38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521-86F4-4EB9-A3FF-E012CF6F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CBC-210C-4CCD-8E9D-456EED65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F0B-C8E0-4533-9A34-CF297F70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683-4605-4188-B8BF-8E1E40F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73E-EAFB-443F-A4F5-29C0F31F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63B-8E77-46DB-A06E-935AB0A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434-5E2D-4339-BF52-9997FAC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7E8-95D2-4268-BDF3-8F242CA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F9AB-4F13-46E5-85E9-E53DD0966CAB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Comic Sans MS"/>
              </a:rPr>
              <a:t>Último grito em edição fotográf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a é a razão pela qual não se pode acreditar em qualquer fo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que se vê na Internet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e é um exemplo perfeito daquilo que um perito pode fazer 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o Adobe Photoshop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A pessoa que elaborou estas fotos fez um trabalho fantástico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870360" y="77004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LETÂN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9.jpg"/>
          <p:cNvPicPr/>
          <p:nvPr/>
        </p:nvPicPr>
        <p:blipFill>
          <a:blip r:embed="rId1"/>
          <a:stretch/>
        </p:blipFill>
        <p:spPr>
          <a:xfrm>
            <a:off x="19191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10.jpg"/>
          <p:cNvPicPr/>
          <p:nvPr/>
        </p:nvPicPr>
        <p:blipFill>
          <a:blip r:embed="rId1"/>
          <a:stretch/>
        </p:blipFill>
        <p:spPr>
          <a:xfrm>
            <a:off x="2131920" y="0"/>
            <a:ext cx="4880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1.jpg"/>
          <p:cNvPicPr/>
          <p:nvPr/>
        </p:nvPicPr>
        <p:blipFill>
          <a:blip r:embed="rId1"/>
          <a:stretch/>
        </p:blipFill>
        <p:spPr>
          <a:xfrm>
            <a:off x="2279520" y="0"/>
            <a:ext cx="45849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12.jpg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13.jpg"/>
          <p:cNvPicPr/>
          <p:nvPr/>
        </p:nvPicPr>
        <p:blipFill>
          <a:blip r:embed="rId1"/>
          <a:stretch/>
        </p:blipFill>
        <p:spPr>
          <a:xfrm>
            <a:off x="932040" y="0"/>
            <a:ext cx="7279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14.jpg"/>
          <p:cNvPicPr/>
          <p:nvPr/>
        </p:nvPicPr>
        <p:blipFill>
          <a:blip r:embed="rId1"/>
          <a:stretch/>
        </p:blipFill>
        <p:spPr>
          <a:xfrm>
            <a:off x="2519280" y="0"/>
            <a:ext cx="4105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5.jpg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16.jpg"/>
          <p:cNvPicPr/>
          <p:nvPr/>
        </p:nvPicPr>
        <p:blipFill>
          <a:blip r:embed="rId1"/>
          <a:stretch/>
        </p:blipFill>
        <p:spPr>
          <a:xfrm>
            <a:off x="844560" y="0"/>
            <a:ext cx="7454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17.jpg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18.jpg"/>
          <p:cNvPicPr/>
          <p:nvPr/>
        </p:nvPicPr>
        <p:blipFill>
          <a:blip r:embed="rId1"/>
          <a:stretch/>
        </p:blipFill>
        <p:spPr>
          <a:xfrm>
            <a:off x="1824120" y="0"/>
            <a:ext cx="54957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1.jpg"/>
          <p:cNvPicPr/>
          <p:nvPr/>
        </p:nvPicPr>
        <p:blipFill>
          <a:blip r:embed="rId1"/>
          <a:stretch/>
        </p:blipFill>
        <p:spPr>
          <a:xfrm>
            <a:off x="1028880" y="0"/>
            <a:ext cx="7084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19.jpg"/>
          <p:cNvPicPr/>
          <p:nvPr/>
        </p:nvPicPr>
        <p:blipFill>
          <a:blip r:embed="rId1"/>
          <a:stretch/>
        </p:blipFill>
        <p:spPr>
          <a:xfrm>
            <a:off x="2367000" y="0"/>
            <a:ext cx="4408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20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21.jpg"/>
          <p:cNvPicPr/>
          <p:nvPr/>
        </p:nvPicPr>
        <p:blipFill>
          <a:blip r:embed="rId1"/>
          <a:stretch/>
        </p:blipFill>
        <p:spPr>
          <a:xfrm>
            <a:off x="1521000" y="0"/>
            <a:ext cx="6100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23.jpg"/>
          <p:cNvPicPr/>
          <p:nvPr/>
        </p:nvPicPr>
        <p:blipFill>
          <a:blip r:embed="rId1"/>
          <a:stretch/>
        </p:blipFill>
        <p:spPr>
          <a:xfrm>
            <a:off x="728640" y="0"/>
            <a:ext cx="7686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343080"/>
            <a:ext cx="7278480" cy="54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550800"/>
            <a:ext cx="8569080" cy="570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44840" y="404640"/>
            <a:ext cx="395748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604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557760" cy="60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2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0600" y="571680"/>
            <a:ext cx="47628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333360"/>
            <a:ext cx="5811840" cy="63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3537000" cy="64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749160"/>
            <a:ext cx="8642160" cy="535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2600" y="366840"/>
            <a:ext cx="4438800" cy="61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97160" y="95400"/>
            <a:ext cx="6349680" cy="666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21000" y="189000"/>
            <a:ext cx="4302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614520"/>
            <a:ext cx="7848720" cy="547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1" descr="3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216000"/>
            <a:ext cx="7632720" cy="642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14680" y="189000"/>
            <a:ext cx="5715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9760" y="260280"/>
            <a:ext cx="632448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574560"/>
            <a:ext cx="8280360" cy="556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62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97160" y="514440"/>
            <a:ext cx="6349680" cy="58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865080"/>
            <a:ext cx="8137440" cy="499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498600"/>
            <a:ext cx="8497800" cy="57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4880" y="189000"/>
            <a:ext cx="600084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68600" y="333360"/>
            <a:ext cx="5673600" cy="60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4.jpg"/>
          <p:cNvPicPr/>
          <p:nvPr/>
        </p:nvPicPr>
        <p:blipFill>
          <a:blip r:embed="rId1"/>
          <a:stretch/>
        </p:blipFill>
        <p:spPr>
          <a:xfrm>
            <a:off x="193032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0600" y="461880"/>
            <a:ext cx="4762800" cy="593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677880"/>
            <a:ext cx="8353440" cy="55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76040"/>
            <a:ext cx="7344000" cy="650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696960"/>
            <a:ext cx="8280360" cy="55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217440"/>
            <a:ext cx="6840360" cy="630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153120" cy="563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0600" y="-28440"/>
            <a:ext cx="4762800" cy="69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5.jpg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7.jpg"/>
          <p:cNvPicPr/>
          <p:nvPr/>
        </p:nvPicPr>
        <p:blipFill>
          <a:blip r:embed="rId1"/>
          <a:stretch/>
        </p:blipFill>
        <p:spPr>
          <a:xfrm>
            <a:off x="204624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8.jpg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6:16:38Z</dcterms:created>
  <dc:creator>Só Riso Mail</dc:creator>
  <dc:description/>
  <dc:language>en-US</dc:language>
  <cp:lastModifiedBy>Frederico Marcondes Machado Filho</cp:lastModifiedBy>
  <dcterms:modified xsi:type="dcterms:W3CDTF">2009-10-28T01:26:38Z</dcterms:modified>
  <cp:revision>2</cp:revision>
  <dc:subject/>
  <dc:title>Último grito em edição fotográfica</dc:title>
</cp:coreProperties>
</file>