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5.jpeg" ContentType="image/jpeg"/>
  <Override PartName="/ppt/media/image2.png" ContentType="image/pn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8.jpeg" ContentType="image/jpeg"/>
  <Override PartName="/ppt/media/image51.jpeg" ContentType="image/jpeg"/>
  <Override PartName="/ppt/media/image5.png" ContentType="image/png"/>
  <Override PartName="/ppt/media/image43.jpeg" ContentType="image/jpeg"/>
  <Override PartName="/ppt/media/Barcarolle%20Offenbach.wav" ContentType="audio/x-wav"/>
  <Override PartName="/ppt/media/image3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833-C2EA-4794-88F2-C66BE93B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B00-ADC5-48FF-8B1E-87225639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35F-F46B-4B6E-807C-735F1B20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F5A-A1A6-4A65-AB4C-30434A0F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659-2EFE-4124-9AC8-7019F54E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BA7-C51B-4686-B0D7-B7F2320C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A04-CDE1-496B-BAA8-26DDE7B2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3F6-FE12-45EB-A7F7-DD5A9050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6A1-155A-449B-892F-33CBF92A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8FE-92B1-4D2A-B77E-826873D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338-C26B-4708-A22B-92B5C2EE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884-3774-4A90-9577-7C13905D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85A4-F5F6-43DD-B982-0693662CF68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audio" Target="../media/Barcarolle%20Offenbach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slideshare.net/tecelao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1" descr="2d4c12c4118345488f858f98e119b6f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CaixaDeTexto 3" descr=""/>
          <p:cNvPicPr/>
          <p:nvPr/>
        </p:nvPicPr>
        <p:blipFill>
          <a:blip r:embed="rId2"/>
          <a:stretch/>
        </p:blipFill>
        <p:spPr>
          <a:xfrm>
            <a:off x="1706400" y="4743360"/>
            <a:ext cx="2657520" cy="828720"/>
          </a:xfrm>
          <a:prstGeom prst="rect">
            <a:avLst/>
          </a:prstGeom>
          <a:ln w="0">
            <a:noFill/>
          </a:ln>
        </p:spPr>
      </p:pic>
      <p:pic>
        <p:nvPicPr>
          <p:cNvPr id="43" name="CaixaDeTexto 4" descr=""/>
          <p:cNvPicPr/>
          <p:nvPr/>
        </p:nvPicPr>
        <p:blipFill>
          <a:blip r:embed="rId3"/>
          <a:stretch/>
        </p:blipFill>
        <p:spPr>
          <a:xfrm>
            <a:off x="3925800" y="5175360"/>
            <a:ext cx="1347840" cy="823680"/>
          </a:xfrm>
          <a:prstGeom prst="rect">
            <a:avLst/>
          </a:prstGeom>
          <a:ln w="0">
            <a:noFill/>
          </a:ln>
        </p:spPr>
      </p:pic>
      <p:pic>
        <p:nvPicPr>
          <p:cNvPr id="44" name="CaixaDeTexto 5" descr=""/>
          <p:cNvPicPr/>
          <p:nvPr/>
        </p:nvPicPr>
        <p:blipFill>
          <a:blip r:embed="rId4"/>
          <a:stretch/>
        </p:blipFill>
        <p:spPr>
          <a:xfrm>
            <a:off x="4992840" y="4962600"/>
            <a:ext cx="1554120" cy="822240"/>
          </a:xfrm>
          <a:prstGeom prst="rect">
            <a:avLst/>
          </a:prstGeom>
          <a:ln w="0">
            <a:noFill/>
          </a:ln>
        </p:spPr>
      </p:pic>
      <p:pic>
        <p:nvPicPr>
          <p:cNvPr id="45" name="CaixaDeTexto 6" descr=""/>
          <p:cNvPicPr/>
          <p:nvPr/>
        </p:nvPicPr>
        <p:blipFill>
          <a:blip r:embed="rId5"/>
          <a:stretch/>
        </p:blipFill>
        <p:spPr>
          <a:xfrm>
            <a:off x="781200" y="4389480"/>
            <a:ext cx="1358640" cy="822240"/>
          </a:xfrm>
          <a:prstGeom prst="rect">
            <a:avLst/>
          </a:prstGeom>
          <a:ln w="0">
            <a:noFill/>
          </a:ln>
        </p:spPr>
      </p:pic>
      <p:pic>
        <p:nvPicPr>
          <p:cNvPr id="46" name="Imagem 10" descr="slide0001_image005.gif"/>
          <p:cNvPicPr/>
          <p:nvPr/>
        </p:nvPicPr>
        <p:blipFill>
          <a:blip r:embed="rId6"/>
          <a:stretch/>
        </p:blipFill>
        <p:spPr>
          <a:xfrm>
            <a:off x="7500960" y="58579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CaixaDeTexto 11"/>
          <p:cNvSpPr/>
          <p:nvPr/>
        </p:nvSpPr>
        <p:spPr>
          <a:xfrm>
            <a:off x="7289280" y="64882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fbfbf"/>
                </a:solidFill>
                <a:latin typeface="BankGothic Md BT"/>
              </a:rPr>
              <a:t>Clique para avanç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7" name="Barcarolle%20Offenbac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34b332cf572f4732afa5a47944b11e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63e3d336cf6b47a2b5e08ad54a5247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158d5fd0c8d747b5992c8e9fab9520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08462e837bc947128dbea72c348c26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055ee2be4ab04c51aecc4a9b69c982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dfbef25d0ca14d208bdc4e6858e43d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3d5b4aea6ab2470894ba3c894af2aaa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682ca98dfac34f8b8f4043803fdd99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8017ea64d30a4a4893c4707f2a18ebf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04192a5c625f43cab533cf43a30ca2a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0ccc4ebd71e5485584b135654b6de5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83246abad1324a779199442d0e361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1" descr="85101f52415e4210a4184844628031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3e60a42293c34b16815e75da7ff1f7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m 1" descr="a340f4ba796a4842a765225c72bfadf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640697fecdf341a68d3bc09f1c09c5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1" descr="b0bbede2f41d4845ba0c87648fbed1f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b6b4a2142f734917935c90230d9e884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1" descr="b7fb4dd4ce2d4293a95a55b2996c16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b74aff55441548f0bd6b3b4dc79f92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" descr="c2cf332e5fb34091b2f400c7d5e2bd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3c8b396058b2409693413c6ca56e3e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c3853d668b384fc9ac06889cbaa414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" descr="d24e1306961347ca8c69835eb8a54c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d25c97a7d04a0452ea46a45574d2590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1" descr="f738cd366b8c46f3accbc480a455be0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Imagem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1" descr="Imagem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Imagem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1" descr="386357c89eae4ac1836b073c200622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a158ef0dde0a46379e159cca3418d9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m 1" descr="Imagem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1b45a9a55536480ba2e7194f14d845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c45a2415ce034177ac999f9d29241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1" descr="e75065a0dfe34e75819a2e31a23e0d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2bb6717106cc4c1cbe79ce0f4b11e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1" descr="9e33c45dc60e4381bf836d2fe2fd9f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8d3fa477781a4ea2b1173c84009f8f5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1" descr="Imagem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75d0f91021a74367bbd14d09c49f0e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1" descr="4bfdb87517234dadbd1ea0deb37915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37807ab11c544d1fb8a47391de1e8a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3ee1e71f10c148c989aca6076e7274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8befc5161901437e879a3d244e49f91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406a4606ec1a48fca1b0d7e363258e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CaixaDeTexto 2">
            <a:hlinkClick r:id="rId2"/>
          </p:cNvPr>
          <p:cNvSpPr/>
          <p:nvPr/>
        </p:nvSpPr>
        <p:spPr>
          <a:xfrm>
            <a:off x="6574680" y="4643280"/>
            <a:ext cx="216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a6a6a6"/>
                </a:solidFill>
                <a:latin typeface="BankGothic Md BT"/>
              </a:rPr>
              <a:t>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a6a6a6"/>
                </a:solidFill>
                <a:latin typeface="BankGothic Md BT"/>
              </a:rPr>
              <a:t>Rodrigo *O Tecelã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a6a6a6"/>
                </a:solidFill>
                <a:latin typeface="BankGothic Md BT"/>
              </a:rPr>
              <a:t>www.slideshare.net/tecel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3"/>
          <p:cNvSpPr/>
          <p:nvPr/>
        </p:nvSpPr>
        <p:spPr>
          <a:xfrm>
            <a:off x="6904440" y="3286080"/>
            <a:ext cx="1726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a6a6a6"/>
                </a:solidFill>
                <a:latin typeface="BankGothic Md BT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a6a6a6"/>
                </a:solidFill>
                <a:latin typeface="BankGothic Md BT"/>
              </a:rPr>
              <a:t>Ricardo Zerre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a6a6a6"/>
                </a:solidFill>
                <a:latin typeface="BankGothic Md BT"/>
              </a:rPr>
              <a:t>www.zerrenner.fot,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4"/>
          <p:cNvSpPr/>
          <p:nvPr/>
        </p:nvSpPr>
        <p:spPr>
          <a:xfrm>
            <a:off x="6994800" y="4071960"/>
            <a:ext cx="1668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a6a6a6"/>
                </a:solidFill>
                <a:latin typeface="BankGothic Md BT"/>
              </a:rPr>
              <a:t>Mús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a6a6a6"/>
                </a:solidFill>
                <a:latin typeface="BankGothic Md BT"/>
              </a:rPr>
              <a:t>Barcarolle / Offenba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be431eadf72341538f0ef06a01399f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786161847ded442790bf2ee99fcf5a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17d1d7befa564675be862597740eb88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22d1220610bb45bca881f9e590e0d7a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9:33:53Z</dcterms:created>
  <dc:creator>Tecelao</dc:creator>
  <dc:description/>
  <dc:language>en-US</dc:language>
  <cp:lastModifiedBy>Tecelao</cp:lastModifiedBy>
  <dcterms:modified xsi:type="dcterms:W3CDTF">2009-09-07T15:56:16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47000000000001024120</vt:lpwstr>
  </property>
</Properties>
</file>