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25.jpeg" ContentType="image/jpeg"/>
  <Override PartName="/ppt/media/image2.png" ContentType="image/pn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8.jpeg" ContentType="image/jpeg"/>
  <Override PartName="/ppt/media/image51.jpeg" ContentType="image/jpeg"/>
  <Override PartName="/ppt/media/image5.png" ContentType="image/png"/>
  <Override PartName="/ppt/media/image43.jpeg" ContentType="image/jpeg"/>
  <Override PartName="/ppt/media/Barcarolle%20Offenbach.wav" ContentType="audio/x-wav"/>
  <Override PartName="/ppt/media/image3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ED53-76A3-4744-89A9-9B1FC21C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C0A8-9259-46E3-A966-F873F9CC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E902-ED80-4745-A12C-2C36D9BC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1E3E-3AF1-4A85-B585-5E2B2B8B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DF8A-2BDF-4558-B457-A3C3B0B5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67F1-1005-468C-AD77-3A945375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3B68-B4AF-4FA6-8555-C1781958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A749-0498-46AC-AE12-4A254D03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5D7F-7D35-41CA-8D4B-8B8CB146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24A5-81D6-41C2-9D59-46EAEDEE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F024-D62D-4AE5-8EA1-D01FA066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CCDD-9C76-4ADB-B764-9A22EC54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A42B-8585-4440-AD60-31F1FAB464B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audio" Target="../media/Barcarolle%20Offenbach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hyperlink" Target="http://www.slideshare.net/tecelao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1" descr="2d4c12c4118345488f858f98e119b6f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CaixaDeTexto 3" descr=""/>
          <p:cNvPicPr/>
          <p:nvPr/>
        </p:nvPicPr>
        <p:blipFill>
          <a:blip r:embed="rId2"/>
          <a:stretch/>
        </p:blipFill>
        <p:spPr>
          <a:xfrm>
            <a:off x="1706400" y="4743360"/>
            <a:ext cx="2657520" cy="828720"/>
          </a:xfrm>
          <a:prstGeom prst="rect">
            <a:avLst/>
          </a:prstGeom>
          <a:ln w="0">
            <a:noFill/>
          </a:ln>
        </p:spPr>
      </p:pic>
      <p:pic>
        <p:nvPicPr>
          <p:cNvPr id="43" name="CaixaDeTexto 4" descr=""/>
          <p:cNvPicPr/>
          <p:nvPr/>
        </p:nvPicPr>
        <p:blipFill>
          <a:blip r:embed="rId3"/>
          <a:stretch/>
        </p:blipFill>
        <p:spPr>
          <a:xfrm>
            <a:off x="3925800" y="5175360"/>
            <a:ext cx="1347840" cy="823680"/>
          </a:xfrm>
          <a:prstGeom prst="rect">
            <a:avLst/>
          </a:prstGeom>
          <a:ln w="0">
            <a:noFill/>
          </a:ln>
        </p:spPr>
      </p:pic>
      <p:pic>
        <p:nvPicPr>
          <p:cNvPr id="44" name="CaixaDeTexto 5" descr=""/>
          <p:cNvPicPr/>
          <p:nvPr/>
        </p:nvPicPr>
        <p:blipFill>
          <a:blip r:embed="rId4"/>
          <a:stretch/>
        </p:blipFill>
        <p:spPr>
          <a:xfrm>
            <a:off x="4992840" y="4962600"/>
            <a:ext cx="1554120" cy="822240"/>
          </a:xfrm>
          <a:prstGeom prst="rect">
            <a:avLst/>
          </a:prstGeom>
          <a:ln w="0">
            <a:noFill/>
          </a:ln>
        </p:spPr>
      </p:pic>
      <p:pic>
        <p:nvPicPr>
          <p:cNvPr id="45" name="CaixaDeTexto 6" descr=""/>
          <p:cNvPicPr/>
          <p:nvPr/>
        </p:nvPicPr>
        <p:blipFill>
          <a:blip r:embed="rId5"/>
          <a:stretch/>
        </p:blipFill>
        <p:spPr>
          <a:xfrm>
            <a:off x="781200" y="4389480"/>
            <a:ext cx="1358640" cy="822240"/>
          </a:xfrm>
          <a:prstGeom prst="rect">
            <a:avLst/>
          </a:prstGeom>
          <a:ln w="0">
            <a:noFill/>
          </a:ln>
        </p:spPr>
      </p:pic>
      <p:pic>
        <p:nvPicPr>
          <p:cNvPr id="46" name="Imagem 10" descr="slide0001_image005.gif"/>
          <p:cNvPicPr/>
          <p:nvPr/>
        </p:nvPicPr>
        <p:blipFill>
          <a:blip r:embed="rId6"/>
          <a:stretch/>
        </p:blipFill>
        <p:spPr>
          <a:xfrm>
            <a:off x="7500960" y="585792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47" name="CaixaDeTexto 11"/>
          <p:cNvSpPr/>
          <p:nvPr/>
        </p:nvSpPr>
        <p:spPr>
          <a:xfrm>
            <a:off x="7289280" y="64882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fbfbf"/>
                </a:solidFill>
                <a:latin typeface="BankGothic Md BT"/>
              </a:rPr>
              <a:t>Clique para avanç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7" name="Barcarolle%20Offenbac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m 1" descr="34b332cf572f4732afa5a47944b11ef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m 1" descr="63e3d336cf6b47a2b5e08ad54a5247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1" descr="158d5fd0c8d747b5992c8e9fab9520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1" descr="08462e837bc947128dbea72c348c26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m 1" descr="055ee2be4ab04c51aecc4a9b69c982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m 1" descr="dfbef25d0ca14d208bdc4e6858e43d6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m 1" descr="3d5b4aea6ab2470894ba3c894af2aaa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m 1" descr="682ca98dfac34f8b8f4043803fdd99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1" descr="8017ea64d30a4a4893c4707f2a18ebf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m 1" descr="04192a5c625f43cab533cf43a30ca2a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1" descr="0ccc4ebd71e5485584b135654b6de51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m 1" descr="83246abad1324a779199442d0e361e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m 1" descr="85101f52415e4210a4184844628031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m 1" descr="3e60a42293c34b16815e75da7ff1f76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m 1" descr="a340f4ba796a4842a765225c72bfadf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m 1" descr="640697fecdf341a68d3bc09f1c09c5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m 1" descr="b0bbede2f41d4845ba0c87648fbed1f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m 1" descr="b6b4a2142f734917935c90230d9e884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m 1" descr="b7fb4dd4ce2d4293a95a55b2996c16a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1" descr="b74aff55441548f0bd6b3b4dc79f92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m 1" descr="c2cf332e5fb34091b2f400c7d5e2bd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1" descr="3c8b396058b2409693413c6ca56e3e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m 1" descr="c3853d668b384fc9ac06889cbaa414c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m 1" descr="d24e1306961347ca8c69835eb8a54c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m 1" descr="d25c97a7d04a0452ea46a45574d2590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m 1" descr="f738cd366b8c46f3accbc480a455be0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m 1" descr="Imagem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m 1" descr="Imagem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m 1" descr="Imagem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m 1" descr="386357c89eae4ac1836b073c200622c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1" descr="a158ef0dde0a46379e159cca3418d9e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m 1" descr="Imagem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m 1" descr="1b45a9a55536480ba2e7194f14d845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1" descr="c45a2415ce034177ac999f9d2924122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m 1" descr="e75065a0dfe34e75819a2e31a23e0dc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m 1" descr="2bb6717106cc4c1cbe79ce0f4b11e9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m 1" descr="9e33c45dc60e4381bf836d2fe2fd9f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m 1" descr="8d3fa477781a4ea2b1173c84009f8f5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m 1" descr="Imagem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m 1" descr="75d0f91021a74367bbd14d09c49f0e4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agem 1" descr="4bfdb87517234dadbd1ea0deb37915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m 1" descr="37807ab11c544d1fb8a47391de1e8a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m 1" descr="3ee1e71f10c148c989aca6076e72749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m 1" descr="8befc5161901437e879a3d244e49f91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m 1" descr="406a4606ec1a48fca1b0d7e363258e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CaixaDeTexto 2">
            <a:hlinkClick r:id="rId2"/>
          </p:cNvPr>
          <p:cNvSpPr/>
          <p:nvPr/>
        </p:nvSpPr>
        <p:spPr>
          <a:xfrm>
            <a:off x="6574680" y="4643280"/>
            <a:ext cx="216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a6a6a6"/>
                </a:solidFill>
                <a:latin typeface="BankGothic Md BT"/>
              </a:rPr>
              <a:t>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a6a6a6"/>
                </a:solidFill>
                <a:latin typeface="BankGothic Md BT"/>
              </a:rPr>
              <a:t>Rodrigo *O Tecelão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a6a6a6"/>
                </a:solidFill>
                <a:latin typeface="BankGothic Md BT"/>
              </a:rPr>
              <a:t>www.slideshare.net/tecel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ixaDeTexto 3"/>
          <p:cNvSpPr/>
          <p:nvPr/>
        </p:nvSpPr>
        <p:spPr>
          <a:xfrm>
            <a:off x="6904440" y="3286080"/>
            <a:ext cx="17262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a6a6a6"/>
                </a:solidFill>
                <a:latin typeface="BankGothic Md BT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a6a6a6"/>
                </a:solidFill>
                <a:latin typeface="BankGothic Md BT"/>
              </a:rPr>
              <a:t>Ricardo Zerre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a6a6a6"/>
                </a:solidFill>
                <a:latin typeface="BankGothic Md BT"/>
              </a:rPr>
              <a:t>www.zerrenner.fot,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aixaDeTexto 4"/>
          <p:cNvSpPr/>
          <p:nvPr/>
        </p:nvSpPr>
        <p:spPr>
          <a:xfrm>
            <a:off x="6994800" y="4071960"/>
            <a:ext cx="1668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a6a6a6"/>
                </a:solidFill>
                <a:latin typeface="BankGothic Md BT"/>
              </a:rPr>
              <a:t>Mús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a6a6a6"/>
                </a:solidFill>
                <a:latin typeface="BankGothic Md BT"/>
              </a:rPr>
              <a:t>Barcarolle / Offenba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1" descr="be431eadf72341538f0ef06a01399f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m 1" descr="786161847ded442790bf2ee99fcf5a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m 1" descr="17d1d7befa564675be862597740eb88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m 1" descr="22d1220610bb45bca881f9e590e0d7a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9:33:53Z</dcterms:created>
  <dc:creator>Tecelao</dc:creator>
  <dc:description/>
  <dc:language>en-US</dc:language>
  <cp:lastModifiedBy>Tecelao</cp:lastModifiedBy>
  <dcterms:modified xsi:type="dcterms:W3CDTF">2009-09-07T15:56:16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47000000000001024120</vt:lpwstr>
  </property>
</Properties>
</file>