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CAE5-E634-4663-9FF2-091FF9B9B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1FBE-5676-4713-A8A1-C0256E58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6CE9-B56D-4BB5-B276-A2C07F69C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0114-72E5-4AD2-806B-E6EBD4F6D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0A7B-422F-4E63-B87A-C0628E18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E885-0A97-4442-8827-738D3969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21B3-F940-41AD-B49A-F3392F5E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05F2-BD4E-42F1-8B81-939EA9A5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0CE8-9325-46B2-ADE0-26E29FB1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02BA-1452-460D-89AC-AFE8ECD4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79D6-F726-44E6-9F81-AB511D29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ABDC-A032-4C9B-8986-B126C03D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FF912E-7999-410F-90FD-FF0A034CB8C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34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30516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30516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5943600"/>
            <a:ext cx="9144000" cy="2178000"/>
            <a:chOff x="0" y="5943600"/>
            <a:chExt cx="9144000" cy="2178000"/>
          </a:xfrm>
        </p:grpSpPr>
        <p:sp>
          <p:nvSpPr>
            <p:cNvPr id="45" name=""/>
            <p:cNvSpPr/>
            <p:nvPr/>
          </p:nvSpPr>
          <p:spPr>
            <a:xfrm>
              <a:off x="0" y="5943600"/>
              <a:ext cx="9144000" cy="217800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5943600"/>
              <a:ext cx="9144000" cy="1565280"/>
              <a:chOff x="0" y="5943600"/>
              <a:chExt cx="9144000" cy="1565280"/>
            </a:xfrm>
          </p:grpSpPr>
          <p:sp>
            <p:nvSpPr>
              <p:cNvPr id="47" name=""/>
              <p:cNvSpPr/>
              <p:nvPr/>
            </p:nvSpPr>
            <p:spPr>
              <a:xfrm>
                <a:off x="28440" y="6097680"/>
                <a:ext cx="9087120" cy="125892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verdana"/>
                  </a:rPr>
                  <a:t>Ciudad Maya de Chichen Itzá, Méxic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5943600"/>
                <a:ext cx="9144000" cy="156528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"/>
          <p:cNvSpPr txBox="1"/>
          <p:nvPr/>
        </p:nvSpPr>
        <p:spPr>
          <a:xfrm>
            <a:off x="0" y="1981080"/>
            <a:ext cx="9144000" cy="1771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sde el aire 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330516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30516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0" y="5958000"/>
            <a:ext cx="9144000" cy="1796760"/>
            <a:chOff x="0" y="5958000"/>
            <a:chExt cx="9144000" cy="1796760"/>
          </a:xfrm>
        </p:grpSpPr>
        <p:sp>
          <p:nvSpPr>
            <p:cNvPr id="118" name=""/>
            <p:cNvSpPr/>
            <p:nvPr/>
          </p:nvSpPr>
          <p:spPr>
            <a:xfrm>
              <a:off x="0" y="5958000"/>
              <a:ext cx="9144000" cy="179676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0" y="5958000"/>
              <a:ext cx="9144000" cy="1290600"/>
              <a:chOff x="0" y="5958000"/>
              <a:chExt cx="9144000" cy="1290600"/>
            </a:xfrm>
          </p:grpSpPr>
          <p:sp>
            <p:nvSpPr>
              <p:cNvPr id="120" name=""/>
              <p:cNvSpPr/>
              <p:nvPr/>
            </p:nvSpPr>
            <p:spPr>
              <a:xfrm>
                <a:off x="28440" y="6084720"/>
                <a:ext cx="9087120" cy="104004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Templo Bonnath en Katmandú, Nep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5958000"/>
                <a:ext cx="9144000" cy="129060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312264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12264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-228600" y="6095880"/>
            <a:ext cx="9144000" cy="762120"/>
            <a:chOff x="-228600" y="6095880"/>
            <a:chExt cx="9144000" cy="762120"/>
          </a:xfrm>
        </p:grpSpPr>
        <p:sp>
          <p:nvSpPr>
            <p:cNvPr id="126" name=""/>
            <p:cNvSpPr/>
            <p:nvPr/>
          </p:nvSpPr>
          <p:spPr>
            <a:xfrm>
              <a:off x="-228600" y="6095880"/>
              <a:ext cx="9144000" cy="76212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-228600" y="6095880"/>
              <a:ext cx="9144000" cy="674640"/>
              <a:chOff x="-228600" y="6095880"/>
              <a:chExt cx="9144000" cy="674640"/>
            </a:xfrm>
          </p:grpSpPr>
          <p:sp>
            <p:nvSpPr>
              <p:cNvPr id="128" name=""/>
              <p:cNvSpPr/>
              <p:nvPr/>
            </p:nvSpPr>
            <p:spPr>
              <a:xfrm>
                <a:off x="-200160" y="6118200"/>
                <a:ext cx="9087120" cy="63180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El Atteuf, Argelia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-228600" y="6095880"/>
                <a:ext cx="9144000" cy="67464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330516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30516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0" y="6095880"/>
            <a:ext cx="9144000" cy="2330640"/>
            <a:chOff x="0" y="6095880"/>
            <a:chExt cx="9144000" cy="2330640"/>
          </a:xfrm>
        </p:grpSpPr>
        <p:sp>
          <p:nvSpPr>
            <p:cNvPr id="134" name=""/>
            <p:cNvSpPr/>
            <p:nvPr/>
          </p:nvSpPr>
          <p:spPr>
            <a:xfrm>
              <a:off x="0" y="6095880"/>
              <a:ext cx="9144000" cy="233064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0" y="6095880"/>
              <a:ext cx="9144000" cy="1673280"/>
              <a:chOff x="0" y="6095880"/>
              <a:chExt cx="9144000" cy="1673280"/>
            </a:xfrm>
          </p:grpSpPr>
          <p:sp>
            <p:nvSpPr>
              <p:cNvPr id="136" name=""/>
              <p:cNvSpPr/>
              <p:nvPr/>
            </p:nvSpPr>
            <p:spPr>
              <a:xfrm>
                <a:off x="28440" y="6261120"/>
                <a:ext cx="9087120" cy="134784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Las Tumbas Ming, Chi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6095880"/>
                <a:ext cx="9144000" cy="167328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1624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330516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30516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0" y="5867280"/>
            <a:ext cx="9144000" cy="1570320"/>
            <a:chOff x="0" y="5867280"/>
            <a:chExt cx="9144000" cy="1570320"/>
          </a:xfrm>
        </p:grpSpPr>
        <p:sp>
          <p:nvSpPr>
            <p:cNvPr id="142" name=""/>
            <p:cNvSpPr/>
            <p:nvPr/>
          </p:nvSpPr>
          <p:spPr>
            <a:xfrm>
              <a:off x="0" y="5867280"/>
              <a:ext cx="9144000" cy="157032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5867280"/>
              <a:ext cx="9144000" cy="1127160"/>
              <a:chOff x="0" y="5867280"/>
              <a:chExt cx="9144000" cy="1127160"/>
            </a:xfrm>
          </p:grpSpPr>
          <p:sp>
            <p:nvSpPr>
              <p:cNvPr id="144" name=""/>
              <p:cNvSpPr/>
              <p:nvPr/>
            </p:nvSpPr>
            <p:spPr>
              <a:xfrm>
                <a:off x="28440" y="5978520"/>
                <a:ext cx="9087120" cy="90792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Scheggino, Itali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5867280"/>
                <a:ext cx="9144000" cy="112716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0" y="330516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30516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0" y="5943600"/>
            <a:ext cx="9144000" cy="2711520"/>
            <a:chOff x="0" y="5943600"/>
            <a:chExt cx="9144000" cy="2711520"/>
          </a:xfrm>
        </p:grpSpPr>
        <p:sp>
          <p:nvSpPr>
            <p:cNvPr id="150" name=""/>
            <p:cNvSpPr/>
            <p:nvPr/>
          </p:nvSpPr>
          <p:spPr>
            <a:xfrm>
              <a:off x="0" y="5943600"/>
              <a:ext cx="9144000" cy="271152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0" y="5943600"/>
              <a:ext cx="9144000" cy="1947960"/>
              <a:chOff x="0" y="5943600"/>
              <a:chExt cx="9144000" cy="1947960"/>
            </a:xfrm>
          </p:grpSpPr>
          <p:sp>
            <p:nvSpPr>
              <p:cNvPr id="152" name=""/>
              <p:cNvSpPr/>
              <p:nvPr/>
            </p:nvSpPr>
            <p:spPr>
              <a:xfrm>
                <a:off x="28440" y="6135840"/>
                <a:ext cx="9087120" cy="156816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Favelas en Rio de Janeiro, Brasi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5943600"/>
                <a:ext cx="9144000" cy="194796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0" y="330516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30516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0" y="6095880"/>
            <a:ext cx="9144000" cy="2635200"/>
            <a:chOff x="0" y="6095880"/>
            <a:chExt cx="9144000" cy="2635200"/>
          </a:xfrm>
        </p:grpSpPr>
        <p:sp>
          <p:nvSpPr>
            <p:cNvPr id="158" name=""/>
            <p:cNvSpPr/>
            <p:nvPr/>
          </p:nvSpPr>
          <p:spPr>
            <a:xfrm>
              <a:off x="0" y="6095880"/>
              <a:ext cx="9144000" cy="263520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0" y="6095880"/>
              <a:ext cx="9144000" cy="1892520"/>
              <a:chOff x="0" y="6095880"/>
              <a:chExt cx="9144000" cy="1892520"/>
            </a:xfrm>
          </p:grpSpPr>
          <p:sp>
            <p:nvSpPr>
              <p:cNvPr id="160" name=""/>
              <p:cNvSpPr/>
              <p:nvPr/>
            </p:nvSpPr>
            <p:spPr>
              <a:xfrm>
                <a:off x="28440" y="6281640"/>
                <a:ext cx="9087120" cy="152424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Ruinas Romanas en Baalbek, Líban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6095880"/>
                <a:ext cx="9144000" cy="189252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0" y="330516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30516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0" y="5943600"/>
            <a:ext cx="9144000" cy="2711520"/>
            <a:chOff x="0" y="5943600"/>
            <a:chExt cx="9144000" cy="2711520"/>
          </a:xfrm>
        </p:grpSpPr>
        <p:sp>
          <p:nvSpPr>
            <p:cNvPr id="166" name=""/>
            <p:cNvSpPr/>
            <p:nvPr/>
          </p:nvSpPr>
          <p:spPr>
            <a:xfrm>
              <a:off x="0" y="5943600"/>
              <a:ext cx="9144000" cy="271152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0" y="5943600"/>
              <a:ext cx="9144000" cy="1947960"/>
              <a:chOff x="0" y="5943600"/>
              <a:chExt cx="9144000" cy="1947960"/>
            </a:xfrm>
          </p:grpSpPr>
          <p:sp>
            <p:nvSpPr>
              <p:cNvPr id="168" name=""/>
              <p:cNvSpPr/>
              <p:nvPr/>
            </p:nvSpPr>
            <p:spPr>
              <a:xfrm>
                <a:off x="28440" y="6135840"/>
                <a:ext cx="9087120" cy="156816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Ruinas de Tebas, Greci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943600"/>
                <a:ext cx="9144000" cy="194796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0" y="312264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12264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0" y="6095880"/>
            <a:ext cx="9144000" cy="1068480"/>
            <a:chOff x="0" y="6095880"/>
            <a:chExt cx="9144000" cy="1068480"/>
          </a:xfrm>
        </p:grpSpPr>
        <p:sp>
          <p:nvSpPr>
            <p:cNvPr id="174" name=""/>
            <p:cNvSpPr/>
            <p:nvPr/>
          </p:nvSpPr>
          <p:spPr>
            <a:xfrm>
              <a:off x="0" y="6095880"/>
              <a:ext cx="9144000" cy="106848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0" y="6095880"/>
              <a:ext cx="9144000" cy="946440"/>
              <a:chOff x="0" y="6095880"/>
              <a:chExt cx="9144000" cy="946440"/>
            </a:xfrm>
          </p:grpSpPr>
          <p:sp>
            <p:nvSpPr>
              <p:cNvPr id="176" name=""/>
              <p:cNvSpPr/>
              <p:nvPr/>
            </p:nvSpPr>
            <p:spPr>
              <a:xfrm>
                <a:off x="28440" y="6126120"/>
                <a:ext cx="9087120" cy="88416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Louvre y Ile de la Cité en París, Francia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6095880"/>
                <a:ext cx="9144000" cy="94644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768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0" y="330516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30516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5943600"/>
            <a:ext cx="9144000" cy="1341360"/>
            <a:chOff x="0" y="5943600"/>
            <a:chExt cx="9144000" cy="1341360"/>
          </a:xfrm>
        </p:grpSpPr>
        <p:sp>
          <p:nvSpPr>
            <p:cNvPr id="182" name=""/>
            <p:cNvSpPr/>
            <p:nvPr/>
          </p:nvSpPr>
          <p:spPr>
            <a:xfrm>
              <a:off x="0" y="5943600"/>
              <a:ext cx="9144000" cy="134136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0" y="5943600"/>
              <a:ext cx="9144000" cy="963720"/>
              <a:chOff x="0" y="5943600"/>
              <a:chExt cx="9144000" cy="963720"/>
            </a:xfrm>
          </p:grpSpPr>
          <p:sp>
            <p:nvSpPr>
              <p:cNvPr id="184" name=""/>
              <p:cNvSpPr/>
              <p:nvPr/>
            </p:nvSpPr>
            <p:spPr>
              <a:xfrm>
                <a:off x="28440" y="6039000"/>
                <a:ext cx="9087120" cy="77616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Gran Muralla, Chi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5943600"/>
                <a:ext cx="9144000" cy="96372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768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0" y="312264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12264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0" y="6019920"/>
            <a:ext cx="9144000" cy="838080"/>
            <a:chOff x="0" y="6019920"/>
            <a:chExt cx="9144000" cy="838080"/>
          </a:xfrm>
        </p:grpSpPr>
        <p:sp>
          <p:nvSpPr>
            <p:cNvPr id="190" name=""/>
            <p:cNvSpPr/>
            <p:nvPr/>
          </p:nvSpPr>
          <p:spPr>
            <a:xfrm>
              <a:off x="0" y="6019920"/>
              <a:ext cx="9144000" cy="83808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0" y="6019920"/>
              <a:ext cx="9144000" cy="742680"/>
              <a:chOff x="0" y="6019920"/>
              <a:chExt cx="9144000" cy="742680"/>
            </a:xfrm>
          </p:grpSpPr>
          <p:sp>
            <p:nvSpPr>
              <p:cNvPr id="192" name=""/>
              <p:cNvSpPr/>
              <p:nvPr/>
            </p:nvSpPr>
            <p:spPr>
              <a:xfrm>
                <a:off x="28440" y="6043680"/>
                <a:ext cx="9087120" cy="69372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Centro de Sanaa, Yemen</a:t>
                </a:r>
                <a:br>
                  <a:rPr sz="800"/>
                </a:b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6019920"/>
                <a:ext cx="9144000" cy="74268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76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312264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12264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6095880"/>
            <a:ext cx="9144000" cy="1143000"/>
            <a:chOff x="0" y="6095880"/>
            <a:chExt cx="9144000" cy="1143000"/>
          </a:xfrm>
        </p:grpSpPr>
        <p:sp>
          <p:nvSpPr>
            <p:cNvPr id="54" name=""/>
            <p:cNvSpPr/>
            <p:nvPr/>
          </p:nvSpPr>
          <p:spPr>
            <a:xfrm>
              <a:off x="0" y="6095880"/>
              <a:ext cx="9144000" cy="114300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6095880"/>
              <a:ext cx="9144000" cy="1013040"/>
              <a:chOff x="0" y="6095880"/>
              <a:chExt cx="9144000" cy="1013040"/>
            </a:xfrm>
          </p:grpSpPr>
          <p:sp>
            <p:nvSpPr>
              <p:cNvPr id="56" name=""/>
              <p:cNvSpPr/>
              <p:nvPr/>
            </p:nvSpPr>
            <p:spPr>
              <a:xfrm>
                <a:off x="28440" y="6129360"/>
                <a:ext cx="9087120" cy="94608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Wat Phra Doi Suthep, Tailandia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6095880"/>
                <a:ext cx="9144000" cy="101304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76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312264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12264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-152280" y="5943600"/>
            <a:ext cx="9144000" cy="1449360"/>
            <a:chOff x="-152280" y="5943600"/>
            <a:chExt cx="9144000" cy="1449360"/>
          </a:xfrm>
        </p:grpSpPr>
        <p:sp>
          <p:nvSpPr>
            <p:cNvPr id="198" name=""/>
            <p:cNvSpPr/>
            <p:nvPr/>
          </p:nvSpPr>
          <p:spPr>
            <a:xfrm>
              <a:off x="-152280" y="5943600"/>
              <a:ext cx="9144000" cy="144936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-152280" y="5943600"/>
              <a:ext cx="9144000" cy="1282680"/>
              <a:chOff x="-152280" y="5943600"/>
              <a:chExt cx="9144000" cy="1282680"/>
            </a:xfrm>
          </p:grpSpPr>
          <p:sp>
            <p:nvSpPr>
              <p:cNvPr id="200" name=""/>
              <p:cNvSpPr/>
              <p:nvPr/>
            </p:nvSpPr>
            <p:spPr>
              <a:xfrm>
                <a:off x="-123840" y="5985000"/>
                <a:ext cx="9086760" cy="119988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Palacio destruido por la guerra en Kabul, Afganistán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-152280" y="5943600"/>
                <a:ext cx="9144000" cy="128268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197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0" y="312264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12264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-152280" y="6095880"/>
            <a:ext cx="9144000" cy="992160"/>
            <a:chOff x="-152280" y="6095880"/>
            <a:chExt cx="9144000" cy="992160"/>
          </a:xfrm>
        </p:grpSpPr>
        <p:sp>
          <p:nvSpPr>
            <p:cNvPr id="206" name=""/>
            <p:cNvSpPr/>
            <p:nvPr/>
          </p:nvSpPr>
          <p:spPr>
            <a:xfrm>
              <a:off x="-152280" y="6095880"/>
              <a:ext cx="9144000" cy="99216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-152280" y="6095880"/>
              <a:ext cx="9144000" cy="879480"/>
              <a:chOff x="-152280" y="6095880"/>
              <a:chExt cx="9144000" cy="879480"/>
            </a:xfrm>
          </p:grpSpPr>
          <p:sp>
            <p:nvSpPr>
              <p:cNvPr id="208" name=""/>
              <p:cNvSpPr/>
              <p:nvPr/>
            </p:nvSpPr>
            <p:spPr>
              <a:xfrm>
                <a:off x="-123840" y="6124680"/>
                <a:ext cx="9086760" cy="82224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Paris, Francia</a:t>
                </a:r>
                <a:br>
                  <a:rPr sz="800"/>
                </a:b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-152280" y="6095880"/>
                <a:ext cx="9144000" cy="87948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0" y="330516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30516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0" y="5958000"/>
            <a:ext cx="9144000" cy="1796760"/>
            <a:chOff x="0" y="5958000"/>
            <a:chExt cx="9144000" cy="1796760"/>
          </a:xfrm>
        </p:grpSpPr>
        <p:sp>
          <p:nvSpPr>
            <p:cNvPr id="214" name=""/>
            <p:cNvSpPr/>
            <p:nvPr/>
          </p:nvSpPr>
          <p:spPr>
            <a:xfrm>
              <a:off x="0" y="5958000"/>
              <a:ext cx="9144000" cy="179676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0" y="5958000"/>
              <a:ext cx="9144000" cy="1290600"/>
              <a:chOff x="0" y="5958000"/>
              <a:chExt cx="9144000" cy="1290600"/>
            </a:xfrm>
          </p:grpSpPr>
          <p:sp>
            <p:nvSpPr>
              <p:cNvPr id="216" name=""/>
              <p:cNvSpPr/>
              <p:nvPr/>
            </p:nvSpPr>
            <p:spPr>
              <a:xfrm>
                <a:off x="28440" y="6084720"/>
                <a:ext cx="9087120" cy="104004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Aleppo, Siri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5958000"/>
                <a:ext cx="9144000" cy="129060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0" y="330516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330516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0" y="5943600"/>
            <a:ext cx="9144000" cy="2406600"/>
            <a:chOff x="0" y="5943600"/>
            <a:chExt cx="9144000" cy="2406600"/>
          </a:xfrm>
        </p:grpSpPr>
        <p:sp>
          <p:nvSpPr>
            <p:cNvPr id="222" name=""/>
            <p:cNvSpPr/>
            <p:nvPr/>
          </p:nvSpPr>
          <p:spPr>
            <a:xfrm>
              <a:off x="0" y="5943600"/>
              <a:ext cx="9144000" cy="240660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0" y="5943600"/>
              <a:ext cx="9144000" cy="1728720"/>
              <a:chOff x="0" y="5943600"/>
              <a:chExt cx="9144000" cy="1728720"/>
            </a:xfrm>
          </p:grpSpPr>
          <p:sp>
            <p:nvSpPr>
              <p:cNvPr id="224" name=""/>
              <p:cNvSpPr/>
              <p:nvPr/>
            </p:nvSpPr>
            <p:spPr>
              <a:xfrm>
                <a:off x="28440" y="6113520"/>
                <a:ext cx="9087120" cy="139212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Casas Flotantes en Makoko, Botswa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5943600"/>
                <a:ext cx="9144000" cy="172872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0" y="330516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330516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0" y="6095880"/>
            <a:ext cx="9144000" cy="2178000"/>
            <a:chOff x="0" y="6095880"/>
            <a:chExt cx="9144000" cy="2178000"/>
          </a:xfrm>
        </p:grpSpPr>
        <p:sp>
          <p:nvSpPr>
            <p:cNvPr id="230" name=""/>
            <p:cNvSpPr/>
            <p:nvPr/>
          </p:nvSpPr>
          <p:spPr>
            <a:xfrm>
              <a:off x="0" y="6095880"/>
              <a:ext cx="9144000" cy="217800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0" y="6095880"/>
              <a:ext cx="9144000" cy="1565280"/>
              <a:chOff x="0" y="6095880"/>
              <a:chExt cx="9144000" cy="1565280"/>
            </a:xfrm>
          </p:grpSpPr>
          <p:sp>
            <p:nvSpPr>
              <p:cNvPr id="232" name=""/>
              <p:cNvSpPr/>
              <p:nvPr/>
            </p:nvSpPr>
            <p:spPr>
              <a:xfrm>
                <a:off x="28440" y="6249960"/>
                <a:ext cx="9087120" cy="125892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Mercado en Kasserine, Túnez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6095880"/>
                <a:ext cx="9144000" cy="156528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0" y="330516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330516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0" y="5943600"/>
            <a:ext cx="9144000" cy="2178000"/>
            <a:chOff x="0" y="5943600"/>
            <a:chExt cx="9144000" cy="2178000"/>
          </a:xfrm>
        </p:grpSpPr>
        <p:sp>
          <p:nvSpPr>
            <p:cNvPr id="238" name=""/>
            <p:cNvSpPr/>
            <p:nvPr/>
          </p:nvSpPr>
          <p:spPr>
            <a:xfrm>
              <a:off x="0" y="5943600"/>
              <a:ext cx="9144000" cy="217800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0" y="5943600"/>
              <a:ext cx="9144000" cy="1565280"/>
              <a:chOff x="0" y="5943600"/>
              <a:chExt cx="9144000" cy="1565280"/>
            </a:xfrm>
          </p:grpSpPr>
          <p:sp>
            <p:nvSpPr>
              <p:cNvPr id="240" name=""/>
              <p:cNvSpPr/>
              <p:nvPr/>
            </p:nvSpPr>
            <p:spPr>
              <a:xfrm>
                <a:off x="28440" y="6097680"/>
                <a:ext cx="9087120" cy="125892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Islote cerca de Heimaey, Islandi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5943600"/>
                <a:ext cx="9144000" cy="156528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76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0" y="330516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330516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0" y="6095880"/>
            <a:ext cx="9144000" cy="1812960"/>
            <a:chOff x="0" y="6095880"/>
            <a:chExt cx="9144000" cy="1812960"/>
          </a:xfrm>
        </p:grpSpPr>
        <p:sp>
          <p:nvSpPr>
            <p:cNvPr id="246" name=""/>
            <p:cNvSpPr/>
            <p:nvPr/>
          </p:nvSpPr>
          <p:spPr>
            <a:xfrm>
              <a:off x="0" y="6095880"/>
              <a:ext cx="9144000" cy="181296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0" y="6095880"/>
              <a:ext cx="9144000" cy="1301760"/>
              <a:chOff x="0" y="6095880"/>
              <a:chExt cx="9144000" cy="1301760"/>
            </a:xfrm>
          </p:grpSpPr>
          <p:sp>
            <p:nvSpPr>
              <p:cNvPr id="248" name=""/>
              <p:cNvSpPr/>
              <p:nvPr/>
            </p:nvSpPr>
            <p:spPr>
              <a:xfrm>
                <a:off x="28440" y="6222960"/>
                <a:ext cx="9087120" cy="104796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Mujeres trabajando, Mal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6095880"/>
                <a:ext cx="9144000" cy="130176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0" y="312264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12264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0" y="5943600"/>
            <a:ext cx="9144000" cy="914400"/>
            <a:chOff x="0" y="5943600"/>
            <a:chExt cx="9144000" cy="914400"/>
          </a:xfrm>
        </p:grpSpPr>
        <p:sp>
          <p:nvSpPr>
            <p:cNvPr id="254" name=""/>
            <p:cNvSpPr/>
            <p:nvPr/>
          </p:nvSpPr>
          <p:spPr>
            <a:xfrm>
              <a:off x="0" y="5943600"/>
              <a:ext cx="9144000" cy="91440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0" y="5943600"/>
              <a:ext cx="9144000" cy="809640"/>
              <a:chOff x="0" y="5943600"/>
              <a:chExt cx="9144000" cy="809640"/>
            </a:xfrm>
          </p:grpSpPr>
          <p:sp>
            <p:nvSpPr>
              <p:cNvPr id="256" name=""/>
              <p:cNvSpPr/>
              <p:nvPr/>
            </p:nvSpPr>
            <p:spPr>
              <a:xfrm>
                <a:off x="28440" y="5969160"/>
                <a:ext cx="9087120" cy="75708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Pivotes de Irrigación, Jordania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0" y="5943600"/>
                <a:ext cx="9144000" cy="80964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0" y="312264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12264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0" y="6095880"/>
            <a:ext cx="9144000" cy="990720"/>
            <a:chOff x="0" y="6095880"/>
            <a:chExt cx="9144000" cy="990720"/>
          </a:xfrm>
        </p:grpSpPr>
        <p:sp>
          <p:nvSpPr>
            <p:cNvPr id="262" name=""/>
            <p:cNvSpPr/>
            <p:nvPr/>
          </p:nvSpPr>
          <p:spPr>
            <a:xfrm>
              <a:off x="0" y="6095880"/>
              <a:ext cx="9144000" cy="99072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0" y="6095880"/>
              <a:ext cx="9144000" cy="878040"/>
              <a:chOff x="0" y="6095880"/>
              <a:chExt cx="9144000" cy="878040"/>
            </a:xfrm>
          </p:grpSpPr>
          <p:sp>
            <p:nvSpPr>
              <p:cNvPr id="264" name=""/>
              <p:cNvSpPr/>
              <p:nvPr/>
            </p:nvSpPr>
            <p:spPr>
              <a:xfrm>
                <a:off x="28440" y="6124680"/>
                <a:ext cx="9087120" cy="82080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Isla del Archipielago Sulu, Filipinas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0" y="6095880"/>
                <a:ext cx="9144000" cy="87804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0" y="330516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30516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0" y="5943600"/>
            <a:ext cx="9144000" cy="1417680"/>
            <a:chOff x="0" y="5943600"/>
            <a:chExt cx="9144000" cy="1417680"/>
          </a:xfrm>
        </p:grpSpPr>
        <p:sp>
          <p:nvSpPr>
            <p:cNvPr id="270" name=""/>
            <p:cNvSpPr/>
            <p:nvPr/>
          </p:nvSpPr>
          <p:spPr>
            <a:xfrm>
              <a:off x="0" y="5943600"/>
              <a:ext cx="9144000" cy="141768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0" y="5943600"/>
              <a:ext cx="9144000" cy="1017720"/>
              <a:chOff x="0" y="5943600"/>
              <a:chExt cx="9144000" cy="1017720"/>
            </a:xfrm>
          </p:grpSpPr>
          <p:sp>
            <p:nvSpPr>
              <p:cNvPr id="272" name=""/>
              <p:cNvSpPr/>
              <p:nvPr/>
            </p:nvSpPr>
            <p:spPr>
              <a:xfrm>
                <a:off x="28440" y="6043680"/>
                <a:ext cx="9087120" cy="81900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Montañas cerca de Jengish, Kirguistá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0" y="5943600"/>
                <a:ext cx="9144000" cy="101772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330516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30516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0" y="6019920"/>
            <a:ext cx="9144000" cy="2101680"/>
            <a:chOff x="0" y="6019920"/>
            <a:chExt cx="9144000" cy="2101680"/>
          </a:xfrm>
        </p:grpSpPr>
        <p:sp>
          <p:nvSpPr>
            <p:cNvPr id="62" name=""/>
            <p:cNvSpPr/>
            <p:nvPr/>
          </p:nvSpPr>
          <p:spPr>
            <a:xfrm>
              <a:off x="0" y="6019920"/>
              <a:ext cx="9144000" cy="210168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0" y="6019920"/>
              <a:ext cx="9144000" cy="1509480"/>
              <a:chOff x="0" y="6019920"/>
              <a:chExt cx="9144000" cy="1509480"/>
            </a:xfrm>
          </p:grpSpPr>
          <p:sp>
            <p:nvSpPr>
              <p:cNvPr id="64" name=""/>
              <p:cNvSpPr/>
              <p:nvPr/>
            </p:nvSpPr>
            <p:spPr>
              <a:xfrm>
                <a:off x="28440" y="6168960"/>
                <a:ext cx="9087120" cy="121608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Villa de los Masai, Keni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6019920"/>
                <a:ext cx="9144000" cy="150948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76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0" y="312264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12264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-152280" y="6095880"/>
            <a:ext cx="9144000" cy="990720"/>
            <a:chOff x="-152280" y="6095880"/>
            <a:chExt cx="9144000" cy="990720"/>
          </a:xfrm>
        </p:grpSpPr>
        <p:sp>
          <p:nvSpPr>
            <p:cNvPr id="278" name=""/>
            <p:cNvSpPr/>
            <p:nvPr/>
          </p:nvSpPr>
          <p:spPr>
            <a:xfrm>
              <a:off x="-152280" y="6095880"/>
              <a:ext cx="9144000" cy="99072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-152280" y="6095880"/>
              <a:ext cx="9144000" cy="878040"/>
              <a:chOff x="-152280" y="6095880"/>
              <a:chExt cx="9144000" cy="878040"/>
            </a:xfrm>
          </p:grpSpPr>
          <p:sp>
            <p:nvSpPr>
              <p:cNvPr id="280" name=""/>
              <p:cNvSpPr/>
              <p:nvPr/>
            </p:nvSpPr>
            <p:spPr>
              <a:xfrm>
                <a:off x="-123840" y="6124680"/>
                <a:ext cx="9086760" cy="82080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Estación de Buses en Bobo-Dioulasso, Burkina Faso 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-152280" y="6095880"/>
                <a:ext cx="9144000" cy="87804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0" y="330516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330516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0" y="5943600"/>
            <a:ext cx="9144000" cy="1341360"/>
            <a:chOff x="0" y="5943600"/>
            <a:chExt cx="9144000" cy="1341360"/>
          </a:xfrm>
        </p:grpSpPr>
        <p:sp>
          <p:nvSpPr>
            <p:cNvPr id="286" name=""/>
            <p:cNvSpPr/>
            <p:nvPr/>
          </p:nvSpPr>
          <p:spPr>
            <a:xfrm>
              <a:off x="0" y="5943600"/>
              <a:ext cx="9144000" cy="134136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0" y="5943600"/>
              <a:ext cx="9144000" cy="963720"/>
              <a:chOff x="0" y="5943600"/>
              <a:chExt cx="9144000" cy="963720"/>
            </a:xfrm>
          </p:grpSpPr>
          <p:sp>
            <p:nvSpPr>
              <p:cNvPr id="288" name=""/>
              <p:cNvSpPr/>
              <p:nvPr/>
            </p:nvSpPr>
            <p:spPr>
              <a:xfrm>
                <a:off x="28440" y="6039000"/>
                <a:ext cx="9087120" cy="77616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Construcción de un Campo de Golf en Punta Cana, República Dominica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0" y="5943600"/>
                <a:ext cx="9144000" cy="96372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102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0" y="330516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30516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0" y="5867280"/>
            <a:ext cx="9144000" cy="1417680"/>
            <a:chOff x="0" y="5867280"/>
            <a:chExt cx="9144000" cy="1417680"/>
          </a:xfrm>
        </p:grpSpPr>
        <p:sp>
          <p:nvSpPr>
            <p:cNvPr id="294" name=""/>
            <p:cNvSpPr/>
            <p:nvPr/>
          </p:nvSpPr>
          <p:spPr>
            <a:xfrm>
              <a:off x="0" y="5867280"/>
              <a:ext cx="9144000" cy="141768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0" y="5867280"/>
              <a:ext cx="9144000" cy="1019160"/>
              <a:chOff x="0" y="5867280"/>
              <a:chExt cx="9144000" cy="1019160"/>
            </a:xfrm>
          </p:grpSpPr>
          <p:sp>
            <p:nvSpPr>
              <p:cNvPr id="296" name=""/>
              <p:cNvSpPr/>
              <p:nvPr/>
            </p:nvSpPr>
            <p:spPr>
              <a:xfrm>
                <a:off x="28440" y="5967360"/>
                <a:ext cx="9087120" cy="82080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Nudo de Autopistas en Los Angeles, Estados Unid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0" y="5867280"/>
                <a:ext cx="9144000" cy="101916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006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0" y="330516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330516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0" y="6095880"/>
            <a:ext cx="9144000" cy="1189080"/>
            <a:chOff x="0" y="6095880"/>
            <a:chExt cx="9144000" cy="1189080"/>
          </a:xfrm>
        </p:grpSpPr>
        <p:sp>
          <p:nvSpPr>
            <p:cNvPr id="302" name=""/>
            <p:cNvSpPr/>
            <p:nvPr/>
          </p:nvSpPr>
          <p:spPr>
            <a:xfrm>
              <a:off x="0" y="6095880"/>
              <a:ext cx="9144000" cy="118908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0" y="6095880"/>
              <a:ext cx="9144000" cy="854280"/>
              <a:chOff x="0" y="6095880"/>
              <a:chExt cx="9144000" cy="854280"/>
            </a:xfrm>
          </p:grpSpPr>
          <p:sp>
            <p:nvSpPr>
              <p:cNvPr id="304" name=""/>
              <p:cNvSpPr/>
              <p:nvPr/>
            </p:nvSpPr>
            <p:spPr>
              <a:xfrm>
                <a:off x="28440" y="6180120"/>
                <a:ext cx="9087120" cy="68724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Laguna Los Micos, Hondur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6095880"/>
                <a:ext cx="9144000" cy="85428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496040" cy="2989440"/>
          </a:xfrm>
          <a:prstGeom prst="rect">
            <a:avLst/>
          </a:prstGeom>
          <a:ln w="41400">
            <a:solidFill>
              <a:srgbClr val="ff6600"/>
            </a:solidFill>
            <a:miter/>
          </a:ln>
        </p:spPr>
      </p:pic>
      <p:sp>
        <p:nvSpPr>
          <p:cNvPr id="307" name=""/>
          <p:cNvSpPr/>
          <p:nvPr/>
        </p:nvSpPr>
        <p:spPr>
          <a:xfrm>
            <a:off x="1143000" y="33526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a fotografía de esta presentación es d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41148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Yann Arthus-Bertran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13 de marzo de 1946) es un renombrado y conocido fotógrafo francés. Originalmente su especialidad era la fotografía de animales, pero luego cambió su rumbo a la fotografía aérea; ha tomado fotos de locaciones aéreas alrededor del mun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7010280" y="5943600"/>
            <a:ext cx="638280" cy="657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liz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312264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12264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6095880"/>
            <a:ext cx="9144000" cy="762120"/>
            <a:chOff x="0" y="6095880"/>
            <a:chExt cx="9144000" cy="762120"/>
          </a:xfrm>
        </p:grpSpPr>
        <p:sp>
          <p:nvSpPr>
            <p:cNvPr id="70" name=""/>
            <p:cNvSpPr/>
            <p:nvPr/>
          </p:nvSpPr>
          <p:spPr>
            <a:xfrm>
              <a:off x="0" y="6095880"/>
              <a:ext cx="9144000" cy="76212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0" y="6095880"/>
              <a:ext cx="9144000" cy="674640"/>
              <a:chOff x="0" y="6095880"/>
              <a:chExt cx="9144000" cy="674640"/>
            </a:xfrm>
          </p:grpSpPr>
          <p:sp>
            <p:nvSpPr>
              <p:cNvPr id="72" name=""/>
              <p:cNvSpPr/>
              <p:nvPr/>
            </p:nvSpPr>
            <p:spPr>
              <a:xfrm>
                <a:off x="28440" y="6118200"/>
                <a:ext cx="9087120" cy="63180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Glaciar en Laguna San Rafael, Chile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6095880"/>
                <a:ext cx="9144000" cy="67464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312264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12264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6095880"/>
            <a:ext cx="9144000" cy="762120"/>
            <a:chOff x="0" y="6095880"/>
            <a:chExt cx="9144000" cy="762120"/>
          </a:xfrm>
        </p:grpSpPr>
        <p:sp>
          <p:nvSpPr>
            <p:cNvPr id="78" name=""/>
            <p:cNvSpPr/>
            <p:nvPr/>
          </p:nvSpPr>
          <p:spPr>
            <a:xfrm>
              <a:off x="0" y="6095880"/>
              <a:ext cx="9144000" cy="76212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0" y="6095880"/>
              <a:ext cx="9144000" cy="674640"/>
              <a:chOff x="0" y="6095880"/>
              <a:chExt cx="9144000" cy="674640"/>
            </a:xfrm>
          </p:grpSpPr>
          <p:sp>
            <p:nvSpPr>
              <p:cNvPr id="80" name=""/>
              <p:cNvSpPr/>
              <p:nvPr/>
            </p:nvSpPr>
            <p:spPr>
              <a:xfrm>
                <a:off x="28440" y="6118200"/>
                <a:ext cx="9087120" cy="63180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Mina de Carbón en Sudáfrica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6095880"/>
                <a:ext cx="9144000" cy="67464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72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330516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30516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6172200"/>
            <a:ext cx="9144000" cy="2482920"/>
            <a:chOff x="0" y="6172200"/>
            <a:chExt cx="9144000" cy="2482920"/>
          </a:xfrm>
        </p:grpSpPr>
        <p:sp>
          <p:nvSpPr>
            <p:cNvPr id="86" name=""/>
            <p:cNvSpPr/>
            <p:nvPr/>
          </p:nvSpPr>
          <p:spPr>
            <a:xfrm>
              <a:off x="0" y="6172200"/>
              <a:ext cx="9144000" cy="248292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0" y="6172200"/>
              <a:ext cx="9144000" cy="1782720"/>
              <a:chOff x="0" y="6172200"/>
              <a:chExt cx="9144000" cy="1782720"/>
            </a:xfrm>
          </p:grpSpPr>
          <p:sp>
            <p:nvSpPr>
              <p:cNvPr id="88" name=""/>
              <p:cNvSpPr/>
              <p:nvPr/>
            </p:nvSpPr>
            <p:spPr>
              <a:xfrm>
                <a:off x="28440" y="6346800"/>
                <a:ext cx="9087120" cy="143676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Aldea en Santorini, Greci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172200"/>
                <a:ext cx="9144000" cy="178272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330516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30516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0" y="5943600"/>
            <a:ext cx="9144000" cy="2406600"/>
            <a:chOff x="0" y="5943600"/>
            <a:chExt cx="9144000" cy="2406600"/>
          </a:xfrm>
        </p:grpSpPr>
        <p:sp>
          <p:nvSpPr>
            <p:cNvPr id="94" name=""/>
            <p:cNvSpPr/>
            <p:nvPr/>
          </p:nvSpPr>
          <p:spPr>
            <a:xfrm>
              <a:off x="0" y="5943600"/>
              <a:ext cx="9144000" cy="240660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0" y="5943600"/>
              <a:ext cx="9144000" cy="1728720"/>
              <a:chOff x="0" y="5943600"/>
              <a:chExt cx="9144000" cy="1728720"/>
            </a:xfrm>
          </p:grpSpPr>
          <p:sp>
            <p:nvSpPr>
              <p:cNvPr id="96" name=""/>
              <p:cNvSpPr/>
              <p:nvPr/>
            </p:nvSpPr>
            <p:spPr>
              <a:xfrm>
                <a:off x="28440" y="6113520"/>
                <a:ext cx="9087120" cy="139212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Suburbios de Copenhaguen, Dinamarc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5943600"/>
                <a:ext cx="9144000" cy="172872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312264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12264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0" y="6019920"/>
            <a:ext cx="9144000" cy="1066680"/>
            <a:chOff x="0" y="6019920"/>
            <a:chExt cx="9144000" cy="1066680"/>
          </a:xfrm>
        </p:grpSpPr>
        <p:sp>
          <p:nvSpPr>
            <p:cNvPr id="102" name=""/>
            <p:cNvSpPr/>
            <p:nvPr/>
          </p:nvSpPr>
          <p:spPr>
            <a:xfrm>
              <a:off x="0" y="6019920"/>
              <a:ext cx="9144000" cy="106668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0" y="6019920"/>
              <a:ext cx="9144000" cy="944280"/>
              <a:chOff x="0" y="6019920"/>
              <a:chExt cx="9144000" cy="944280"/>
            </a:xfrm>
          </p:grpSpPr>
          <p:sp>
            <p:nvSpPr>
              <p:cNvPr id="104" name=""/>
              <p:cNvSpPr/>
              <p:nvPr/>
            </p:nvSpPr>
            <p:spPr>
              <a:xfrm>
                <a:off x="28440" y="6049800"/>
                <a:ext cx="9087120" cy="88272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Villa de Skärhamn, Suecia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6019920"/>
                <a:ext cx="9144000" cy="94428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3305160"/>
            <a:ext cx="89614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305160"/>
            <a:ext cx="9144000" cy="144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0" y="6095880"/>
            <a:ext cx="9144000" cy="3395880"/>
            <a:chOff x="0" y="6095880"/>
            <a:chExt cx="9144000" cy="3395880"/>
          </a:xfrm>
        </p:grpSpPr>
        <p:sp>
          <p:nvSpPr>
            <p:cNvPr id="110" name=""/>
            <p:cNvSpPr/>
            <p:nvPr/>
          </p:nvSpPr>
          <p:spPr>
            <a:xfrm>
              <a:off x="0" y="6095880"/>
              <a:ext cx="9144000" cy="3395880"/>
            </a:xfrm>
            <a:prstGeom prst="rect">
              <a:avLst/>
            </a:pr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6095880"/>
              <a:ext cx="9144000" cy="2438640"/>
              <a:chOff x="0" y="6095880"/>
              <a:chExt cx="9144000" cy="2438640"/>
            </a:xfrm>
          </p:grpSpPr>
          <p:sp>
            <p:nvSpPr>
              <p:cNvPr id="112" name=""/>
              <p:cNvSpPr/>
              <p:nvPr/>
            </p:nvSpPr>
            <p:spPr>
              <a:xfrm>
                <a:off x="28440" y="6335640"/>
                <a:ext cx="9087120" cy="1963800"/>
              </a:xfrm>
              <a:prstGeom prst="rect">
                <a:avLst/>
              </a:prstGeom>
              <a:solidFill>
                <a:srgbClr val="f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verdana"/>
                  </a:rPr>
                  <a:t>Bosque en la Región de Chaverloix en Quebec, Canadá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6095880"/>
                <a:ext cx="9144000" cy="243864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7:40:32Z</dcterms:created>
  <dc:creator>Eliza Torres</dc:creator>
  <dc:description/>
  <dc:language>en-US</dc:language>
  <cp:lastModifiedBy>Eliza Torres</cp:lastModifiedBy>
  <dcterms:modified xsi:type="dcterms:W3CDTF">2009-12-21T21:13:21Z</dcterms:modified>
  <cp:revision>5</cp:revision>
  <dc:subject/>
  <dc:title>Presentación de PowerPoint</dc:title>
</cp:coreProperties>
</file>