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03F7-52C5-4AFC-BDE3-D1D7B54D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AF9-7556-45DB-8E9C-FD9D5639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7A66-C3F2-4169-9A85-2469DE58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24FF-E21C-4478-A76D-DDFFDE38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E74F-FFB5-4C99-A165-1F79340A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6930-2E50-44B3-B1ED-937912AD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C60-118D-4D8E-8C08-5F6557A2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D504-C85F-482B-8F55-A8BE47E6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641-EFBD-4C73-AA34-EC5391E2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944-6793-4B74-A86C-76F4C5BC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CC6-5B80-4A3D-83A0-DF09F69C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A39B-A5B5-4579-A438-115471B6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18E323-214E-45CA-B891-3F6548DEC43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5943600"/>
            <a:ext cx="9144000" cy="2178000"/>
            <a:chOff x="0" y="5943600"/>
            <a:chExt cx="9144000" cy="2178000"/>
          </a:xfrm>
        </p:grpSpPr>
        <p:sp>
          <p:nvSpPr>
            <p:cNvPr id="45" name=""/>
            <p:cNvSpPr/>
            <p:nvPr/>
          </p:nvSpPr>
          <p:spPr>
            <a:xfrm>
              <a:off x="0" y="5943600"/>
              <a:ext cx="9144000" cy="217800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5943600"/>
              <a:ext cx="9144000" cy="1565280"/>
              <a:chOff x="0" y="5943600"/>
              <a:chExt cx="9144000" cy="1565280"/>
            </a:xfrm>
          </p:grpSpPr>
          <p:sp>
            <p:nvSpPr>
              <p:cNvPr id="47" name=""/>
              <p:cNvSpPr/>
              <p:nvPr/>
            </p:nvSpPr>
            <p:spPr>
              <a:xfrm>
                <a:off x="28440" y="6097680"/>
                <a:ext cx="9087120" cy="125892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verdana"/>
                  </a:rPr>
                  <a:t>Ciudad Maya de Chichen Itzá, Méxic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5943600"/>
                <a:ext cx="9144000" cy="15652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"/>
          <p:cNvSpPr txBox="1"/>
          <p:nvPr/>
        </p:nvSpPr>
        <p:spPr>
          <a:xfrm>
            <a:off x="0" y="1981080"/>
            <a:ext cx="9144000" cy="1771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de el aire 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5958000"/>
            <a:ext cx="9144000" cy="1796760"/>
            <a:chOff x="0" y="5958000"/>
            <a:chExt cx="9144000" cy="1796760"/>
          </a:xfrm>
        </p:grpSpPr>
        <p:sp>
          <p:nvSpPr>
            <p:cNvPr id="118" name=""/>
            <p:cNvSpPr/>
            <p:nvPr/>
          </p:nvSpPr>
          <p:spPr>
            <a:xfrm>
              <a:off x="0" y="5958000"/>
              <a:ext cx="9144000" cy="179676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0" y="5958000"/>
              <a:ext cx="9144000" cy="1290600"/>
              <a:chOff x="0" y="5958000"/>
              <a:chExt cx="9144000" cy="1290600"/>
            </a:xfrm>
          </p:grpSpPr>
          <p:sp>
            <p:nvSpPr>
              <p:cNvPr id="120" name=""/>
              <p:cNvSpPr/>
              <p:nvPr/>
            </p:nvSpPr>
            <p:spPr>
              <a:xfrm>
                <a:off x="28440" y="6084720"/>
                <a:ext cx="9087120" cy="104004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Templo Bonnath en Katmandú, Nep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5958000"/>
                <a:ext cx="9144000" cy="12906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-228600" y="6095880"/>
            <a:ext cx="9144000" cy="762120"/>
            <a:chOff x="-228600" y="6095880"/>
            <a:chExt cx="9144000" cy="762120"/>
          </a:xfrm>
        </p:grpSpPr>
        <p:sp>
          <p:nvSpPr>
            <p:cNvPr id="126" name=""/>
            <p:cNvSpPr/>
            <p:nvPr/>
          </p:nvSpPr>
          <p:spPr>
            <a:xfrm>
              <a:off x="-228600" y="6095880"/>
              <a:ext cx="9144000" cy="76212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-228600" y="6095880"/>
              <a:ext cx="9144000" cy="674640"/>
              <a:chOff x="-228600" y="6095880"/>
              <a:chExt cx="9144000" cy="674640"/>
            </a:xfrm>
          </p:grpSpPr>
          <p:sp>
            <p:nvSpPr>
              <p:cNvPr id="128" name=""/>
              <p:cNvSpPr/>
              <p:nvPr/>
            </p:nvSpPr>
            <p:spPr>
              <a:xfrm>
                <a:off x="-200160" y="6118200"/>
                <a:ext cx="9087120" cy="63180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El Atteuf, Argelia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-228600" y="6095880"/>
                <a:ext cx="9144000" cy="67464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6095880"/>
            <a:ext cx="9144000" cy="2330640"/>
            <a:chOff x="0" y="6095880"/>
            <a:chExt cx="9144000" cy="2330640"/>
          </a:xfrm>
        </p:grpSpPr>
        <p:sp>
          <p:nvSpPr>
            <p:cNvPr id="134" name=""/>
            <p:cNvSpPr/>
            <p:nvPr/>
          </p:nvSpPr>
          <p:spPr>
            <a:xfrm>
              <a:off x="0" y="6095880"/>
              <a:ext cx="9144000" cy="233064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0" y="6095880"/>
              <a:ext cx="9144000" cy="1673280"/>
              <a:chOff x="0" y="6095880"/>
              <a:chExt cx="9144000" cy="1673280"/>
            </a:xfrm>
          </p:grpSpPr>
          <p:sp>
            <p:nvSpPr>
              <p:cNvPr id="136" name=""/>
              <p:cNvSpPr/>
              <p:nvPr/>
            </p:nvSpPr>
            <p:spPr>
              <a:xfrm>
                <a:off x="28440" y="6261120"/>
                <a:ext cx="9087120" cy="134784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Las Tumbas Ming, Chi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6095880"/>
                <a:ext cx="9144000" cy="16732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162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5867280"/>
            <a:ext cx="9144000" cy="1570320"/>
            <a:chOff x="0" y="5867280"/>
            <a:chExt cx="9144000" cy="1570320"/>
          </a:xfrm>
        </p:grpSpPr>
        <p:sp>
          <p:nvSpPr>
            <p:cNvPr id="142" name=""/>
            <p:cNvSpPr/>
            <p:nvPr/>
          </p:nvSpPr>
          <p:spPr>
            <a:xfrm>
              <a:off x="0" y="5867280"/>
              <a:ext cx="9144000" cy="157032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5867280"/>
              <a:ext cx="9144000" cy="1127160"/>
              <a:chOff x="0" y="5867280"/>
              <a:chExt cx="9144000" cy="1127160"/>
            </a:xfrm>
          </p:grpSpPr>
          <p:sp>
            <p:nvSpPr>
              <p:cNvPr id="144" name=""/>
              <p:cNvSpPr/>
              <p:nvPr/>
            </p:nvSpPr>
            <p:spPr>
              <a:xfrm>
                <a:off x="28440" y="5978520"/>
                <a:ext cx="9087120" cy="90792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Scheggino, Ital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867280"/>
                <a:ext cx="9144000" cy="11271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5943600"/>
            <a:ext cx="9144000" cy="2711520"/>
            <a:chOff x="0" y="5943600"/>
            <a:chExt cx="9144000" cy="2711520"/>
          </a:xfrm>
        </p:grpSpPr>
        <p:sp>
          <p:nvSpPr>
            <p:cNvPr id="150" name=""/>
            <p:cNvSpPr/>
            <p:nvPr/>
          </p:nvSpPr>
          <p:spPr>
            <a:xfrm>
              <a:off x="0" y="5943600"/>
              <a:ext cx="9144000" cy="271152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0" y="5943600"/>
              <a:ext cx="9144000" cy="1947960"/>
              <a:chOff x="0" y="5943600"/>
              <a:chExt cx="9144000" cy="1947960"/>
            </a:xfrm>
          </p:grpSpPr>
          <p:sp>
            <p:nvSpPr>
              <p:cNvPr id="152" name=""/>
              <p:cNvSpPr/>
              <p:nvPr/>
            </p:nvSpPr>
            <p:spPr>
              <a:xfrm>
                <a:off x="28440" y="6135840"/>
                <a:ext cx="9087120" cy="156816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Favelas en Rio de Janeiro, Brasi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5943600"/>
                <a:ext cx="9144000" cy="19479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6095880"/>
            <a:ext cx="9144000" cy="2635200"/>
            <a:chOff x="0" y="6095880"/>
            <a:chExt cx="9144000" cy="2635200"/>
          </a:xfrm>
        </p:grpSpPr>
        <p:sp>
          <p:nvSpPr>
            <p:cNvPr id="158" name=""/>
            <p:cNvSpPr/>
            <p:nvPr/>
          </p:nvSpPr>
          <p:spPr>
            <a:xfrm>
              <a:off x="0" y="6095880"/>
              <a:ext cx="9144000" cy="263520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0" y="6095880"/>
              <a:ext cx="9144000" cy="1892520"/>
              <a:chOff x="0" y="6095880"/>
              <a:chExt cx="9144000" cy="1892520"/>
            </a:xfrm>
          </p:grpSpPr>
          <p:sp>
            <p:nvSpPr>
              <p:cNvPr id="160" name=""/>
              <p:cNvSpPr/>
              <p:nvPr/>
            </p:nvSpPr>
            <p:spPr>
              <a:xfrm>
                <a:off x="28440" y="6281640"/>
                <a:ext cx="9087120" cy="152424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Ruinas Romanas en Baalbek, Líba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6095880"/>
                <a:ext cx="9144000" cy="18925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5943600"/>
            <a:ext cx="9144000" cy="2711520"/>
            <a:chOff x="0" y="5943600"/>
            <a:chExt cx="9144000" cy="2711520"/>
          </a:xfrm>
        </p:grpSpPr>
        <p:sp>
          <p:nvSpPr>
            <p:cNvPr id="166" name=""/>
            <p:cNvSpPr/>
            <p:nvPr/>
          </p:nvSpPr>
          <p:spPr>
            <a:xfrm>
              <a:off x="0" y="5943600"/>
              <a:ext cx="9144000" cy="271152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5943600"/>
              <a:ext cx="9144000" cy="1947960"/>
              <a:chOff x="0" y="5943600"/>
              <a:chExt cx="9144000" cy="1947960"/>
            </a:xfrm>
          </p:grpSpPr>
          <p:sp>
            <p:nvSpPr>
              <p:cNvPr id="168" name=""/>
              <p:cNvSpPr/>
              <p:nvPr/>
            </p:nvSpPr>
            <p:spPr>
              <a:xfrm>
                <a:off x="28440" y="6135840"/>
                <a:ext cx="9087120" cy="156816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Ruinas de Tebas, Grec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943600"/>
                <a:ext cx="9144000" cy="19479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0" y="6095880"/>
            <a:ext cx="9144000" cy="1068480"/>
            <a:chOff x="0" y="6095880"/>
            <a:chExt cx="9144000" cy="1068480"/>
          </a:xfrm>
        </p:grpSpPr>
        <p:sp>
          <p:nvSpPr>
            <p:cNvPr id="174" name=""/>
            <p:cNvSpPr/>
            <p:nvPr/>
          </p:nvSpPr>
          <p:spPr>
            <a:xfrm>
              <a:off x="0" y="6095880"/>
              <a:ext cx="9144000" cy="106848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0" y="6095880"/>
              <a:ext cx="9144000" cy="946440"/>
              <a:chOff x="0" y="6095880"/>
              <a:chExt cx="9144000" cy="946440"/>
            </a:xfrm>
          </p:grpSpPr>
          <p:sp>
            <p:nvSpPr>
              <p:cNvPr id="176" name=""/>
              <p:cNvSpPr/>
              <p:nvPr/>
            </p:nvSpPr>
            <p:spPr>
              <a:xfrm>
                <a:off x="28440" y="6126120"/>
                <a:ext cx="9087120" cy="88416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Louvre y Ile de la Cité en París, Francia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6095880"/>
                <a:ext cx="9144000" cy="94644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5943600"/>
            <a:ext cx="9144000" cy="1341360"/>
            <a:chOff x="0" y="5943600"/>
            <a:chExt cx="9144000" cy="1341360"/>
          </a:xfrm>
        </p:grpSpPr>
        <p:sp>
          <p:nvSpPr>
            <p:cNvPr id="182" name=""/>
            <p:cNvSpPr/>
            <p:nvPr/>
          </p:nvSpPr>
          <p:spPr>
            <a:xfrm>
              <a:off x="0" y="5943600"/>
              <a:ext cx="9144000" cy="134136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0" y="5943600"/>
              <a:ext cx="9144000" cy="963720"/>
              <a:chOff x="0" y="5943600"/>
              <a:chExt cx="9144000" cy="963720"/>
            </a:xfrm>
          </p:grpSpPr>
          <p:sp>
            <p:nvSpPr>
              <p:cNvPr id="184" name=""/>
              <p:cNvSpPr/>
              <p:nvPr/>
            </p:nvSpPr>
            <p:spPr>
              <a:xfrm>
                <a:off x="28440" y="6039000"/>
                <a:ext cx="9087120" cy="77616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Gran Muralla, Chi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5943600"/>
                <a:ext cx="9144000" cy="9637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0" y="6019920"/>
            <a:ext cx="9144000" cy="838080"/>
            <a:chOff x="0" y="6019920"/>
            <a:chExt cx="9144000" cy="838080"/>
          </a:xfrm>
        </p:grpSpPr>
        <p:sp>
          <p:nvSpPr>
            <p:cNvPr id="190" name=""/>
            <p:cNvSpPr/>
            <p:nvPr/>
          </p:nvSpPr>
          <p:spPr>
            <a:xfrm>
              <a:off x="0" y="6019920"/>
              <a:ext cx="9144000" cy="83808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0" y="6019920"/>
              <a:ext cx="9144000" cy="742680"/>
              <a:chOff x="0" y="6019920"/>
              <a:chExt cx="9144000" cy="742680"/>
            </a:xfrm>
          </p:grpSpPr>
          <p:sp>
            <p:nvSpPr>
              <p:cNvPr id="192" name=""/>
              <p:cNvSpPr/>
              <p:nvPr/>
            </p:nvSpPr>
            <p:spPr>
              <a:xfrm>
                <a:off x="28440" y="6043680"/>
                <a:ext cx="9087120" cy="69372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Centro de Sanaa, Yemen</a:t>
                </a:r>
                <a:br>
                  <a:rPr sz="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6019920"/>
                <a:ext cx="9144000" cy="7426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6095880"/>
            <a:ext cx="9144000" cy="1143000"/>
            <a:chOff x="0" y="6095880"/>
            <a:chExt cx="9144000" cy="1143000"/>
          </a:xfrm>
        </p:grpSpPr>
        <p:sp>
          <p:nvSpPr>
            <p:cNvPr id="54" name=""/>
            <p:cNvSpPr/>
            <p:nvPr/>
          </p:nvSpPr>
          <p:spPr>
            <a:xfrm>
              <a:off x="0" y="6095880"/>
              <a:ext cx="9144000" cy="114300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6095880"/>
              <a:ext cx="9144000" cy="1013040"/>
              <a:chOff x="0" y="6095880"/>
              <a:chExt cx="9144000" cy="1013040"/>
            </a:xfrm>
          </p:grpSpPr>
          <p:sp>
            <p:nvSpPr>
              <p:cNvPr id="56" name=""/>
              <p:cNvSpPr/>
              <p:nvPr/>
            </p:nvSpPr>
            <p:spPr>
              <a:xfrm>
                <a:off x="28440" y="6129360"/>
                <a:ext cx="9087120" cy="94608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Wat Phra Doi Suthep, Tailandia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6095880"/>
                <a:ext cx="9144000" cy="101304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-152280" y="5943600"/>
            <a:ext cx="9144000" cy="1449360"/>
            <a:chOff x="-152280" y="5943600"/>
            <a:chExt cx="9144000" cy="1449360"/>
          </a:xfrm>
        </p:grpSpPr>
        <p:sp>
          <p:nvSpPr>
            <p:cNvPr id="198" name=""/>
            <p:cNvSpPr/>
            <p:nvPr/>
          </p:nvSpPr>
          <p:spPr>
            <a:xfrm>
              <a:off x="-152280" y="5943600"/>
              <a:ext cx="9144000" cy="144936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-152280" y="5943600"/>
              <a:ext cx="9144000" cy="1282680"/>
              <a:chOff x="-152280" y="5943600"/>
              <a:chExt cx="9144000" cy="1282680"/>
            </a:xfrm>
          </p:grpSpPr>
          <p:sp>
            <p:nvSpPr>
              <p:cNvPr id="200" name=""/>
              <p:cNvSpPr/>
              <p:nvPr/>
            </p:nvSpPr>
            <p:spPr>
              <a:xfrm>
                <a:off x="-123840" y="5985000"/>
                <a:ext cx="9086760" cy="119988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Palacio destruido por la guerra en Kabul, Afganistán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-152280" y="5943600"/>
                <a:ext cx="9144000" cy="12826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-152280" y="6095880"/>
            <a:ext cx="9144000" cy="992160"/>
            <a:chOff x="-152280" y="6095880"/>
            <a:chExt cx="9144000" cy="992160"/>
          </a:xfrm>
        </p:grpSpPr>
        <p:sp>
          <p:nvSpPr>
            <p:cNvPr id="206" name=""/>
            <p:cNvSpPr/>
            <p:nvPr/>
          </p:nvSpPr>
          <p:spPr>
            <a:xfrm>
              <a:off x="-152280" y="6095880"/>
              <a:ext cx="9144000" cy="99216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-152280" y="6095880"/>
              <a:ext cx="9144000" cy="879480"/>
              <a:chOff x="-152280" y="6095880"/>
              <a:chExt cx="9144000" cy="879480"/>
            </a:xfrm>
          </p:grpSpPr>
          <p:sp>
            <p:nvSpPr>
              <p:cNvPr id="208" name=""/>
              <p:cNvSpPr/>
              <p:nvPr/>
            </p:nvSpPr>
            <p:spPr>
              <a:xfrm>
                <a:off x="-123840" y="6124680"/>
                <a:ext cx="9086760" cy="82224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Paris, Francia</a:t>
                </a:r>
                <a:br>
                  <a:rPr sz="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-152280" y="6095880"/>
                <a:ext cx="9144000" cy="8794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0" y="5958000"/>
            <a:ext cx="9144000" cy="1796760"/>
            <a:chOff x="0" y="5958000"/>
            <a:chExt cx="9144000" cy="1796760"/>
          </a:xfrm>
        </p:grpSpPr>
        <p:sp>
          <p:nvSpPr>
            <p:cNvPr id="214" name=""/>
            <p:cNvSpPr/>
            <p:nvPr/>
          </p:nvSpPr>
          <p:spPr>
            <a:xfrm>
              <a:off x="0" y="5958000"/>
              <a:ext cx="9144000" cy="179676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0" y="5958000"/>
              <a:ext cx="9144000" cy="1290600"/>
              <a:chOff x="0" y="5958000"/>
              <a:chExt cx="9144000" cy="1290600"/>
            </a:xfrm>
          </p:grpSpPr>
          <p:sp>
            <p:nvSpPr>
              <p:cNvPr id="216" name=""/>
              <p:cNvSpPr/>
              <p:nvPr/>
            </p:nvSpPr>
            <p:spPr>
              <a:xfrm>
                <a:off x="28440" y="6084720"/>
                <a:ext cx="9087120" cy="104004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Aleppo, Sir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5958000"/>
                <a:ext cx="9144000" cy="12906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0" y="5943600"/>
            <a:ext cx="9144000" cy="2406600"/>
            <a:chOff x="0" y="5943600"/>
            <a:chExt cx="9144000" cy="2406600"/>
          </a:xfrm>
        </p:grpSpPr>
        <p:sp>
          <p:nvSpPr>
            <p:cNvPr id="222" name=""/>
            <p:cNvSpPr/>
            <p:nvPr/>
          </p:nvSpPr>
          <p:spPr>
            <a:xfrm>
              <a:off x="0" y="5943600"/>
              <a:ext cx="9144000" cy="240660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0" y="5943600"/>
              <a:ext cx="9144000" cy="1728720"/>
              <a:chOff x="0" y="5943600"/>
              <a:chExt cx="9144000" cy="1728720"/>
            </a:xfrm>
          </p:grpSpPr>
          <p:sp>
            <p:nvSpPr>
              <p:cNvPr id="224" name=""/>
              <p:cNvSpPr/>
              <p:nvPr/>
            </p:nvSpPr>
            <p:spPr>
              <a:xfrm>
                <a:off x="28440" y="6113520"/>
                <a:ext cx="9087120" cy="139212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Casas Flotantes en Makoko, Botswa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5943600"/>
                <a:ext cx="9144000" cy="17287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0" y="6095880"/>
            <a:ext cx="9144000" cy="2178000"/>
            <a:chOff x="0" y="6095880"/>
            <a:chExt cx="9144000" cy="2178000"/>
          </a:xfrm>
        </p:grpSpPr>
        <p:sp>
          <p:nvSpPr>
            <p:cNvPr id="230" name=""/>
            <p:cNvSpPr/>
            <p:nvPr/>
          </p:nvSpPr>
          <p:spPr>
            <a:xfrm>
              <a:off x="0" y="6095880"/>
              <a:ext cx="9144000" cy="217800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0" y="6095880"/>
              <a:ext cx="9144000" cy="1565280"/>
              <a:chOff x="0" y="6095880"/>
              <a:chExt cx="9144000" cy="1565280"/>
            </a:xfrm>
          </p:grpSpPr>
          <p:sp>
            <p:nvSpPr>
              <p:cNvPr id="232" name=""/>
              <p:cNvSpPr/>
              <p:nvPr/>
            </p:nvSpPr>
            <p:spPr>
              <a:xfrm>
                <a:off x="28440" y="6249960"/>
                <a:ext cx="9087120" cy="125892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Mercado en Kasserine, Túnez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6095880"/>
                <a:ext cx="9144000" cy="15652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0" y="5943600"/>
            <a:ext cx="9144000" cy="2178000"/>
            <a:chOff x="0" y="5943600"/>
            <a:chExt cx="9144000" cy="2178000"/>
          </a:xfrm>
        </p:grpSpPr>
        <p:sp>
          <p:nvSpPr>
            <p:cNvPr id="238" name=""/>
            <p:cNvSpPr/>
            <p:nvPr/>
          </p:nvSpPr>
          <p:spPr>
            <a:xfrm>
              <a:off x="0" y="5943600"/>
              <a:ext cx="9144000" cy="217800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0" y="5943600"/>
              <a:ext cx="9144000" cy="1565280"/>
              <a:chOff x="0" y="5943600"/>
              <a:chExt cx="9144000" cy="1565280"/>
            </a:xfrm>
          </p:grpSpPr>
          <p:sp>
            <p:nvSpPr>
              <p:cNvPr id="240" name=""/>
              <p:cNvSpPr/>
              <p:nvPr/>
            </p:nvSpPr>
            <p:spPr>
              <a:xfrm>
                <a:off x="28440" y="6097680"/>
                <a:ext cx="9087120" cy="125892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Islote cerca de Heimaey, Island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5943600"/>
                <a:ext cx="9144000" cy="15652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0" y="6095880"/>
            <a:ext cx="9144000" cy="1812960"/>
            <a:chOff x="0" y="6095880"/>
            <a:chExt cx="9144000" cy="1812960"/>
          </a:xfrm>
        </p:grpSpPr>
        <p:sp>
          <p:nvSpPr>
            <p:cNvPr id="246" name=""/>
            <p:cNvSpPr/>
            <p:nvPr/>
          </p:nvSpPr>
          <p:spPr>
            <a:xfrm>
              <a:off x="0" y="6095880"/>
              <a:ext cx="9144000" cy="181296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0" y="6095880"/>
              <a:ext cx="9144000" cy="1301760"/>
              <a:chOff x="0" y="6095880"/>
              <a:chExt cx="9144000" cy="1301760"/>
            </a:xfrm>
          </p:grpSpPr>
          <p:sp>
            <p:nvSpPr>
              <p:cNvPr id="248" name=""/>
              <p:cNvSpPr/>
              <p:nvPr/>
            </p:nvSpPr>
            <p:spPr>
              <a:xfrm>
                <a:off x="28440" y="6222960"/>
                <a:ext cx="9087120" cy="104796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Mujeres trabajando, Mal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6095880"/>
                <a:ext cx="9144000" cy="13017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0" y="5943600"/>
            <a:ext cx="9144000" cy="914400"/>
            <a:chOff x="0" y="5943600"/>
            <a:chExt cx="9144000" cy="914400"/>
          </a:xfrm>
        </p:grpSpPr>
        <p:sp>
          <p:nvSpPr>
            <p:cNvPr id="254" name=""/>
            <p:cNvSpPr/>
            <p:nvPr/>
          </p:nvSpPr>
          <p:spPr>
            <a:xfrm>
              <a:off x="0" y="5943600"/>
              <a:ext cx="9144000" cy="91440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0" y="5943600"/>
              <a:ext cx="9144000" cy="809640"/>
              <a:chOff x="0" y="5943600"/>
              <a:chExt cx="9144000" cy="809640"/>
            </a:xfrm>
          </p:grpSpPr>
          <p:sp>
            <p:nvSpPr>
              <p:cNvPr id="256" name=""/>
              <p:cNvSpPr/>
              <p:nvPr/>
            </p:nvSpPr>
            <p:spPr>
              <a:xfrm>
                <a:off x="28440" y="5969160"/>
                <a:ext cx="9087120" cy="75708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Pivotes de Irrigación, Jordania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5943600"/>
                <a:ext cx="9144000" cy="80964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0" y="6095880"/>
            <a:ext cx="9144000" cy="990720"/>
            <a:chOff x="0" y="6095880"/>
            <a:chExt cx="9144000" cy="990720"/>
          </a:xfrm>
        </p:grpSpPr>
        <p:sp>
          <p:nvSpPr>
            <p:cNvPr id="262" name=""/>
            <p:cNvSpPr/>
            <p:nvPr/>
          </p:nvSpPr>
          <p:spPr>
            <a:xfrm>
              <a:off x="0" y="6095880"/>
              <a:ext cx="9144000" cy="99072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0" y="6095880"/>
              <a:ext cx="9144000" cy="878040"/>
              <a:chOff x="0" y="6095880"/>
              <a:chExt cx="9144000" cy="878040"/>
            </a:xfrm>
          </p:grpSpPr>
          <p:sp>
            <p:nvSpPr>
              <p:cNvPr id="264" name=""/>
              <p:cNvSpPr/>
              <p:nvPr/>
            </p:nvSpPr>
            <p:spPr>
              <a:xfrm>
                <a:off x="28440" y="6124680"/>
                <a:ext cx="9087120" cy="82080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Isla del Archipielago Sulu, Filipinas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6095880"/>
                <a:ext cx="9144000" cy="87804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0" y="5943600"/>
            <a:ext cx="9144000" cy="1417680"/>
            <a:chOff x="0" y="5943600"/>
            <a:chExt cx="9144000" cy="1417680"/>
          </a:xfrm>
        </p:grpSpPr>
        <p:sp>
          <p:nvSpPr>
            <p:cNvPr id="270" name=""/>
            <p:cNvSpPr/>
            <p:nvPr/>
          </p:nvSpPr>
          <p:spPr>
            <a:xfrm>
              <a:off x="0" y="5943600"/>
              <a:ext cx="9144000" cy="141768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0" y="5943600"/>
              <a:ext cx="9144000" cy="1017720"/>
              <a:chOff x="0" y="5943600"/>
              <a:chExt cx="9144000" cy="1017720"/>
            </a:xfrm>
          </p:grpSpPr>
          <p:sp>
            <p:nvSpPr>
              <p:cNvPr id="272" name=""/>
              <p:cNvSpPr/>
              <p:nvPr/>
            </p:nvSpPr>
            <p:spPr>
              <a:xfrm>
                <a:off x="28440" y="6043680"/>
                <a:ext cx="9087120" cy="81900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Montañas cerca de Jengish, Kirguistá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5943600"/>
                <a:ext cx="9144000" cy="10177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6019920"/>
            <a:ext cx="9144000" cy="2101680"/>
            <a:chOff x="0" y="6019920"/>
            <a:chExt cx="9144000" cy="2101680"/>
          </a:xfrm>
        </p:grpSpPr>
        <p:sp>
          <p:nvSpPr>
            <p:cNvPr id="62" name=""/>
            <p:cNvSpPr/>
            <p:nvPr/>
          </p:nvSpPr>
          <p:spPr>
            <a:xfrm>
              <a:off x="0" y="6019920"/>
              <a:ext cx="9144000" cy="210168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0" y="6019920"/>
              <a:ext cx="9144000" cy="1509480"/>
              <a:chOff x="0" y="6019920"/>
              <a:chExt cx="9144000" cy="1509480"/>
            </a:xfrm>
          </p:grpSpPr>
          <p:sp>
            <p:nvSpPr>
              <p:cNvPr id="64" name=""/>
              <p:cNvSpPr/>
              <p:nvPr/>
            </p:nvSpPr>
            <p:spPr>
              <a:xfrm>
                <a:off x="28440" y="6168960"/>
                <a:ext cx="9087120" cy="121608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Villa de los Masai, Ken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6019920"/>
                <a:ext cx="9144000" cy="15094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-152280" y="6095880"/>
            <a:ext cx="9144000" cy="990720"/>
            <a:chOff x="-152280" y="6095880"/>
            <a:chExt cx="9144000" cy="990720"/>
          </a:xfrm>
        </p:grpSpPr>
        <p:sp>
          <p:nvSpPr>
            <p:cNvPr id="278" name=""/>
            <p:cNvSpPr/>
            <p:nvPr/>
          </p:nvSpPr>
          <p:spPr>
            <a:xfrm>
              <a:off x="-152280" y="6095880"/>
              <a:ext cx="9144000" cy="99072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-152280" y="6095880"/>
              <a:ext cx="9144000" cy="878040"/>
              <a:chOff x="-152280" y="6095880"/>
              <a:chExt cx="9144000" cy="878040"/>
            </a:xfrm>
          </p:grpSpPr>
          <p:sp>
            <p:nvSpPr>
              <p:cNvPr id="280" name=""/>
              <p:cNvSpPr/>
              <p:nvPr/>
            </p:nvSpPr>
            <p:spPr>
              <a:xfrm>
                <a:off x="-123840" y="6124680"/>
                <a:ext cx="9086760" cy="82080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Estación de Buses en Bobo-Dioulasso, Burkina Faso 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-152280" y="6095880"/>
                <a:ext cx="9144000" cy="87804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5943600"/>
            <a:ext cx="9144000" cy="1341360"/>
            <a:chOff x="0" y="5943600"/>
            <a:chExt cx="9144000" cy="1341360"/>
          </a:xfrm>
        </p:grpSpPr>
        <p:sp>
          <p:nvSpPr>
            <p:cNvPr id="286" name=""/>
            <p:cNvSpPr/>
            <p:nvPr/>
          </p:nvSpPr>
          <p:spPr>
            <a:xfrm>
              <a:off x="0" y="5943600"/>
              <a:ext cx="9144000" cy="134136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0" y="5943600"/>
              <a:ext cx="9144000" cy="963720"/>
              <a:chOff x="0" y="5943600"/>
              <a:chExt cx="9144000" cy="963720"/>
            </a:xfrm>
          </p:grpSpPr>
          <p:sp>
            <p:nvSpPr>
              <p:cNvPr id="288" name=""/>
              <p:cNvSpPr/>
              <p:nvPr/>
            </p:nvSpPr>
            <p:spPr>
              <a:xfrm>
                <a:off x="28440" y="6039000"/>
                <a:ext cx="9087120" cy="77616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Construcción de un Campo de Golf en Punta Cana, República Dominica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5943600"/>
                <a:ext cx="9144000" cy="9637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02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0" y="5867280"/>
            <a:ext cx="9144000" cy="1417680"/>
            <a:chOff x="0" y="5867280"/>
            <a:chExt cx="9144000" cy="1417680"/>
          </a:xfrm>
        </p:grpSpPr>
        <p:sp>
          <p:nvSpPr>
            <p:cNvPr id="294" name=""/>
            <p:cNvSpPr/>
            <p:nvPr/>
          </p:nvSpPr>
          <p:spPr>
            <a:xfrm>
              <a:off x="0" y="5867280"/>
              <a:ext cx="9144000" cy="141768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0" y="5867280"/>
              <a:ext cx="9144000" cy="1019160"/>
              <a:chOff x="0" y="5867280"/>
              <a:chExt cx="9144000" cy="1019160"/>
            </a:xfrm>
          </p:grpSpPr>
          <p:sp>
            <p:nvSpPr>
              <p:cNvPr id="296" name=""/>
              <p:cNvSpPr/>
              <p:nvPr/>
            </p:nvSpPr>
            <p:spPr>
              <a:xfrm>
                <a:off x="28440" y="5967360"/>
                <a:ext cx="9087120" cy="82080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Nudo de Autopistas en Los Angeles, Estados Uni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5867280"/>
                <a:ext cx="9144000" cy="10191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0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0" y="6095880"/>
            <a:ext cx="9144000" cy="1189080"/>
            <a:chOff x="0" y="6095880"/>
            <a:chExt cx="9144000" cy="1189080"/>
          </a:xfrm>
        </p:grpSpPr>
        <p:sp>
          <p:nvSpPr>
            <p:cNvPr id="302" name=""/>
            <p:cNvSpPr/>
            <p:nvPr/>
          </p:nvSpPr>
          <p:spPr>
            <a:xfrm>
              <a:off x="0" y="6095880"/>
              <a:ext cx="9144000" cy="118908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0" y="6095880"/>
              <a:ext cx="9144000" cy="854280"/>
              <a:chOff x="0" y="6095880"/>
              <a:chExt cx="9144000" cy="854280"/>
            </a:xfrm>
          </p:grpSpPr>
          <p:sp>
            <p:nvSpPr>
              <p:cNvPr id="304" name=""/>
              <p:cNvSpPr/>
              <p:nvPr/>
            </p:nvSpPr>
            <p:spPr>
              <a:xfrm>
                <a:off x="28440" y="6180120"/>
                <a:ext cx="9087120" cy="68724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Laguna Los Micos, Hondur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6095880"/>
                <a:ext cx="9144000" cy="8542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496040" cy="2989440"/>
          </a:xfrm>
          <a:prstGeom prst="rect">
            <a:avLst/>
          </a:prstGeom>
          <a:ln w="41400">
            <a:solidFill>
              <a:srgbClr val="ff6600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1143000" y="3352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 fotografía de esta presentación es d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41148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Yann Arthus-Bertran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13 de marzo de 1946) es un renombrado y conocido fotógrafo francés. Originalmente su especialidad era la fotografía de animales, pero luego cambió su rumbo a la fotografía aérea; ha tomado fotos de locaciones aéreas alrededor del mun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010280" y="5943600"/>
            <a:ext cx="638280" cy="657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liz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70" name=""/>
            <p:cNvSpPr/>
            <p:nvPr/>
          </p:nvSpPr>
          <p:spPr>
            <a:xfrm>
              <a:off x="0" y="6095880"/>
              <a:ext cx="9144000" cy="76212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6095880"/>
              <a:ext cx="9144000" cy="674640"/>
              <a:chOff x="0" y="6095880"/>
              <a:chExt cx="9144000" cy="674640"/>
            </a:xfrm>
          </p:grpSpPr>
          <p:sp>
            <p:nvSpPr>
              <p:cNvPr id="72" name=""/>
              <p:cNvSpPr/>
              <p:nvPr/>
            </p:nvSpPr>
            <p:spPr>
              <a:xfrm>
                <a:off x="28440" y="6118200"/>
                <a:ext cx="9087120" cy="63180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Glaciar en Laguna San Rafael, Chile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6095880"/>
                <a:ext cx="9144000" cy="67464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78" name=""/>
            <p:cNvSpPr/>
            <p:nvPr/>
          </p:nvSpPr>
          <p:spPr>
            <a:xfrm>
              <a:off x="0" y="6095880"/>
              <a:ext cx="9144000" cy="76212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6095880"/>
              <a:ext cx="9144000" cy="674640"/>
              <a:chOff x="0" y="6095880"/>
              <a:chExt cx="9144000" cy="674640"/>
            </a:xfrm>
          </p:grpSpPr>
          <p:sp>
            <p:nvSpPr>
              <p:cNvPr id="80" name=""/>
              <p:cNvSpPr/>
              <p:nvPr/>
            </p:nvSpPr>
            <p:spPr>
              <a:xfrm>
                <a:off x="28440" y="6118200"/>
                <a:ext cx="9087120" cy="63180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Mina de Carbón en Sudáfrica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6095880"/>
                <a:ext cx="9144000" cy="67464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72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6172200"/>
            <a:ext cx="9144000" cy="2482920"/>
            <a:chOff x="0" y="6172200"/>
            <a:chExt cx="9144000" cy="2482920"/>
          </a:xfrm>
        </p:grpSpPr>
        <p:sp>
          <p:nvSpPr>
            <p:cNvPr id="86" name=""/>
            <p:cNvSpPr/>
            <p:nvPr/>
          </p:nvSpPr>
          <p:spPr>
            <a:xfrm>
              <a:off x="0" y="6172200"/>
              <a:ext cx="9144000" cy="248292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0" y="6172200"/>
              <a:ext cx="9144000" cy="1782720"/>
              <a:chOff x="0" y="6172200"/>
              <a:chExt cx="9144000" cy="1782720"/>
            </a:xfrm>
          </p:grpSpPr>
          <p:sp>
            <p:nvSpPr>
              <p:cNvPr id="88" name=""/>
              <p:cNvSpPr/>
              <p:nvPr/>
            </p:nvSpPr>
            <p:spPr>
              <a:xfrm>
                <a:off x="28440" y="6346800"/>
                <a:ext cx="9087120" cy="143676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Aldea en Santorini, Grec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172200"/>
                <a:ext cx="9144000" cy="17827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5943600"/>
            <a:ext cx="9144000" cy="2406600"/>
            <a:chOff x="0" y="5943600"/>
            <a:chExt cx="9144000" cy="2406600"/>
          </a:xfrm>
        </p:grpSpPr>
        <p:sp>
          <p:nvSpPr>
            <p:cNvPr id="94" name=""/>
            <p:cNvSpPr/>
            <p:nvPr/>
          </p:nvSpPr>
          <p:spPr>
            <a:xfrm>
              <a:off x="0" y="5943600"/>
              <a:ext cx="9144000" cy="240660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0" y="5943600"/>
              <a:ext cx="9144000" cy="1728720"/>
              <a:chOff x="0" y="5943600"/>
              <a:chExt cx="9144000" cy="1728720"/>
            </a:xfrm>
          </p:grpSpPr>
          <p:sp>
            <p:nvSpPr>
              <p:cNvPr id="96" name=""/>
              <p:cNvSpPr/>
              <p:nvPr/>
            </p:nvSpPr>
            <p:spPr>
              <a:xfrm>
                <a:off x="28440" y="6113520"/>
                <a:ext cx="9087120" cy="139212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Suburbios de Copenhaguen, Dinamar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5943600"/>
                <a:ext cx="9144000" cy="17287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6019920"/>
            <a:ext cx="9144000" cy="1066680"/>
            <a:chOff x="0" y="6019920"/>
            <a:chExt cx="9144000" cy="1066680"/>
          </a:xfrm>
        </p:grpSpPr>
        <p:sp>
          <p:nvSpPr>
            <p:cNvPr id="102" name=""/>
            <p:cNvSpPr/>
            <p:nvPr/>
          </p:nvSpPr>
          <p:spPr>
            <a:xfrm>
              <a:off x="0" y="6019920"/>
              <a:ext cx="9144000" cy="106668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0" y="6019920"/>
              <a:ext cx="9144000" cy="944280"/>
              <a:chOff x="0" y="6019920"/>
              <a:chExt cx="9144000" cy="944280"/>
            </a:xfrm>
          </p:grpSpPr>
          <p:sp>
            <p:nvSpPr>
              <p:cNvPr id="104" name=""/>
              <p:cNvSpPr/>
              <p:nvPr/>
            </p:nvSpPr>
            <p:spPr>
              <a:xfrm>
                <a:off x="28440" y="6049800"/>
                <a:ext cx="9087120" cy="88272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Villa de Skärhamn, Suecia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6019920"/>
                <a:ext cx="9144000" cy="9442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6095880"/>
            <a:ext cx="9144000" cy="3395880"/>
            <a:chOff x="0" y="6095880"/>
            <a:chExt cx="9144000" cy="3395880"/>
          </a:xfrm>
        </p:grpSpPr>
        <p:sp>
          <p:nvSpPr>
            <p:cNvPr id="110" name=""/>
            <p:cNvSpPr/>
            <p:nvPr/>
          </p:nvSpPr>
          <p:spPr>
            <a:xfrm>
              <a:off x="0" y="6095880"/>
              <a:ext cx="9144000" cy="339588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6095880"/>
              <a:ext cx="9144000" cy="2438640"/>
              <a:chOff x="0" y="6095880"/>
              <a:chExt cx="9144000" cy="2438640"/>
            </a:xfrm>
          </p:grpSpPr>
          <p:sp>
            <p:nvSpPr>
              <p:cNvPr id="112" name=""/>
              <p:cNvSpPr/>
              <p:nvPr/>
            </p:nvSpPr>
            <p:spPr>
              <a:xfrm>
                <a:off x="28440" y="6335640"/>
                <a:ext cx="9087120" cy="196380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Bosque en la Región de Chaverloix en Quebec, Canad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095880"/>
                <a:ext cx="9144000" cy="243864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7:40:32Z</dcterms:created>
  <dc:creator>Eliza Torres</dc:creator>
  <dc:description/>
  <dc:language>en-US</dc:language>
  <cp:lastModifiedBy>Eliza Torres</cp:lastModifiedBy>
  <dcterms:modified xsi:type="dcterms:W3CDTF">2009-12-21T21:13:21Z</dcterms:modified>
  <cp:revision>5</cp:revision>
  <dc:subject/>
  <dc:title>Presentación de PowerPoint</dc:title>
</cp:coreProperties>
</file>