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historia%20de%20amor,%2059seg-59kb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1D7-F792-4D77-ACCD-F200ACE3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ED9-5B20-4367-BB05-09BD789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BDD-F401-4022-BCA5-3A6ABA49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8CB-D5C0-4816-A47E-AD60DC07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140-E80C-4E29-B13B-1450032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B3A-4358-4D9F-9BB1-16CBFB2F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97A-635C-4B5E-9DF1-00E21611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79-08E2-4F00-A062-229B1859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623-0101-41F9-9C80-4B48CBC1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627-BB21-47D2-ABD3-DE9FFB5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FAC-CFBC-45E7-B1FE-6D7472C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86A-A0C4-4B44-BA5D-0751847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1302-F280-4191-929E-EB097B5BFE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storia%20de%20amor,%2059seg-59kb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2923920"/>
            <a:ext cx="345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Meu Am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75280" y="117936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2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692280"/>
            <a:ext cx="7619760" cy="547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32:40Z</dcterms:created>
  <dc:creator> </dc:creator>
  <dc:description/>
  <dc:language>en-US</dc:language>
  <cp:lastModifiedBy>SUPRG</cp:lastModifiedBy>
  <dcterms:modified xsi:type="dcterms:W3CDTF">2005-05-28T12:43:14Z</dcterms:modified>
  <cp:revision>16</cp:revision>
  <dc:subject/>
  <dc:title>Meu Amor</dc:title>
</cp:coreProperties>
</file>