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historia%20de%20amor,%2059seg-59kb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CED6-05F0-4330-8E80-629BFF8A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52F3-D7D7-439D-8EB2-2234084B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D369-AAB7-436D-A848-BFB08CCC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AE4A-6FE1-4211-8F51-BDD4B0F7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4EB5-E9B1-4B7A-A2A0-5A43D5D9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C705-6089-4EC5-A5F2-559EE382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805B-F215-4CA8-9666-84A77433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F20-041F-4426-887A-A321B415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4442-4E13-4E81-ADFC-73A119FA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E016-6D6A-414D-BCE5-395130CC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2EF4-2F21-4FFC-AEF6-1BC4069F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A792-F6DF-495C-A758-C5E3BC12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35B9-57BC-4558-99F2-3894477A419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historia%20de%20amor,%2059seg-59kb.wav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16360" y="2923920"/>
            <a:ext cx="345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Comic Sans MS"/>
              </a:rPr>
              <a:t>Meu Am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75280" y="1179360"/>
            <a:ext cx="237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52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17:32:40Z</dcterms:created>
  <dc:creator> </dc:creator>
  <dc:description/>
  <dc:language>en-US</dc:language>
  <cp:lastModifiedBy>SUPRG</cp:lastModifiedBy>
  <dcterms:modified xsi:type="dcterms:W3CDTF">2005-05-28T12:43:14Z</dcterms:modified>
  <cp:revision>16</cp:revision>
  <dc:subject/>
  <dc:title>Meu Amor</dc:title>
</cp:coreProperties>
</file>