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090-A7E1-4897-9F13-17486F2E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9C4-9E41-4648-A512-FDA320E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1ED-79D4-467A-A88F-C0CB81F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EC7-8913-4F5B-843F-2D52DA72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2CC-A242-4FE9-8305-D2039DC6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F18-7BB4-4A14-8BE0-7FC1C9A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D77-A83C-451F-B909-AD836860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092-4AB7-48BF-AF22-C046AA9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D35-AF18-407B-BF81-7256719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447-A40C-428A-B57E-E03E314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ECC-0922-4675-9098-EAE4D7BC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598-EF68-453D-8336-95D3AC7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9A4-2F86-457A-AC9B-E545F1ED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914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438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533520"/>
            <a:ext cx="4762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43828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14400" y="609480"/>
            <a:ext cx="70102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371600" y="990720"/>
            <a:ext cx="6191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304920"/>
            <a:ext cx="47628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Politics is a delicate&#13;&#10; thing (51 pics)"/>
          <p:cNvPicPr/>
          <p:nvPr/>
        </p:nvPicPr>
        <p:blipFill>
          <a:blip r:embed="rId1"/>
          <a:stretch/>
        </p:blipFill>
        <p:spPr>
          <a:xfrm>
            <a:off x="609480" y="990720"/>
            <a:ext cx="7543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057400" y="304920"/>
            <a:ext cx="4968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762120"/>
            <a:ext cx="78487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990720" y="457200"/>
            <a:ext cx="6933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447920" y="304920"/>
            <a:ext cx="6070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762120"/>
            <a:ext cx="7162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523880" y="304920"/>
            <a:ext cx="606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380880" y="76212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1337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82880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685800"/>
            <a:ext cx="6858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609480" y="838080"/>
            <a:ext cx="76201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2209680" y="533520"/>
            <a:ext cx="4762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olitics is a delicate thing (51 pics)"/>
          <p:cNvPicPr/>
          <p:nvPr/>
        </p:nvPicPr>
        <p:blipFill>
          <a:blip r:embed="rId1"/>
          <a:stretch/>
        </p:blipFill>
        <p:spPr>
          <a:xfrm>
            <a:off x="1905120" y="57240"/>
            <a:ext cx="47624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55:03Z</dcterms:created>
  <dc:creator>JDSU-Users</dc:creator>
  <dc:description/>
  <dc:language>en-US</dc:language>
  <cp:lastModifiedBy>JDSU-Users</cp:lastModifiedBy>
  <dcterms:modified xsi:type="dcterms:W3CDTF">2009-09-14T14:18:56Z</dcterms:modified>
  <cp:revision>2</cp:revision>
  <dc:subject/>
  <dc:title>Slide 1</dc:title>
</cp:coreProperties>
</file>