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552-2D64-46E0-AFC3-8D465233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A4C-E63A-4C25-8840-523E1AD1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F66-3DCF-460D-908E-1B6080F9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8D4-5CBC-455A-ACCA-716169D3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A81-C13C-4723-9B93-4AE76F6C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339-DF14-4B85-AF4E-F908F77E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E7F-E485-4CE8-8A57-A6A7565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539-BDEF-420F-B692-67FFFC1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CE3-0DE7-4BA3-BE57-2DE73F79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613-0926-442B-A838-040EB3B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FE5-4BA1-4CD7-90D8-D217E05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121-9C25-4876-9006-B0ECA200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04D-23AF-40BD-80A6-96193CCF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914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438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533520"/>
            <a:ext cx="4762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438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609480"/>
            <a:ext cx="70102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371600" y="990720"/>
            <a:ext cx="6191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olitics is a delicate&#13;&#10; thing (51 pics)"/>
          <p:cNvPicPr/>
          <p:nvPr/>
        </p:nvPicPr>
        <p:blipFill>
          <a:blip r:embed="rId1"/>
          <a:stretch/>
        </p:blipFill>
        <p:spPr>
          <a:xfrm>
            <a:off x="609480" y="99072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057400" y="304920"/>
            <a:ext cx="496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457200"/>
            <a:ext cx="6933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447920" y="304920"/>
            <a:ext cx="6070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523880" y="304920"/>
            <a:ext cx="606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82880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905120" y="57240"/>
            <a:ext cx="47624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55:03Z</dcterms:created>
  <dc:creator>JDSU-Users</dc:creator>
  <dc:description/>
  <dc:language>en-US</dc:language>
  <cp:lastModifiedBy>JDSU-Users</cp:lastModifiedBy>
  <dcterms:modified xsi:type="dcterms:W3CDTF">2009-09-14T14:18:56Z</dcterms:modified>
  <cp:revision>2</cp:revision>
  <dc:subject/>
  <dc:title>Slide 1</dc:title>
</cp:coreProperties>
</file>