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7.jpeg" ContentType="image/jpeg"/>
  <Override PartName="/ppt/media/image6.jpeg" ContentType="image/jpeg"/>
  <Override PartName="/ppt/media/sound001.wav" ContentType="audio/x-wav"/>
  <Override PartName="/ppt/media/image12.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A058F-EF92-4242-A9FB-419C8FEA9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BC60D-5CFD-45A9-9DB4-99DF4BBB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B6687-05C0-4447-80C1-5E1EE6C55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850F3-247E-4891-BF56-B97C3659B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D7D0-491A-4392-86D1-2EE4FAF7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6F47-0A06-45EA-96A7-B059FB1D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7EE4-2B9A-45C5-8B5E-93B418245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BC1AA-61F1-4BAD-B19F-0BAD3CF8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649B1-2DC2-4E3E-A3C0-D9DB98782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276F-0B88-4AC6-B8C3-B5FDFB10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5969-F5CF-4ED8-B48F-147D92A4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776B-702A-44D9-A870-3F3FA919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DAB7-7880-4AA6-849D-A9CFCEBFEAB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sound001.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78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99cc"/>
                </a:solidFill>
                <a:latin typeface="Times New Roman"/>
              </a:rPr>
              <a:t>LA  VIE  EN  COULEURS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99cc"/>
                </a:solidFill>
                <a:latin typeface="Times New Roman"/>
              </a:rPr>
              <a:t>Centenaire de l’Autochrome Lumiè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99cc"/>
                </a:solidFill>
                <a:latin typeface="Times New Roman"/>
              </a:rPr>
              <a:t>1904 – 2004</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LYON rend homm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u 25 juin au 5 novembre 20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eux de ses plus illustres enf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Auguste et Louis LUMI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inventeurs du premier procédé moder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99"/>
                </a:solidFill>
                <a:latin typeface="Times New Roman"/>
              </a:rPr>
              <a:t>                                 </a:t>
            </a:r>
            <a:r>
              <a:rPr b="0" lang="fr-FR" sz="2400" spc="-1" strike="noStrike">
                <a:solidFill>
                  <a:srgbClr val="ffff99"/>
                </a:solidFill>
                <a:latin typeface="Times New Roman"/>
              </a:rPr>
              <a:t>de photographie en coule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ccff"/>
                </a:solidFill>
                <a:latin typeface="Times New Roman"/>
              </a:rPr>
              <a:t>   </a:t>
            </a:r>
            <a:r>
              <a:rPr b="0" i="1" lang="fr-FR" sz="2400" spc="-1" strike="noStrike">
                <a:solidFill>
                  <a:srgbClr val="66ccff"/>
                </a:solidFill>
                <a:latin typeface="Times New Roman"/>
              </a:rPr>
              <a:t>un  reportag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ccff"/>
                </a:solidFill>
                <a:latin typeface="Times New Roman"/>
              </a:rPr>
              <a:t>   </a:t>
            </a:r>
            <a:r>
              <a:rPr b="0" i="1" lang="fr-FR" sz="2400" spc="-1" strike="noStrike">
                <a:solidFill>
                  <a:srgbClr val="66ccff"/>
                </a:solidFill>
                <a:latin typeface="Times New Roman"/>
              </a:rPr>
              <a:t>Jean-Paul BARRUYER                                                 </a:t>
            </a:r>
            <a:r>
              <a:rPr b="0" i="1" lang="fr-FR" sz="2400" spc="-1" strike="noStrike">
                <a:solidFill>
                  <a:srgbClr val="66ff33"/>
                </a:solidFill>
                <a:latin typeface="Times New Roman"/>
              </a:rPr>
              <a:t>autour des gril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33"/>
                </a:solidFill>
                <a:latin typeface="Times New Roman"/>
              </a:rPr>
              <a:t>                                                                           </a:t>
            </a:r>
            <a:r>
              <a:rPr b="0" i="1" lang="fr-FR" sz="2400" spc="-1" strike="noStrike">
                <a:solidFill>
                  <a:srgbClr val="66ff33"/>
                </a:solidFill>
                <a:latin typeface="Times New Roman"/>
              </a:rPr>
              <a:t>de la Préfecture du Rhô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66ff33"/>
                </a:solidFill>
                <a:latin typeface="Times New Roman"/>
              </a:rPr>
              <a:t>                                                                                  </a:t>
            </a:r>
            <a:r>
              <a:rPr b="0" i="1" lang="fr-FR" sz="2400" spc="-1" strike="noStrike">
                <a:solidFill>
                  <a:srgbClr val="66ff33"/>
                </a:solidFill>
                <a:latin typeface="Times New Roman"/>
              </a:rPr>
              <a:t>le 1er novembre 200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ccff"/>
                </a:solidFill>
                <a:latin typeface="Times New Roman"/>
              </a:rPr>
              <a:t>                                                                                   </a:t>
            </a:r>
            <a:r>
              <a:rPr b="0" lang="fr-FR" sz="2400" spc="-1" strike="noStrike">
                <a:solidFill>
                  <a:srgbClr val="00cc66"/>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123840"/>
            <a:ext cx="7162560" cy="661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04920" y="228600"/>
            <a:ext cx="8539200" cy="635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304920"/>
            <a:ext cx="8534160" cy="62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50840" y="53352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228600" y="228600"/>
            <a:ext cx="8686800" cy="6299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SOUDAIN, A NOS YEUX, LE MONDE  SEMBLE  PASSER DE L’OMBRE A LA LUMI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Des photographies en couleurs avaient été réalisées en France dans les années 1860, mais les procédés restaient imparfaits, notamment avec la nécessité de faire trois prises de vue différentes pour un même cliché. Déjà inventeurs du Cinématographe en 1895, les frères Lumière mettent au point en 1904 la plaque de verre Autochrome sur laquelle sont étalés des millions de grains de fécule de pomme de terre, chacun teinté d’une des trois couleurs : rouge, vert ou bleu, associés à une surface sensible. Ils obtiennent ainsi des clichés positifs transparents donnant une image beaucoup plus lumineuse et naturelle qu’avec un support de papier opaque. Comme dans la peinture pointilliste, c'est la globalité du regard qui forme l'effet coloré et plein de charme de ces photographies. La commercialisation en 1907 met la photographie en couleurs à la portée de tous et les photographes de mode s’en emparent dès 1910. L'Autochrome restera sans réelle concurrent durant une trentaine d'années jusqu'à l'apparition des pellicules couleur remplaçant cette fragile diapositive de ver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Les clichés que vous allez voir sont très loin du rendu originel de ces plaques de verre. Ces dernières, avec le temps, ont certainement perdu la fraîcheur de leurs coloris. De petit format, elles ont été, pour les besoins de l'exposition, reproduites sur de très grands panneaux opaques  à la surface plastifiée et brillante. Enfin, moi-même, dans des conditions d'éclairage difficiles, j'ai «rephotographié» à main levée ces derniers dans leur format intégral ou en partie seulement, avec parfois les inévitables reflets des lumières de la 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Mais force est de constater que ces images nous subjuguent au premier regard. Personne ne niera le lien pictural que certaines de ces photos établissent avec les tableaux de grands maîtres impressionnistes comme Claude Monet ou Auguste Renoir. J'ai reçu cette exposition comme un coup de poing dans la figure, en tout cas comme une leçon d'humilité : à croire que les perfectionnements de nos appareils actuels sont le plus souvent des arguments commerciaux plus que de précieux auxiliaires !  A moins que le regard, derrière l'objectif, avec le temps et la banalité de ce moyen d'expression, ait perdu de son acuité...</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a couleur, soudain, apporte une touche de modernité et de proximité à cette époque que l'on qualifiera plus tard de "Belle". Il est difficile de croire que nous avons ici les derniers témoignages d'un autre monde, celui qui allait disparaitre sous un déluge de feu et de sang dont la noirceur des images ne cesse encore de nous hanter… Au-delà de mon émotion esthétique, j'ai voulu accomplir un devoir de mémoire pour cette invention que les médias n'ont pas célébrée à la hauteur de sa portée, à un moment où l'on commémore tout et n'importe quoi, comme si notre société, toujours tournée vers le passé, accepte bien de marcher vers l'avenir… mais seulement à reculons !</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380880"/>
            <a:ext cx="845820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304920"/>
            <a:ext cx="8534160" cy="62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0880"/>
            <a:ext cx="7124760" cy="609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80880"/>
            <a:ext cx="4038480" cy="6096240"/>
          </a:xfrm>
          <a:prstGeom prst="rect">
            <a:avLst/>
          </a:prstGeom>
          <a:ln w="0">
            <a:noFill/>
          </a:ln>
        </p:spPr>
      </p:pic>
      <p:pic>
        <p:nvPicPr>
          <p:cNvPr id="69" name="" descr=""/>
          <p:cNvPicPr/>
          <p:nvPr/>
        </p:nvPicPr>
        <p:blipFill>
          <a:blip r:embed="rId2"/>
          <a:stretch/>
        </p:blipFill>
        <p:spPr>
          <a:xfrm>
            <a:off x="4724280" y="380880"/>
            <a:ext cx="4114800" cy="609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38080" y="228600"/>
            <a:ext cx="7467840" cy="640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380880"/>
            <a:ext cx="8153280" cy="611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57200" y="38088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050840" y="533520"/>
            <a:ext cx="4359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228600" y="228600"/>
            <a:ext cx="8686800" cy="64033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sse arquivo é uma rarida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ão as primeiras fotos coloridas do mundo, feitas pelos irmãos Lumiè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seguir, a explicação do método usado à épo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Foi um método popular para produzir as primeiras fotos colorid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ram usados grânulos de amido de batata (fécula), tingidos de verde, laranja e violeta para criar imagens coloridas em placas de vidro, semelhante a sli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o passar pelos grãos, a luz se decompõe e cria o colorido suave que se vê nas fotos produzidas dessa maneira. Cores pastéis, com um ligeiro efeito granul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asicamente é isso um autocromo: uma chapa de vidro coberta por minúscu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grãos transparentes de cor laranja, verde e violeta, sobrepostos a uma imagem fotográfica preto e branc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ra feito deste modo:  grãos de amido de batata, de dimensões microscópicas, corad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isturados em certa proporção e espalhados sobre a chapa de vidr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numa camada muito fin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seguir eram cobertos por uma camada de verniz impermeáve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que os isolava dos banhos de processamen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Em seguida, imersos numa emulsão pancromática, que é sensível a todas as cor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880" y="304920"/>
            <a:ext cx="8458200" cy="624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686800" cy="64033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 Au titre de petits-fils de Louis Lumière, nous sommes heureux de voir cette exposition   présentée à l’Hôtel du Département, lançant ainsi la célébration du centenaire de l’Autochrome Lum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Notre grand-père nous a souvent dit que le procédé était pour lui l’invention de sa vie : « Il m’a fallu sept ans d’efforts ininterrompus. Je n’ai rien fait d’autre pendant cette période. Je n’ai jamais perdu courag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En effet, s’il n’a fallu que quelques mois à Louis Lumière pour mettre au point l’invention du Cinématographe et la projection d’images animées sur un écran, il en a été tout autrement pour résoudre le difficile problème de la photographie en couleur. Sa réalisation lui demanda beaucoup de temps et d’énergie mais le résultat obtenu fut à la mesure de ce travail : force est de constater qu’aujourd’hui encore, les photographies réalisées par ce procédé impres-  sionnent par leur beauté indicible et leur qualité 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Après son invention en 1904, la commercialisation de l’Autochrome en 1907 met la photographie en couleur à la portée de tou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A titre personnel, nous sommes profondément touchés de revoir parmi les images présentées de nombreuses scènes et portraits familiaux parmi lesquels figurent nos mères et leurs proches. Nous espérons qu’à leur tour, les visiteurs de cette exposition ressentiront la beauté d’une technique et le parfum d’une histoi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                                                                                       </a:t>
            </a:r>
            <a:r>
              <a:rPr b="0" lang="fr-FR" sz="1800" spc="-1" strike="noStrike">
                <a:solidFill>
                  <a:srgbClr val="ff99cc"/>
                </a:solidFill>
                <a:latin typeface="Times New Roman"/>
              </a:rPr>
              <a:t>Les petits-enfants de Louis Lum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228600"/>
            <a:ext cx="8534160" cy="6400800"/>
          </a:xfrm>
          <a:prstGeom prst="rect">
            <a:avLst/>
          </a:prstGeom>
          <a:ln w="0">
            <a:noFill/>
          </a:ln>
        </p:spPr>
      </p:pic>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4920" y="228600"/>
            <a:ext cx="8534160" cy="636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04920" y="304920"/>
            <a:ext cx="8562960" cy="623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304920"/>
            <a:ext cx="8382240" cy="62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304920"/>
            <a:ext cx="4190760" cy="6172200"/>
          </a:xfrm>
          <a:prstGeom prst="rect">
            <a:avLst/>
          </a:prstGeom>
          <a:ln w="0">
            <a:noFill/>
          </a:ln>
        </p:spPr>
      </p:pic>
      <p:pic>
        <p:nvPicPr>
          <p:cNvPr id="52" name="" descr=""/>
          <p:cNvPicPr/>
          <p:nvPr/>
        </p:nvPicPr>
        <p:blipFill>
          <a:blip r:embed="rId2"/>
          <a:stretch/>
        </p:blipFill>
        <p:spPr>
          <a:xfrm>
            <a:off x="4800600" y="304920"/>
            <a:ext cx="403848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19:45:13Z</dcterms:created>
  <dc:creator>BARRUYER Jean Paul</dc:creator>
  <dc:description/>
  <dc:language>en-US</dc:language>
  <cp:lastModifiedBy>Edna</cp:lastModifiedBy>
  <dcterms:modified xsi:type="dcterms:W3CDTF">2010-02-22T20:23:39Z</dcterms:modified>
  <cp:revision>2</cp:revision>
  <dc:subject/>
  <dc:title>Présentation PowerPoint</dc:title>
</cp:coreProperties>
</file>