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634A-C68C-4AC0-A2FB-D82B1165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648-973B-4A26-A1D2-E4F75728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6309-64F8-4D32-A4FF-F1B8E44F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C0B-F7A2-411F-AF4E-07514168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A87-E100-47A9-9CD6-B9B10B80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FBC-1A77-4435-89C5-CD846AA8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3573-BA7B-448E-93F1-F6C1309F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3FF5-268F-4D22-9AA2-C497145B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1B6C-B88D-4000-8F5C-3ED6964D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5086-9C76-4A6C-85F8-181E6EC6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2A52-BC9F-43D7-9357-0B1CD533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AE37-FC5E-43AD-AA37-EBEF29DC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6179-B0C1-44D9-BC8D-9E20CF0068C6}" type="slidenum">
              <a:rPr b="0" lang="pt-P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Comic Sans MS"/>
              </a:rPr>
              <a:t>Último grito em edição fotográfic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357360"/>
            <a:ext cx="914400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Esta é a razão pela qual não se pode acreditar em qualquer fot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que se vê na Internet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Este é um exemplo perfeito daquilo que um perito pode fazer co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o Adobe Photoshop</a:t>
            </a:r>
            <a:br>
              <a:rPr sz="1800"/>
            </a:b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A pessoa que elaborou estas fotos fez um trabalho fantástico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870360" y="77004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COLETÂNE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1" descr="9.jpg"/>
          <p:cNvPicPr/>
          <p:nvPr/>
        </p:nvPicPr>
        <p:blipFill>
          <a:blip r:embed="rId1"/>
          <a:stretch/>
        </p:blipFill>
        <p:spPr>
          <a:xfrm>
            <a:off x="1919160" y="0"/>
            <a:ext cx="53038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m 1" descr="10.jpg"/>
          <p:cNvPicPr/>
          <p:nvPr/>
        </p:nvPicPr>
        <p:blipFill>
          <a:blip r:embed="rId1"/>
          <a:stretch/>
        </p:blipFill>
        <p:spPr>
          <a:xfrm>
            <a:off x="2131920" y="0"/>
            <a:ext cx="48801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1" descr="11.jpg"/>
          <p:cNvPicPr/>
          <p:nvPr/>
        </p:nvPicPr>
        <p:blipFill>
          <a:blip r:embed="rId1"/>
          <a:stretch/>
        </p:blipFill>
        <p:spPr>
          <a:xfrm>
            <a:off x="2279520" y="0"/>
            <a:ext cx="45849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m 1" descr="12.jpg"/>
          <p:cNvPicPr/>
          <p:nvPr/>
        </p:nvPicPr>
        <p:blipFill>
          <a:blip r:embed="rId1"/>
          <a:stretch/>
        </p:blipFill>
        <p:spPr>
          <a:xfrm>
            <a:off x="0" y="466560"/>
            <a:ext cx="9144000" cy="592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m 1" descr="13.jpg"/>
          <p:cNvPicPr/>
          <p:nvPr/>
        </p:nvPicPr>
        <p:blipFill>
          <a:blip r:embed="rId1"/>
          <a:stretch/>
        </p:blipFill>
        <p:spPr>
          <a:xfrm>
            <a:off x="932040" y="0"/>
            <a:ext cx="72799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1" descr="14.jpg"/>
          <p:cNvPicPr/>
          <p:nvPr/>
        </p:nvPicPr>
        <p:blipFill>
          <a:blip r:embed="rId1"/>
          <a:stretch/>
        </p:blipFill>
        <p:spPr>
          <a:xfrm>
            <a:off x="2519280" y="0"/>
            <a:ext cx="4105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1" descr="15.jpg"/>
          <p:cNvPicPr/>
          <p:nvPr/>
        </p:nvPicPr>
        <p:blipFill>
          <a:blip r:embed="rId1"/>
          <a:stretch/>
        </p:blipFill>
        <p:spPr>
          <a:xfrm>
            <a:off x="0" y="347760"/>
            <a:ext cx="9144000" cy="616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1" descr="16.jpg"/>
          <p:cNvPicPr/>
          <p:nvPr/>
        </p:nvPicPr>
        <p:blipFill>
          <a:blip r:embed="rId1"/>
          <a:stretch/>
        </p:blipFill>
        <p:spPr>
          <a:xfrm>
            <a:off x="844560" y="0"/>
            <a:ext cx="74548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1" descr="17.jpg"/>
          <p:cNvPicPr/>
          <p:nvPr/>
        </p:nvPicPr>
        <p:blipFill>
          <a:blip r:embed="rId1"/>
          <a:stretch/>
        </p:blipFill>
        <p:spPr>
          <a:xfrm>
            <a:off x="2008080" y="0"/>
            <a:ext cx="51278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m 1" descr="18.jpg"/>
          <p:cNvPicPr/>
          <p:nvPr/>
        </p:nvPicPr>
        <p:blipFill>
          <a:blip r:embed="rId1"/>
          <a:stretch/>
        </p:blipFill>
        <p:spPr>
          <a:xfrm>
            <a:off x="1824120" y="0"/>
            <a:ext cx="54957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1" descr="1.jpg"/>
          <p:cNvPicPr/>
          <p:nvPr/>
        </p:nvPicPr>
        <p:blipFill>
          <a:blip r:embed="rId1"/>
          <a:stretch/>
        </p:blipFill>
        <p:spPr>
          <a:xfrm>
            <a:off x="1028880" y="0"/>
            <a:ext cx="7084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1" descr="19.jpg"/>
          <p:cNvPicPr/>
          <p:nvPr/>
        </p:nvPicPr>
        <p:blipFill>
          <a:blip r:embed="rId1"/>
          <a:stretch/>
        </p:blipFill>
        <p:spPr>
          <a:xfrm>
            <a:off x="2367000" y="0"/>
            <a:ext cx="44085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m 1" descr="20.jpg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21.jpg"/>
          <p:cNvPicPr/>
          <p:nvPr/>
        </p:nvPicPr>
        <p:blipFill>
          <a:blip r:embed="rId1"/>
          <a:stretch/>
        </p:blipFill>
        <p:spPr>
          <a:xfrm>
            <a:off x="1521000" y="0"/>
            <a:ext cx="61005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1" descr="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1" descr="23.jpg"/>
          <p:cNvPicPr/>
          <p:nvPr/>
        </p:nvPicPr>
        <p:blipFill>
          <a:blip r:embed="rId1"/>
          <a:stretch/>
        </p:blipFill>
        <p:spPr>
          <a:xfrm>
            <a:off x="728640" y="0"/>
            <a:ext cx="76867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343080"/>
            <a:ext cx="7278480" cy="54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550800"/>
            <a:ext cx="8569080" cy="570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44840" y="404640"/>
            <a:ext cx="3957480" cy="590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575604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6557760" cy="608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m 1" descr="2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90600" y="571680"/>
            <a:ext cx="476280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00200" y="333360"/>
            <a:ext cx="5811840" cy="633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3537000" cy="648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749160"/>
            <a:ext cx="8642160" cy="535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52600" y="366840"/>
            <a:ext cx="4438800" cy="612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97160" y="95400"/>
            <a:ext cx="6349680" cy="666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201080" cy="630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1280" y="45864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21000" y="189000"/>
            <a:ext cx="4302000" cy="64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9640" y="614520"/>
            <a:ext cx="7848720" cy="547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m 1" descr="3.jpg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577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5640" y="216000"/>
            <a:ext cx="7632720" cy="642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14680" y="189000"/>
            <a:ext cx="5715000" cy="64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09760" y="260280"/>
            <a:ext cx="6324480" cy="633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9640" y="574560"/>
            <a:ext cx="8280360" cy="556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351000"/>
            <a:ext cx="8351640" cy="626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97160" y="514440"/>
            <a:ext cx="6349680" cy="58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865080"/>
            <a:ext cx="8137440" cy="499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498600"/>
            <a:ext cx="8497800" cy="57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04880" y="189000"/>
            <a:ext cx="6000840" cy="640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68600" y="333360"/>
            <a:ext cx="5673600" cy="604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m 1" descr="4.jpg"/>
          <p:cNvPicPr/>
          <p:nvPr/>
        </p:nvPicPr>
        <p:blipFill>
          <a:blip r:embed="rId1"/>
          <a:stretch/>
        </p:blipFill>
        <p:spPr>
          <a:xfrm>
            <a:off x="1930320" y="0"/>
            <a:ext cx="52833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90600" y="461880"/>
            <a:ext cx="4762800" cy="593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5280" y="677880"/>
            <a:ext cx="8353440" cy="550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00000" y="176040"/>
            <a:ext cx="7344000" cy="650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696960"/>
            <a:ext cx="8280360" cy="551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32000" y="217440"/>
            <a:ext cx="6840360" cy="630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6153120" cy="563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90600" y="471600"/>
            <a:ext cx="4762800" cy="59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90600" y="471600"/>
            <a:ext cx="4762800" cy="5914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90600" y="-28440"/>
            <a:ext cx="4762800" cy="691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FIM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1" descr="5.jpg"/>
          <p:cNvPicPr/>
          <p:nvPr/>
        </p:nvPicPr>
        <p:blipFill>
          <a:blip r:embed="rId1"/>
          <a:stretch/>
        </p:blipFill>
        <p:spPr>
          <a:xfrm>
            <a:off x="1684440" y="0"/>
            <a:ext cx="57751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1" descr="6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m 1" descr="7.jpg"/>
          <p:cNvPicPr/>
          <p:nvPr/>
        </p:nvPicPr>
        <p:blipFill>
          <a:blip r:embed="rId1"/>
          <a:stretch/>
        </p:blipFill>
        <p:spPr>
          <a:xfrm>
            <a:off x="2046240" y="0"/>
            <a:ext cx="50515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1" descr="8.jpg"/>
          <p:cNvPicPr/>
          <p:nvPr/>
        </p:nvPicPr>
        <p:blipFill>
          <a:blip r:embed="rId1"/>
          <a:stretch/>
        </p:blipFill>
        <p:spPr>
          <a:xfrm>
            <a:off x="1733400" y="0"/>
            <a:ext cx="56772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06:16:38Z</dcterms:created>
  <dc:creator>Só Riso Mail</dc:creator>
  <dc:description/>
  <dc:language>en-US</dc:language>
  <cp:lastModifiedBy>Frederico Marcondes Machado Filho</cp:lastModifiedBy>
  <dcterms:modified xsi:type="dcterms:W3CDTF">2009-10-28T01:26:38Z</dcterms:modified>
  <cp:revision>2</cp:revision>
  <dc:subject/>
  <dc:title>Último grito em edição fotográfica</dc:title>
</cp:coreProperties>
</file>