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8B3-1F7A-4192-BF4C-1D593CFE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DD0-EED7-4E42-8C36-C44468F0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AE2-3414-40EA-AE9D-01CB9B7F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762-D6D8-476A-9D66-D00DEFC0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64A-C4A3-42E6-BA08-2BFB1EB1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C16-FC45-4E26-BCAA-1BA0D134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270-A958-4B22-8F19-5168CFDF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F39-F05C-4EAB-9BFE-E2BEADF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F75-9981-4A62-86AE-7718C68F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476-7C85-483B-A475-8947DB7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AB0-F797-4A60-9B00-E74B856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C4E-4209-4ACF-8E9A-B122169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EE1E-C56C-4A41-911F-E3BEDE6E66A0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Comic Sans MS"/>
              </a:rPr>
              <a:t>Último grito em edição fotográfic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a é a razão pela qual não se pode acreditar em qualquer fo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que se vê na Internet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Este é um exemplo perfeito daquilo que um perito pode fazer 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o Adobe Photoshop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omic Sans MS"/>
              </a:rPr>
              <a:t>A pessoa que elaborou estas fotos fez um trabalho fantástico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870360" y="77004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LETÂN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1" descr="9.jpg"/>
          <p:cNvPicPr/>
          <p:nvPr/>
        </p:nvPicPr>
        <p:blipFill>
          <a:blip r:embed="rId1"/>
          <a:stretch/>
        </p:blipFill>
        <p:spPr>
          <a:xfrm>
            <a:off x="19191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m 1" descr="10.jpg"/>
          <p:cNvPicPr/>
          <p:nvPr/>
        </p:nvPicPr>
        <p:blipFill>
          <a:blip r:embed="rId1"/>
          <a:stretch/>
        </p:blipFill>
        <p:spPr>
          <a:xfrm>
            <a:off x="2131920" y="0"/>
            <a:ext cx="48801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m 1" descr="11.jpg"/>
          <p:cNvPicPr/>
          <p:nvPr/>
        </p:nvPicPr>
        <p:blipFill>
          <a:blip r:embed="rId1"/>
          <a:stretch/>
        </p:blipFill>
        <p:spPr>
          <a:xfrm>
            <a:off x="2279520" y="0"/>
            <a:ext cx="45849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m 1" descr="12.jpg"/>
          <p:cNvPicPr/>
          <p:nvPr/>
        </p:nvPicPr>
        <p:blipFill>
          <a:blip r:embed="rId1"/>
          <a:stretch/>
        </p:blipFill>
        <p:spPr>
          <a:xfrm>
            <a:off x="0" y="466560"/>
            <a:ext cx="9144000" cy="592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m 1" descr="13.jpg"/>
          <p:cNvPicPr/>
          <p:nvPr/>
        </p:nvPicPr>
        <p:blipFill>
          <a:blip r:embed="rId1"/>
          <a:stretch/>
        </p:blipFill>
        <p:spPr>
          <a:xfrm>
            <a:off x="932040" y="0"/>
            <a:ext cx="7279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1" descr="14.jpg"/>
          <p:cNvPicPr/>
          <p:nvPr/>
        </p:nvPicPr>
        <p:blipFill>
          <a:blip r:embed="rId1"/>
          <a:stretch/>
        </p:blipFill>
        <p:spPr>
          <a:xfrm>
            <a:off x="2519280" y="0"/>
            <a:ext cx="4105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m 1" descr="15.jpg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m 1" descr="16.jpg"/>
          <p:cNvPicPr/>
          <p:nvPr/>
        </p:nvPicPr>
        <p:blipFill>
          <a:blip r:embed="rId1"/>
          <a:stretch/>
        </p:blipFill>
        <p:spPr>
          <a:xfrm>
            <a:off x="844560" y="0"/>
            <a:ext cx="7454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m 1" descr="17.jpg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1" descr="18.jpg"/>
          <p:cNvPicPr/>
          <p:nvPr/>
        </p:nvPicPr>
        <p:blipFill>
          <a:blip r:embed="rId1"/>
          <a:stretch/>
        </p:blipFill>
        <p:spPr>
          <a:xfrm>
            <a:off x="1824120" y="0"/>
            <a:ext cx="54957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1" descr="1.jpg"/>
          <p:cNvPicPr/>
          <p:nvPr/>
        </p:nvPicPr>
        <p:blipFill>
          <a:blip r:embed="rId1"/>
          <a:stretch/>
        </p:blipFill>
        <p:spPr>
          <a:xfrm>
            <a:off x="1028880" y="0"/>
            <a:ext cx="70848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m 1" descr="19.jpg"/>
          <p:cNvPicPr/>
          <p:nvPr/>
        </p:nvPicPr>
        <p:blipFill>
          <a:blip r:embed="rId1"/>
          <a:stretch/>
        </p:blipFill>
        <p:spPr>
          <a:xfrm>
            <a:off x="2367000" y="0"/>
            <a:ext cx="4408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m 1" descr="20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m 1" descr="21.jpg"/>
          <p:cNvPicPr/>
          <p:nvPr/>
        </p:nvPicPr>
        <p:blipFill>
          <a:blip r:embed="rId1"/>
          <a:stretch/>
        </p:blipFill>
        <p:spPr>
          <a:xfrm>
            <a:off x="1521000" y="0"/>
            <a:ext cx="61005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m 1" descr="23.jpg"/>
          <p:cNvPicPr/>
          <p:nvPr/>
        </p:nvPicPr>
        <p:blipFill>
          <a:blip r:embed="rId1"/>
          <a:stretch/>
        </p:blipFill>
        <p:spPr>
          <a:xfrm>
            <a:off x="728640" y="0"/>
            <a:ext cx="7686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343080"/>
            <a:ext cx="7278480" cy="54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550800"/>
            <a:ext cx="8569080" cy="570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44840" y="404640"/>
            <a:ext cx="3957480" cy="59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75604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557760" cy="60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m 1" descr="2.jpg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0600" y="571680"/>
            <a:ext cx="47628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333360"/>
            <a:ext cx="5811840" cy="63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3537000" cy="64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749160"/>
            <a:ext cx="8642160" cy="535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2600" y="366840"/>
            <a:ext cx="4438800" cy="612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97160" y="95400"/>
            <a:ext cx="6349680" cy="666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21000" y="189000"/>
            <a:ext cx="4302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614520"/>
            <a:ext cx="7848720" cy="547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1" descr="3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216000"/>
            <a:ext cx="7632720" cy="642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14680" y="189000"/>
            <a:ext cx="571500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9760" y="260280"/>
            <a:ext cx="6324480" cy="63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574560"/>
            <a:ext cx="8280360" cy="556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51000"/>
            <a:ext cx="8351640" cy="626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97160" y="514440"/>
            <a:ext cx="6349680" cy="58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865080"/>
            <a:ext cx="8137440" cy="499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498600"/>
            <a:ext cx="8497800" cy="57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4880" y="189000"/>
            <a:ext cx="6000840" cy="64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68600" y="333360"/>
            <a:ext cx="5673600" cy="604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m 1" descr="4.jpg"/>
          <p:cNvPicPr/>
          <p:nvPr/>
        </p:nvPicPr>
        <p:blipFill>
          <a:blip r:embed="rId1"/>
          <a:stretch/>
        </p:blipFill>
        <p:spPr>
          <a:xfrm>
            <a:off x="1930320" y="0"/>
            <a:ext cx="5283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0600" y="461880"/>
            <a:ext cx="4762800" cy="593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677880"/>
            <a:ext cx="8353440" cy="55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176040"/>
            <a:ext cx="7344000" cy="650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696960"/>
            <a:ext cx="8280360" cy="55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217440"/>
            <a:ext cx="6840360" cy="630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404640"/>
            <a:ext cx="6153120" cy="563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0600" y="471600"/>
            <a:ext cx="4762800" cy="59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0600" y="-28440"/>
            <a:ext cx="4762800" cy="69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FIM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1" descr="5.jpg"/>
          <p:cNvPicPr/>
          <p:nvPr/>
        </p:nvPicPr>
        <p:blipFill>
          <a:blip r:embed="rId1"/>
          <a:stretch/>
        </p:blipFill>
        <p:spPr>
          <a:xfrm>
            <a:off x="168444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1" descr="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m 1" descr="7.jpg"/>
          <p:cNvPicPr/>
          <p:nvPr/>
        </p:nvPicPr>
        <p:blipFill>
          <a:blip r:embed="rId1"/>
          <a:stretch/>
        </p:blipFill>
        <p:spPr>
          <a:xfrm>
            <a:off x="2046240" y="0"/>
            <a:ext cx="5051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1" descr="8.jpg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6:16:38Z</dcterms:created>
  <dc:creator>Só Riso Mail</dc:creator>
  <dc:description/>
  <dc:language>en-US</dc:language>
  <cp:lastModifiedBy>Frederico Marcondes Machado Filho</cp:lastModifiedBy>
  <dcterms:modified xsi:type="dcterms:W3CDTF">2009-10-28T01:26:38Z</dcterms:modified>
  <cp:revision>2</cp:revision>
  <dc:subject/>
  <dc:title>Último grito em edição fotográfica</dc:title>
</cp:coreProperties>
</file>