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clara%20nunes%20e%20luiz%20gonzaga%20-%20%C3%9Altimo%20pau%20de%20ara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5E41-16A3-4B64-8ED7-367A30FF439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806-C68D-47A6-91FB-2FBD13F8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333-C780-45B9-AD15-6C8DDADC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573-8CD1-4738-B073-D6E9DE0F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EB9-EADF-420A-BA52-8782DAC0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0B8B-262E-42E6-9FA5-0C56A4EA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EF7-0D6C-486F-8432-34E08DF4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D1E-21CC-41A1-BD1B-D14FE81A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5E9-1BD2-4B7C-A438-C092AA23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2994-434C-4618-A30F-B9CA9B34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607-A8C8-485D-8E48-DCC48ADD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661E-C19B-4E42-95D6-7E197936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F844-9675-4C4C-9A94-4063FBD3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FBDC-A881-49DA-87C3-469D022EF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ara%20nunes%20e%20luiz%20gonzaga%20-%20&#218;ltimo%20pau%20de%20ara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641016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047240" y="5877000"/>
            <a:ext cx="71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Litoral Sul - Via Costeira – Natal RN. Maio 03 de 2008 -  às : 06 A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out"/>
    <p:sndAc>
      <p:stSnd>
        <p:snd r:embed="rId2" name="clara%20nunes%20e%20luiz%20gonzaga%20-%20%C3%9Altimo%20pau%20de%20ara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79744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415960" y="6491160"/>
            <a:ext cx="42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nte Newton Navarro – ao fundo  N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86908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2417040" y="6491160"/>
            <a:ext cx="45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aia em Redinha – Ponte Newton Nava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86908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136680" y="649116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nal do Cais – Ao fundo N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86908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3207600" y="649116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sseio ao Farol - Redinh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86908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3063240" y="6491160"/>
            <a:ext cx="29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sseio Ao Farol - Red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79744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983960" y="6491160"/>
            <a:ext cx="55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ista do Canal a Passarela Via Farol  e a Ponte N.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86908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2992320" y="649116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ssarela Via Farol - Red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86908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30480" y="649116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Igreja - Nossa Senhora dos Navegantes - Red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86908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417400" y="6491160"/>
            <a:ext cx="45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ssa Senhora dos Navegantes - Red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94180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3280680" y="64911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entro turístico de Red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641016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51" name=""/>
          <p:cNvSpPr txBox="1"/>
          <p:nvPr/>
        </p:nvSpPr>
        <p:spPr>
          <a:xfrm>
            <a:off x="2987640" y="2637000"/>
            <a:ext cx="3240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rush Script MT"/>
              </a:rPr>
              <a:t>Nat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rush Script MT"/>
              <a:ea typeface="Brush Script MT"/>
            </a:endParaRPr>
          </a:p>
        </p:txBody>
      </p:sp>
      <p:sp>
        <p:nvSpPr>
          <p:cNvPr id="52" name=""/>
          <p:cNvSpPr/>
          <p:nvPr/>
        </p:nvSpPr>
        <p:spPr>
          <a:xfrm>
            <a:off x="3205440" y="465300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rdeste do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47640" y="1413000"/>
            <a:ext cx="6039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RIO GRANDE DO NOR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584640" y="56944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Automático, com s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8880" y="5516640"/>
            <a:ext cx="26924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Editado e formatado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A. B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86908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631960" y="6491160"/>
            <a:ext cx="43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Rapa Mut” Restaurante – Genipabu 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351000"/>
            <a:ext cx="4535280" cy="322236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140360" y="2924280"/>
            <a:ext cx="4679640" cy="345600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4710240" y="1125360"/>
            <a:ext cx="47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Brush Script MT"/>
              </a:rPr>
              <a:t>Forte  Reis Magos - Natal 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02240" y="4869000"/>
            <a:ext cx="45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Brush Script MT"/>
              </a:rPr>
              <a:t>Litoral Urbano de Natal 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572000" cy="342900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211640" y="2997360"/>
            <a:ext cx="4572000" cy="342900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4559400" y="134136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Brush Script MT"/>
              </a:rPr>
              <a:t>Barra de Corais Litoral Urba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4200" y="4653000"/>
            <a:ext cx="42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Brush Script MT"/>
              </a:rPr>
              <a:t>Litoral Urbano - Natal 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241200"/>
            <a:ext cx="8496000" cy="585180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2416680" y="6491160"/>
            <a:ext cx="46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Ponta Negra – Morro do Careca – Litoral S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497800" cy="594036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2345400" y="6491160"/>
            <a:ext cx="48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Passarela em Ponta negra – Morro do Car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424720" cy="579600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990520" y="6491160"/>
            <a:ext cx="32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Infra-estrutura para o Tur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424720" cy="572436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2417400" y="649116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cc33"/>
                </a:solidFill>
                <a:latin typeface="Arial"/>
              </a:rPr>
              <a:t>Maior Cajueiro do mundo – Pirangi - N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68800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208320" y="6491160"/>
            <a:ext cx="27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Balneário litoral Sul N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287280"/>
            <a:ext cx="8497800" cy="587844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208320" y="649116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toral Urbano de Natal 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608360" cy="301608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067280" y="2781360"/>
            <a:ext cx="4762440" cy="357192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421920" y="546084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Brush Script MT"/>
              </a:rPr>
              <a:t>Litoral Sul de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25080" y="49536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Brush Script MT"/>
              </a:rPr>
              <a:t>Condomí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601344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344320" y="6491160"/>
            <a:ext cx="450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Condomínios  do Alto da praia dos Art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816360" cy="258768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140360" y="3645000"/>
            <a:ext cx="4268520" cy="280512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4694760" y="1325520"/>
            <a:ext cx="22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Brush Script MT"/>
              </a:rPr>
              <a:t>Vi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040" y="4724280"/>
            <a:ext cx="42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Brush Script MT"/>
              </a:rPr>
              <a:t>Amplas e Bem Sinal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583272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2990880" y="649116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cesso a Natal via Sul - N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424720" cy="572436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3854520" y="64911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entro de N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297000"/>
            <a:ext cx="8424720" cy="579600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2778120" y="6491160"/>
            <a:ext cx="43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Iluminação Pública decorativa e fu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9640" y="1138320"/>
            <a:ext cx="8353440" cy="474480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3567960" y="62373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norâmica de N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351640" cy="542916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2273760" y="649116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Praças e Logradouros Públicos bem tra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69080" cy="539136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3782880" y="62373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entro de N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1280" y="874800"/>
            <a:ext cx="8137440" cy="524808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3135960" y="64911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anhecer em Ponta Neg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348000" y="2133720"/>
            <a:ext cx="1944720" cy="10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rush Script MT"/>
              </a:rPr>
              <a:t>Fi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rush Script MT"/>
              <a:ea typeface="Brush Script MT"/>
            </a:endParaRPr>
          </a:p>
        </p:txBody>
      </p:sp>
      <p:sp>
        <p:nvSpPr>
          <p:cNvPr id="136" name=""/>
          <p:cNvSpPr/>
          <p:nvPr/>
        </p:nvSpPr>
        <p:spPr>
          <a:xfrm>
            <a:off x="855360" y="511164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io: A.D.Mor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7600" y="3357720"/>
            <a:ext cx="28065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u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eu Último Pau de Ar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e Luiz Gonz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ant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lara Nun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tograf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. Bernal -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86908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3207240" y="649116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l da dunas  - Via Cost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797440"/>
          </a:xfrm>
          <a:prstGeom prst="rect">
            <a:avLst/>
          </a:prstGeom>
          <a:ln w="3240">
            <a:solidFill>
              <a:srgbClr val="00ff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711960" y="649116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Via praia do Me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79744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2920320" y="6491160"/>
            <a:ext cx="34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cesso a Ponte Newton Nava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869080"/>
          </a:xfrm>
          <a:prstGeom prst="rect">
            <a:avLst/>
          </a:prstGeom>
          <a:ln w="3240">
            <a:solidFill>
              <a:srgbClr val="0000ff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3062160" y="649116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v.Beira-mar via Norte - S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601344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985040" y="64911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entro Turístico de Redinha - Ponte Newton Nava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5840" y="223920"/>
            <a:ext cx="8572320" cy="5941800"/>
          </a:xfrm>
          <a:prstGeom prst="rect">
            <a:avLst/>
          </a:prstGeom>
          <a:ln w="3240">
            <a:solidFill>
              <a:srgbClr val="ffff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2776680" y="6491160"/>
            <a:ext cx="38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 Redinha - Ponte Newton Nava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21:51:18Z</dcterms:created>
  <dc:creator>Luis Alfonso Diaz Bernal</dc:creator>
  <dc:description/>
  <dc:language>en-US</dc:language>
  <cp:lastModifiedBy>Luis Alfonso Diaz Bernal</cp:lastModifiedBy>
  <dcterms:modified xsi:type="dcterms:W3CDTF">2008-05-05T22:09:30Z</dcterms:modified>
  <cp:revision>32</cp:revision>
  <dc:subject/>
  <dc:title>Slide 1</dc:title>
</cp:coreProperties>
</file>