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clara%20nunes%20e%20luiz%20gonzaga%20-%20%C3%9Altimo%20pau%20de%20ara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575D-9657-42F4-9993-5B2DF19CE5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800-D797-4F54-A482-A94B1B80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DF-7F70-46CA-9B80-B16F6D0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1E0-D699-4D01-B829-1D1A8493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1C3-BF8D-4CBE-9780-DB252C9E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464-F893-49F8-A19A-583341D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246-B280-4D56-8347-1F878A5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923-E76E-41FB-A86C-6B9E220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792-0F21-41F0-8BAB-A4ED10F7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94E-B116-4343-A197-9F0216B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08F-FA3D-4179-B9D0-366E416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67D-18C4-472C-935D-31E4692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517-D7FC-4615-9B1E-5576D79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FDD7-9350-4975-8FF5-5F67393C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ra%20nunes%20e%20luiz%20gonzaga%20-%20&#218;ltimo%20pau%20de%20ara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047240" y="587700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Litoral Sul - Via Costeira – Natal RN. Maio 03 de 2008 -  às : 06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2" name="clara%20nunes%20e%20luiz%20gonzaga%20-%20%C3%9Altimo%20pau%20de%20ara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415960" y="64911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nte Newton Navarro – ao fundo 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6491160"/>
            <a:ext cx="45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aia em Redinha –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136680" y="64911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nal do Cais – Ao fundo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207600" y="649116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seio ao Farol - Redin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063240" y="649116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seio Ao Farol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983960" y="649116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ista do Canal a Passarela Via Farol  e a Ponte N.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2992320" y="649116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ssarela Via Farol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30480" y="649116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greja - Nossa Senhora dos Navegantes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417400" y="649116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ssa Senhora dos Navegantes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941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280680" y="64911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turístico de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2987640" y="2637000"/>
            <a:ext cx="324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rush Script MT"/>
              </a:rPr>
              <a:t>Na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rush Script MT"/>
              <a:ea typeface="Brush Script MT"/>
            </a:endParaRPr>
          </a:p>
        </p:txBody>
      </p:sp>
      <p:sp>
        <p:nvSpPr>
          <p:cNvPr id="52" name=""/>
          <p:cNvSpPr/>
          <p:nvPr/>
        </p:nvSpPr>
        <p:spPr>
          <a:xfrm>
            <a:off x="3205440" y="4653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deste d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1413000"/>
            <a:ext cx="6039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RIO GRANDE DO NOR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84640" y="56944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utomático, com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8880" y="5516640"/>
            <a:ext cx="2692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ditado e format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. B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631960" y="649116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apa Mut” Restaurante – Genipabu 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4535280" cy="32223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4679640" cy="3456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4710240" y="112536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Forte  Reis Magos -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02240" y="4869000"/>
            <a:ext cx="45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Litoral Urbano de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572000" cy="3429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572000" cy="3429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559400" y="134136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Barra de Corais Litoral Urb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4200" y="465300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Litoral Urbano -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241200"/>
            <a:ext cx="8496000" cy="58518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416680" y="649116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nta Negra – Morro do Careca – Litoral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59403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2345400" y="64911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assarela em Ponta negra – Morro do Car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96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990520" y="649116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nfra-estrutura para o Tu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243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417400" y="649116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Maior Cajueiro do mundo – Pirangi -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88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208320" y="649116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Balneário litoral Sul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87280"/>
            <a:ext cx="8497800" cy="5878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08320" y="649116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toral Urbano de Nata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608360" cy="301608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4762440" cy="357192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21920" y="546084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Brush Script MT"/>
              </a:rPr>
              <a:t>Litoral Sul de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5080" y="49536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Brush Script MT"/>
              </a:rPr>
              <a:t>Condomí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013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344320" y="649116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Condomínios  do Alto da praia dos Art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816360" cy="25876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4268520" cy="28051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694760" y="132552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Vi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40" y="47242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Amplas e Bem Sin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327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2990880" y="64911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esso a Natal via Sul - 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2436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854520" y="64911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96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778120" y="64911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luminação Pública decorativa e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138320"/>
            <a:ext cx="8353440" cy="4744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567960" y="62373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norâmica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4291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2273760" y="649116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aças e Logradouros Públicos bem tra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53913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782880" y="6237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ntro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874800"/>
            <a:ext cx="8137440" cy="5248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3135960" y="64911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anhecer em Ponta N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00" y="2133720"/>
            <a:ext cx="1944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ush Script MT"/>
              </a:rPr>
              <a:t>F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ush Script MT"/>
              <a:ea typeface="Brush Script MT"/>
            </a:endParaRPr>
          </a:p>
        </p:txBody>
      </p:sp>
      <p:sp>
        <p:nvSpPr>
          <p:cNvPr id="136" name=""/>
          <p:cNvSpPr/>
          <p:nvPr/>
        </p:nvSpPr>
        <p:spPr>
          <a:xfrm>
            <a:off x="855360" y="51116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io: A.D.Mo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0" y="3357720"/>
            <a:ext cx="2806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eu Último Pau de Ar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Luiz Gonz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nt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ara Nu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tograf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. Bernal -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07240" y="649116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l da dunas  - Via Cost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711960" y="64911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Via praia do M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920320" y="6491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esso a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062160" y="64911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v.Beira-mar via Norte -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01344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85040" y="64911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Turístico de Redinha -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941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76680" y="649116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 Redinha -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1:51:18Z</dcterms:created>
  <dc:creator>Luis Alfonso Diaz Bernal</dc:creator>
  <dc:description/>
  <dc:language>en-US</dc:language>
  <cp:lastModifiedBy>Luis Alfonso Diaz Bernal</cp:lastModifiedBy>
  <dcterms:modified xsi:type="dcterms:W3CDTF">2008-05-05T22:09:30Z</dcterms:modified>
  <cp:revision>32</cp:revision>
  <dc:subject/>
  <dc:title>Slide 1</dc:title>
</cp:coreProperties>
</file>