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F8D-1A73-4B6D-9DD0-C5F7D9D5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245-AAB2-49D3-A043-1B7F71D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200-5DE8-433C-8BCD-70F074B8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175-B271-4CC9-B437-C9C0B6AC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210-20AB-4B8E-9F6C-070D5FC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132-E1B8-4A70-B29C-CE3D371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FC7-D24D-4137-BC6F-2161F947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D66-0EC0-445D-BF06-C1255539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6C9-98BB-4927-A5CE-9EA5D003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72A-2537-4BF8-9FE8-F9758DB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6FA-F783-4D01-B082-8E4602A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2E9-4432-4320-BA16-5911CF7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436-DBDA-4C77-9A75-E3E09333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914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438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533520"/>
            <a:ext cx="4762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438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609480"/>
            <a:ext cx="70102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371600" y="990720"/>
            <a:ext cx="6191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olitics is a delicate&#13;&#10; thing (51 pics)"/>
          <p:cNvPicPr/>
          <p:nvPr/>
        </p:nvPicPr>
        <p:blipFill>
          <a:blip r:embed="rId1"/>
          <a:stretch/>
        </p:blipFill>
        <p:spPr>
          <a:xfrm>
            <a:off x="609480" y="99072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057400" y="304920"/>
            <a:ext cx="496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457200"/>
            <a:ext cx="6933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447920" y="304920"/>
            <a:ext cx="6070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523880" y="304920"/>
            <a:ext cx="606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82880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905120" y="57240"/>
            <a:ext cx="47624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55:03Z</dcterms:created>
  <dc:creator>JDSU-Users</dc:creator>
  <dc:description/>
  <dc:language>en-US</dc:language>
  <cp:lastModifiedBy>JDSU-Users</cp:lastModifiedBy>
  <dcterms:modified xsi:type="dcterms:W3CDTF">2009-09-14T14:18:56Z</dcterms:modified>
  <cp:revision>2</cp:revision>
  <dc:subject/>
  <dc:title>Slide 1</dc:title>
</cp:coreProperties>
</file>