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877-127A-4128-86E5-A8C5CBDD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852-DFB4-4CFA-9249-A8A78B0F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B096-0C1C-4B16-B428-41054646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387-7696-42E2-A296-542FA3A7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D4AA-D432-4027-983F-F953320F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964-064C-4DD5-9E58-145956D1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750-4553-4CBD-AE58-33D3E48E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4C5D-7245-466E-97F0-351EB594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92E-32C4-4F56-83A1-E2E754E9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DC4-C083-4A88-B280-0F0D8AB5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04F-3FF9-44AE-9B9C-1E2FB806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2D2-A612-46B0-8457-CA9191CE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488E-D6FD-43BD-8379-B2471E3CA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914400"/>
            <a:ext cx="7143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533520" y="914400"/>
            <a:ext cx="792468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600200" y="380880"/>
            <a:ext cx="5715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133720" y="0"/>
            <a:ext cx="49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762120"/>
            <a:ext cx="714384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133720" y="533520"/>
            <a:ext cx="47624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438280" y="0"/>
            <a:ext cx="456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914400" y="609480"/>
            <a:ext cx="70102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762120"/>
            <a:ext cx="77724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371600" y="990720"/>
            <a:ext cx="61912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209680" y="304920"/>
            <a:ext cx="476280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Politics is a delicate&#13;&#10; thing (51 pics)"/>
          <p:cNvPicPr/>
          <p:nvPr/>
        </p:nvPicPr>
        <p:blipFill>
          <a:blip r:embed="rId1"/>
          <a:stretch/>
        </p:blipFill>
        <p:spPr>
          <a:xfrm>
            <a:off x="609480" y="990720"/>
            <a:ext cx="75438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057400" y="304920"/>
            <a:ext cx="4968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762120"/>
            <a:ext cx="784872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990720" y="457200"/>
            <a:ext cx="69339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447920" y="304920"/>
            <a:ext cx="6070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143000" y="380880"/>
            <a:ext cx="69343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762120"/>
            <a:ext cx="716292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523880" y="304920"/>
            <a:ext cx="6066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533520" y="380880"/>
            <a:ext cx="7848360" cy="58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533520" y="533520"/>
            <a:ext cx="761976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380880" y="762120"/>
            <a:ext cx="815364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1337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1143000"/>
            <a:ext cx="72392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828800" y="0"/>
            <a:ext cx="527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457200" y="762120"/>
            <a:ext cx="800100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762120" y="380880"/>
            <a:ext cx="73152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838080"/>
            <a:ext cx="74674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066680" y="685800"/>
            <a:ext cx="68580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838080"/>
            <a:ext cx="762012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209680" y="533520"/>
            <a:ext cx="4762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905120" y="57240"/>
            <a:ext cx="47624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3:55:03Z</dcterms:created>
  <dc:creator>JDSU-Users</dc:creator>
  <dc:description/>
  <dc:language>en-US</dc:language>
  <cp:lastModifiedBy>JDSU-Users</cp:lastModifiedBy>
  <dcterms:modified xsi:type="dcterms:W3CDTF">2009-09-14T14:18:56Z</dcterms:modified>
  <cp:revision>2</cp:revision>
  <dc:subject/>
  <dc:title>Slide 1</dc:title>
</cp:coreProperties>
</file>