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29.jpeg" ContentType="image/jpeg"/>
  <Override PartName="/ppt/media/image47.png" ContentType="image/png"/>
  <Override PartName="/ppt/media/image35.jpeg" ContentType="image/jpeg"/>
  <Override PartName="/ppt/media/Panfluit%2012.wav" ContentType="audio/x-wav"/>
  <Override PartName="/ppt/media/image10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8.jpeg" ContentType="image/jpeg"/>
  <Override PartName="/ppt/media/image3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806-A30B-4FE7-834D-F6F483A4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21E-19F1-45BA-8C28-BA40397B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B3D-6578-443A-B9A4-50406491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414-9645-4AE0-A317-1BFC1367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261-8CBA-418A-A0A1-74B8CDEA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7AD-2BF5-4E0D-85A3-720EBA9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5D0-2BE1-4BDE-BAFD-29AD260D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5C2-3613-4452-AB56-3974031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09A-BB75-43B0-BA3C-2C2DE2DC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E97-AC2A-441A-80DE-D47EDD28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39D-FAFA-4BC1-969D-85AC0CF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371-ABA5-4AE5-9345-5561711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680-8715-46A3-B49B-15ADEA52CE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nfluit%2012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1238400" y="3456000"/>
            <a:ext cx="5662440" cy="190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298600" y="4095720"/>
            <a:ext cx="5686560" cy="3219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14200" y="92880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Can anything made by man, even get close to beauty of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Maybe the musi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940360" y="63817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R.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  <p:sndAc>
      <p:stSnd>
        <p:snd r:embed="rId2" name="Panfluit%201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1335240" y="2279520"/>
            <a:ext cx="4456080" cy="12448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2"/>
          <a:stretch/>
        </p:blipFill>
        <p:spPr>
          <a:xfrm>
            <a:off x="2004840" y="2743200"/>
            <a:ext cx="4262760" cy="120636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5" descr=""/>
          <p:cNvPicPr/>
          <p:nvPr/>
        </p:nvPicPr>
        <p:blipFill>
          <a:blip r:embed="rId3"/>
          <a:stretch/>
        </p:blipFill>
        <p:spPr>
          <a:xfrm>
            <a:off x="2633760" y="3170160"/>
            <a:ext cx="4284720" cy="20052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8215200" y="6308640"/>
            <a:ext cx="419040" cy="2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. B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87280" y="258840"/>
            <a:ext cx="8570880" cy="6384960"/>
          </a:xfrm>
          <a:prstGeom prst="rect">
            <a:avLst/>
          </a:prstGeom>
          <a:noFill/>
          <a:ln w="38160">
            <a:solidFill>
              <a:srgbClr val="808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4:20:45Z</dcterms:created>
  <dc:creator>K &amp; K</dc:creator>
  <dc:description/>
  <dc:language>en-US</dc:language>
  <cp:lastModifiedBy> Bonitech Corp.</cp:lastModifiedBy>
  <dcterms:modified xsi:type="dcterms:W3CDTF">2008-02-02T17:56:46Z</dcterms:modified>
  <cp:revision>11</cp:revision>
  <dc:subject/>
  <dc:title>Neat </dc:title>
</cp:coreProperties>
</file>