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10A-874C-47CC-BB25-D94AAA9B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D4B-6C5C-499F-BA52-4DD899A1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1EB-C938-4A20-97CA-117BD17C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583-E99E-47C9-9638-FC9D2774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7C8-A8B5-4B8A-A22D-BD11445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0C2-8C6C-4381-9F00-E8BF41B5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10C-EA63-4045-BED7-B79D8CD6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506-BDC5-4F1A-8E24-A5DBF79A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6F6-FF8E-46D6-B66A-414AB4B7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D1F-F01A-4E68-BB12-83905E5B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BF9-C882-4CFC-9AF2-491C9333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B9A-F3B7-47AB-AA5F-74575BC8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A000-8523-4EE0-83D6-D630A78BEA9F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  <a:ea typeface="新細明體"/>
            </a:endParaRPr>
          </a:p>
        </p:txBody>
      </p:sp>
      <p:pic>
        <p:nvPicPr>
          <p:cNvPr id="43" name="Picture 2" descr="Open Eyes Gif-Ed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ângulo 5" descr=""/>
          <p:cNvPicPr/>
          <p:nvPr/>
        </p:nvPicPr>
        <p:blipFill>
          <a:blip r:embed="rId2"/>
          <a:stretch/>
        </p:blipFill>
        <p:spPr>
          <a:xfrm>
            <a:off x="871560" y="4889520"/>
            <a:ext cx="7736040" cy="1974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eyes r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Eyes full of sunshine by Emeraldir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...but all eyes are __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pixdaus.com/pics/aFkXkHrXsQ2BXz7dJ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pixdaus.com/pics/1232608277LBDrw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from http://kolyan.net/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tough li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peek a b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pixdaus.com/pics/MpdZpbI1VsQ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Br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  <a:ea typeface="新細明體"/>
            </a:endParaRPr>
          </a:p>
        </p:txBody>
      </p:sp>
      <p:pic>
        <p:nvPicPr>
          <p:cNvPr id="47" name="Picture 2" descr="Classic Blue  by Hugo Roma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pixdaus.com/pics/1223354907lMy6UyX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pixdaus.com/pics/12385621572LNbRQW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by Marzyciel "/>
          <p:cNvPicPr/>
          <p:nvPr/>
        </p:nvPicPr>
        <p:blipFill>
          <a:blip r:embed="rId1"/>
          <a:stretch/>
        </p:blipFill>
        <p:spPr>
          <a:xfrm>
            <a:off x="0" y="-177840"/>
            <a:ext cx="9144000" cy="7035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Little Angel _ By Mitra Mishahid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Diamonds and a touch of rust _ By Java Ca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akin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golden ey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pixdaus.com/pics/1213664840GH6BIq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Mystic Eyes  by Jerry Matchett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pixdaus.com/pics/1236232104AUynri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THE EYES - anto pupp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pixdaus.com/pics/WGcnkKj7bw4DGu7ir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Rectângulo 4" descr=""/>
          <p:cNvPicPr/>
          <p:nvPr/>
        </p:nvPicPr>
        <p:blipFill>
          <a:blip r:embed="rId2"/>
          <a:stretch/>
        </p:blipFill>
        <p:spPr>
          <a:xfrm>
            <a:off x="7296120" y="6175440"/>
            <a:ext cx="1908360" cy="689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OHHHH - Michael Borsov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Mask is interesting, but  those green eyes are incredi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by Ana B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Blue Eyes (Chelsie) has Neuroblasto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Those Eyes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(O by RamonaG"/>
          <p:cNvPicPr/>
          <p:nvPr/>
        </p:nvPicPr>
        <p:blipFill>
          <a:blip r:embed="rId1"/>
          <a:stretch/>
        </p:blipFill>
        <p:spPr>
          <a:xfrm>
            <a:off x="0" y="0"/>
            <a:ext cx="93092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0:39:01Z</dcterms:created>
  <dc:creator>user</dc:creator>
  <dc:description/>
  <dc:language>en-US</dc:language>
  <cp:lastModifiedBy>Laurinda</cp:lastModifiedBy>
  <dcterms:modified xsi:type="dcterms:W3CDTF">2009-09-16T07:57:49Z</dcterms:modified>
  <cp:revision>4</cp:revision>
  <dc:subject/>
  <dc:title>Diapositivo 1</dc:title>
</cp:coreProperties>
</file>