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C90-6B25-40E2-A578-78807FF3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34E-7831-46F8-8C61-CC1D1D9C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41C-CD7D-4835-AAB0-2D158551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121-46E4-433B-A07D-1CBF3341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3EA-6418-470B-A430-9490CB5D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75A-90C7-4FF6-A34D-3B943952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FF2-08A8-4A7F-AAAE-9B25E011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64E-66BF-4AB0-AFB9-7581BB66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CFE-D7A6-4A9E-B193-9E99FDC1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D98-4DE9-40B7-822A-4E61BA0E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8FA-3D58-4E85-AC26-B66226E0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D94-E848-47F5-BD62-F4484A4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17C4-7813-4364-BAF5-3066F1D43417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  <a:ea typeface="新細明體"/>
            </a:endParaRPr>
          </a:p>
        </p:txBody>
      </p:sp>
      <p:pic>
        <p:nvPicPr>
          <p:cNvPr id="43" name="Picture 2" descr="Open Eyes Gif-Ed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ângulo 5" descr=""/>
          <p:cNvPicPr/>
          <p:nvPr/>
        </p:nvPicPr>
        <p:blipFill>
          <a:blip r:embed="rId2"/>
          <a:stretch/>
        </p:blipFill>
        <p:spPr>
          <a:xfrm>
            <a:off x="871560" y="4889520"/>
            <a:ext cx="7736040" cy="1974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eyes r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Eyes full of sunshine by Emeraldir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...but all eyes are __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pixdaus.com/pics/aFkXkHrXsQ2BXz7dJ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pixdaus.com/pics/1232608277LBDrw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from http://kolyan.net/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tough li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peek a b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pixdaus.com/pics/MpdZpbI1VsQ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Br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  <a:ea typeface="新細明體"/>
            </a:endParaRPr>
          </a:p>
        </p:txBody>
      </p:sp>
      <p:pic>
        <p:nvPicPr>
          <p:cNvPr id="47" name="Picture 2" descr="Classic Blue  by Hugo Roma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pixdaus.com/pics/1223354907lMy6UyX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pixdaus.com/pics/12385621572LNbRQW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by Marzyciel "/>
          <p:cNvPicPr/>
          <p:nvPr/>
        </p:nvPicPr>
        <p:blipFill>
          <a:blip r:embed="rId1"/>
          <a:stretch/>
        </p:blipFill>
        <p:spPr>
          <a:xfrm>
            <a:off x="0" y="-177840"/>
            <a:ext cx="9144000" cy="7035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Little Angel _ By Mitra Mishahid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Diamonds and a touch of rust _ By Java Ca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akin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golden ey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pixdaus.com/pics/1213664840GH6BIq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Mystic Eyes  by Jerry Matchett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pixdaus.com/pics/1236232104AUynri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THE EYES - anto pupp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pixdaus.com/pics/WGcnkKj7bw4DGu7ir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Rectângulo 4" descr=""/>
          <p:cNvPicPr/>
          <p:nvPr/>
        </p:nvPicPr>
        <p:blipFill>
          <a:blip r:embed="rId2"/>
          <a:stretch/>
        </p:blipFill>
        <p:spPr>
          <a:xfrm>
            <a:off x="7296120" y="6175440"/>
            <a:ext cx="1908360" cy="689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OHHHH - Michael Borsov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Mask is interesting, but  those green eyes are incredi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by Ana B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Blue Eyes (Chelsie) has Neuroblasto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Those Eyes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(O by RamonaG"/>
          <p:cNvPicPr/>
          <p:nvPr/>
        </p:nvPicPr>
        <p:blipFill>
          <a:blip r:embed="rId1"/>
          <a:stretch/>
        </p:blipFill>
        <p:spPr>
          <a:xfrm>
            <a:off x="0" y="0"/>
            <a:ext cx="93092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0:39:01Z</dcterms:created>
  <dc:creator>user</dc:creator>
  <dc:description/>
  <dc:language>en-US</dc:language>
  <cp:lastModifiedBy>Laurinda</cp:lastModifiedBy>
  <dcterms:modified xsi:type="dcterms:W3CDTF">2009-09-16T07:57:49Z</dcterms:modified>
  <cp:revision>4</cp:revision>
  <dc:subject/>
  <dc:title>Diapositivo 1</dc:title>
</cp:coreProperties>
</file>