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cielito%20lindo.wav" ContentType="audio/x-wav"/>
  <Override PartName="/ppt/media/image1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7D8-4AA5-4AE1-BC01-7EC05743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41F-F46D-4323-8DD2-5BB62CFE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29E-971A-4999-AE0D-0AEACC3D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3C9-AF6D-4058-9A1B-95F89D06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AEE-56B5-410F-95CE-356DCB4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C21-AC85-4480-A37C-5BC580C6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0F1-67B9-48D5-8076-77628000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599-651B-44C9-B42C-F83CC5A8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947-B5F2-4010-81EE-454130D5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65C-C252-47BC-9CAF-47517C18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5BD-949B-4610-A9C5-EEA2A207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4BA-DD02-49D2-B51F-E2C4A4B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6124-3B74-4D58-975B-1D5A2A9A2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audio" Target="../media/cielito%20lindo.wav"/><Relationship Id="rId2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6.jpeg"/><Relationship Id="rId3" Type="http://schemas.openxmlformats.org/officeDocument/2006/relationships/slide" Target="slide24.xml"/><Relationship Id="rId4" Type="http://schemas.openxmlformats.org/officeDocument/2006/relationships/image" Target="../media/image7.jpeg"/><Relationship Id="rId5" Type="http://schemas.openxmlformats.org/officeDocument/2006/relationships/slide" Target="slide4.xml"/><Relationship Id="rId6" Type="http://schemas.openxmlformats.org/officeDocument/2006/relationships/image" Target="../media/image8.jpeg"/><Relationship Id="rId7" Type="http://schemas.openxmlformats.org/officeDocument/2006/relationships/slide" Target="slide8.xml"/><Relationship Id="rId8" Type="http://schemas.openxmlformats.org/officeDocument/2006/relationships/image" Target="../media/image9.jpeg"/><Relationship Id="rId9" Type="http://schemas.openxmlformats.org/officeDocument/2006/relationships/slide" Target="slide7.xml"/><Relationship Id="rId10" Type="http://schemas.openxmlformats.org/officeDocument/2006/relationships/image" Target="../media/image10.jpeg"/><Relationship Id="rId11" Type="http://schemas.openxmlformats.org/officeDocument/2006/relationships/slide" Target="slide13.xml"/><Relationship Id="rId12" Type="http://schemas.openxmlformats.org/officeDocument/2006/relationships/image" Target="../media/image11.jpeg"/><Relationship Id="rId13" Type="http://schemas.openxmlformats.org/officeDocument/2006/relationships/slide" Target="slide11.xml"/><Relationship Id="rId14" Type="http://schemas.openxmlformats.org/officeDocument/2006/relationships/image" Target="../media/image12.jpeg"/><Relationship Id="rId15" Type="http://schemas.openxmlformats.org/officeDocument/2006/relationships/slide" Target="slide26.xml"/><Relationship Id="rId16" Type="http://schemas.openxmlformats.org/officeDocument/2006/relationships/image" Target="../media/image13.jpeg"/><Relationship Id="rId17" Type="http://schemas.openxmlformats.org/officeDocument/2006/relationships/slide" Target="slide10.xml"/><Relationship Id="rId18" Type="http://schemas.openxmlformats.org/officeDocument/2006/relationships/image" Target="../media/image14.jpeg"/><Relationship Id="rId19" Type="http://schemas.openxmlformats.org/officeDocument/2006/relationships/slide" Target="slide14.xml"/><Relationship Id="rId20" Type="http://schemas.openxmlformats.org/officeDocument/2006/relationships/image" Target="../media/image15.jpeg"/><Relationship Id="rId21" Type="http://schemas.openxmlformats.org/officeDocument/2006/relationships/slide" Target="slide12.xml"/><Relationship Id="rId22" Type="http://schemas.openxmlformats.org/officeDocument/2006/relationships/image" Target="../media/image16.jpeg"/><Relationship Id="rId23" Type="http://schemas.openxmlformats.org/officeDocument/2006/relationships/slide" Target="slide5.xml"/><Relationship Id="rId24" Type="http://schemas.openxmlformats.org/officeDocument/2006/relationships/image" Target="../media/image17.jpeg"/><Relationship Id="rId25" Type="http://schemas.openxmlformats.org/officeDocument/2006/relationships/slide" Target="slide16.xml"/><Relationship Id="rId26" Type="http://schemas.openxmlformats.org/officeDocument/2006/relationships/image" Target="../media/image18.jpeg"/><Relationship Id="rId27" Type="http://schemas.openxmlformats.org/officeDocument/2006/relationships/slide" Target="slide17.xml"/><Relationship Id="rId28" Type="http://schemas.openxmlformats.org/officeDocument/2006/relationships/image" Target="../media/image19.jpeg"/><Relationship Id="rId29" Type="http://schemas.openxmlformats.org/officeDocument/2006/relationships/slide" Target="slide18.xml"/><Relationship Id="rId30" Type="http://schemas.openxmlformats.org/officeDocument/2006/relationships/image" Target="../media/image20.jpeg"/><Relationship Id="rId31" Type="http://schemas.openxmlformats.org/officeDocument/2006/relationships/slide" Target="slide19.xml"/><Relationship Id="rId32" Type="http://schemas.openxmlformats.org/officeDocument/2006/relationships/image" Target="../media/image21.jpeg"/><Relationship Id="rId33" Type="http://schemas.openxmlformats.org/officeDocument/2006/relationships/slide" Target="slide20.xml"/><Relationship Id="rId34" Type="http://schemas.openxmlformats.org/officeDocument/2006/relationships/image" Target="../media/image22.jpeg"/><Relationship Id="rId35" Type="http://schemas.openxmlformats.org/officeDocument/2006/relationships/slide" Target="slide21.xml"/><Relationship Id="rId36" Type="http://schemas.openxmlformats.org/officeDocument/2006/relationships/image" Target="../media/image23.jpeg"/><Relationship Id="rId37" Type="http://schemas.openxmlformats.org/officeDocument/2006/relationships/slide" Target="slide27.xml"/><Relationship Id="rId38" Type="http://schemas.openxmlformats.org/officeDocument/2006/relationships/image" Target="../media/image24.jpeg"/><Relationship Id="rId39" Type="http://schemas.openxmlformats.org/officeDocument/2006/relationships/slide" Target="slide23.xml"/><Relationship Id="rId40" Type="http://schemas.openxmlformats.org/officeDocument/2006/relationships/image" Target="../media/image25.jpeg"/><Relationship Id="rId41" Type="http://schemas.openxmlformats.org/officeDocument/2006/relationships/slide" Target="slide6.xml"/><Relationship Id="rId42" Type="http://schemas.openxmlformats.org/officeDocument/2006/relationships/image" Target="../media/image26.jpeg"/><Relationship Id="rId43" Type="http://schemas.openxmlformats.org/officeDocument/2006/relationships/slide" Target="slide15.xml"/><Relationship Id="rId44" Type="http://schemas.openxmlformats.org/officeDocument/2006/relationships/image" Target="../media/image27.jpeg"/><Relationship Id="rId45" Type="http://schemas.openxmlformats.org/officeDocument/2006/relationships/slide" Target="slide25.xml"/><Relationship Id="rId46" Type="http://schemas.openxmlformats.org/officeDocument/2006/relationships/image" Target="../media/image28.jpeg"/><Relationship Id="rId47" Type="http://schemas.openxmlformats.org/officeDocument/2006/relationships/slide" Target="slide9.xml"/><Relationship Id="rId48" Type="http://schemas.openxmlformats.org/officeDocument/2006/relationships/image" Target="../media/image29.jpeg"/><Relationship Id="rId49" Type="http://schemas.openxmlformats.org/officeDocument/2006/relationships/slide" Target="slide22.xml"/><Relationship Id="rId50" Type="http://schemas.openxmlformats.org/officeDocument/2006/relationships/image" Target="../media/image30.jpeg"/><Relationship Id="rId51" Type="http://schemas.openxmlformats.org/officeDocument/2006/relationships/image" Target="../media/image31.jpeg"/><Relationship Id="rId52" Type="http://schemas.openxmlformats.org/officeDocument/2006/relationships/image" Target="../media/image32.jpeg"/><Relationship Id="rId5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56536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29264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6191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477280" y="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8477280" y="6191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6191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556000" y="6191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500720" y="6191280"/>
            <a:ext cx="204300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516720" y="6191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477280" y="62064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477280" y="256536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8477280" y="422100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11280" y="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2556000" y="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4500720" y="0"/>
            <a:ext cx="197136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6443640" y="0"/>
            <a:ext cx="2089080" cy="66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124000" y="1700280"/>
            <a:ext cx="5172120" cy="28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e illusioni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ctavio Ocampo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32000" y="0"/>
            <a:ext cx="655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58920" y="0"/>
            <a:ext cx="66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41560" y="0"/>
            <a:ext cx="506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0"/>
            <a:ext cx="82389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92360" y="0"/>
            <a:ext cx="57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0"/>
            <a:ext cx="492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78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4149720"/>
            <a:ext cx="81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avio Ocampo è famoso per i suoi molti quadri nei quali intreccia delle dettagliate e intricate immagini che contribuiscono a dar vita ad una figura più grande. Solo allontanandosi dal dipinto lo si può apprezzare pienamente, arrivando a comprendere il soggetto finale che vanno a comporre tutti i singoli dettag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7080" y="62064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tavio O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342080"/>
            <a:ext cx="78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avio Ocampo è nato a Celaya, Guanajuato, in Messico il 28 febbraio 1943. Ha studiato presso l’Istituto di Belle Arti, Città del Messico e il San Francisco Art Institute, si è laureato nel 1974. Dopo avere dato segni precoci del suo multiforme genio artistico, a partire dal 1976 si è dedicato solo alla pittura ed alla scultura. Ocampo ora lavora e risiede in Tepoztlan, a nord di Città del Messico, è considerato uno dei più incantevoli luoghi della terra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vora principalmente con il metamorfiche stile - utilizzando una tecnica di sovrapposizione e giustapposizione realistico e figurativo di dettagli entro le immagini che egli cr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8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47640" y="0"/>
            <a:ext cx="595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56144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9088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0"/>
            <a:ext cx="673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0"/>
            <a:ext cx="518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3068640"/>
            <a:ext cx="514440" cy="7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19280" y="3141720"/>
            <a:ext cx="511200" cy="72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836640"/>
            <a:ext cx="514440" cy="71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924360" y="836640"/>
            <a:ext cx="53640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32000" y="836640"/>
            <a:ext cx="55116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8360" y="2060640"/>
            <a:ext cx="86040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32720" y="836640"/>
            <a:ext cx="701640" cy="71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940360" y="3068640"/>
            <a:ext cx="709560" cy="722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867280" y="836640"/>
            <a:ext cx="687600" cy="71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1547640" y="2060640"/>
            <a:ext cx="601920" cy="722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740720" y="836640"/>
            <a:ext cx="53640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5148360" y="3068640"/>
            <a:ext cx="539640" cy="717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132000" y="2060640"/>
            <a:ext cx="517680" cy="72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2060640"/>
            <a:ext cx="1076400" cy="720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5076720" y="2060640"/>
            <a:ext cx="10479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6372360" y="2060640"/>
            <a:ext cx="57924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7236000" y="206064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8101080" y="2060640"/>
            <a:ext cx="528480" cy="71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1332000" y="836640"/>
            <a:ext cx="547560" cy="723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3995640" y="3068640"/>
            <a:ext cx="96516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050920" y="836640"/>
            <a:ext cx="84636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2411280" y="2060640"/>
            <a:ext cx="511200" cy="72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2268360" y="3141720"/>
            <a:ext cx="511200" cy="723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4716360" y="836640"/>
            <a:ext cx="889200" cy="7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9" action="ppaction://hlinksldjump"/>
          </p:cNvPr>
          <p:cNvPicPr/>
          <p:nvPr/>
        </p:nvPicPr>
        <p:blipFill>
          <a:blip r:embed="rId50"/>
          <a:stretch/>
        </p:blipFill>
        <p:spPr>
          <a:xfrm>
            <a:off x="755640" y="3141720"/>
            <a:ext cx="625320" cy="72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174520" y="6189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407664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avio Ocampo ha usato le ambiguità della visione per produrre quadri o sculture che suscitano sensazioni contraddito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uoi provare queste sensazion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icca sui quad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120" y="6353280"/>
            <a:ext cx="21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vigi.ilbell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1"/>
          <a:stretch/>
        </p:blipFill>
        <p:spPr>
          <a:xfrm>
            <a:off x="2987640" y="3141720"/>
            <a:ext cx="568440" cy="71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2"/>
          <a:stretch/>
        </p:blipFill>
        <p:spPr>
          <a:xfrm>
            <a:off x="6877080" y="3068640"/>
            <a:ext cx="5396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7964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-11160"/>
            <a:ext cx="8064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4000"/>
            <a:ext cx="84121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02:35Z</dcterms:created>
  <dc:creator>Giuseppe Vicari</dc:creator>
  <dc:description/>
  <dc:language>en-US</dc:language>
  <cp:lastModifiedBy>Vigi</cp:lastModifiedBy>
  <dcterms:modified xsi:type="dcterms:W3CDTF">2008-08-25T10:06:34Z</dcterms:modified>
  <cp:revision>21</cp:revision>
  <dc:subject/>
  <dc:title>Le illusioni di Ocatavio Ocampo</dc:title>
</cp:coreProperties>
</file>