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8D6-39D5-47F8-A61E-2A8CCEA9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12E-A468-4D7D-AEF9-65CC4FE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0E0-4937-4570-9145-3F682DC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42F-343D-4A7B-8D20-BEF1360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087-40C7-4C88-A88D-3CB8ADD7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904-78D8-4B80-8E5C-1334C7E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FB0-6093-44F9-80D3-C837773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9B3-EC4C-4764-94F7-B1F4A0D2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9BD-8C9D-404B-B0FF-1A1D548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D88-5AF2-47E3-B6C0-627097F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D68-D9DD-473F-9BEE-A95B1AF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F5E-A315-4BFB-B854-B4A834D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FF07-28F9-461D-94BB-F5D1257E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merican Classic Extra Bold"/>
              </a:rPr>
              <a:t>Fotos no Momento Cer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558972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merican Classic Extra Bold"/>
              </a:rPr>
              <a:t>fabiojunior81@gmail.com</a:t>
            </a:r>
            <a:br>
              <a:rPr sz="1800"/>
            </a:br>
            <a:r>
              <a:rPr b="1" lang="en-US" sz="1800" spc="-1" strike="noStrike">
                <a:solidFill>
                  <a:srgbClr val="9933ff"/>
                </a:solidFill>
                <a:latin typeface="American Classic Extra Bold"/>
              </a:rPr>
              <a:t>Rio Verde – Goiás –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260280"/>
            <a:ext cx="5715000" cy="633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561440" cy="568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9000"/>
            <a:ext cx="76197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5840" y="638280"/>
            <a:ext cx="8572320" cy="558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42840" y="549360"/>
            <a:ext cx="7589880" cy="590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0040" y="0"/>
            <a:ext cx="63439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29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840720" cy="532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63272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5840" y="66600"/>
            <a:ext cx="8572320" cy="672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5436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19128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77744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56144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520" y="95400"/>
            <a:ext cx="9048960" cy="666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520" y="404640"/>
            <a:ext cx="90489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8036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960" y="662040"/>
            <a:ext cx="834408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2640" y="189000"/>
            <a:ext cx="703872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8680" y="781200"/>
            <a:ext cx="8486640" cy="529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113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6436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6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11:07Z</dcterms:created>
  <dc:creator>Fábio Júnior - Rio Verde - Goiás - Brasil</dc:creator>
  <dc:description/>
  <dc:language>en-US</dc:language>
  <cp:lastModifiedBy>Fábio Júnior Guimarães</cp:lastModifiedBy>
  <dcterms:modified xsi:type="dcterms:W3CDTF">2009-01-06T16:49:35Z</dcterms:modified>
  <cp:revision>57</cp:revision>
  <dc:subject/>
  <dc:title>Fotos no Momento Certo</dc:title>
</cp:coreProperties>
</file>