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5E2-2E10-4476-957F-4F48560F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A03-78D5-46E4-A741-06EF606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45F-AAED-410F-BAD8-DA8189CF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0B7-CDBA-40D2-AE11-3CDF34B5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BCF-737A-4B09-A5F5-BE72BC4B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465-740E-4405-ADBD-D68BA52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662-2813-4F58-8C2B-7F23F08D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C59-344C-48BE-9068-EF39B11E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724-C41B-4801-B9BB-8B5CF586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33E-4CF0-4A8B-B2D7-E20A3E4D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B89-5935-4CE7-993F-C81F2A7C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8C0-83FC-489B-B3F4-DE0F8DA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CF1-C246-4967-AC0C-182E17D3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merican Classic Extra Bold"/>
              </a:rPr>
              <a:t>Fotos no Momento Cer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8972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merican Classic Extra Bold"/>
              </a:rPr>
              <a:t>fabiojunior81@gmail.com</a:t>
            </a:r>
            <a:br>
              <a:rPr sz="1800"/>
            </a:br>
            <a:r>
              <a:rPr b="1" lang="en-US" sz="1800" spc="-1" strike="noStrike">
                <a:solidFill>
                  <a:srgbClr val="9933ff"/>
                </a:solidFill>
                <a:latin typeface="American Classic Extra Bold"/>
              </a:rPr>
              <a:t>Rio Verde – Goiás –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260280"/>
            <a:ext cx="5715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32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68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89000"/>
            <a:ext cx="76197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840" y="638280"/>
            <a:ext cx="8572320" cy="558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42840" y="549360"/>
            <a:ext cx="758988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0040" y="0"/>
            <a:ext cx="6343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29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840720" cy="532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68800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128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5840" y="66600"/>
            <a:ext cx="8572320" cy="672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5436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19128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777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520" y="95400"/>
            <a:ext cx="9048960" cy="666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520" y="404640"/>
            <a:ext cx="904896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8036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960" y="662040"/>
            <a:ext cx="8344080" cy="553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52640" y="189000"/>
            <a:ext cx="703872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8680" y="781200"/>
            <a:ext cx="8486640" cy="5295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11:07Z</dcterms:created>
  <dc:creator>Fábio Júnior - Rio Verde - Goiás - Brasil</dc:creator>
  <dc:description/>
  <dc:language>en-US</dc:language>
  <cp:lastModifiedBy>Fábio Júnior Guimarães</cp:lastModifiedBy>
  <dcterms:modified xsi:type="dcterms:W3CDTF">2009-01-06T16:49:35Z</dcterms:modified>
  <cp:revision>57</cp:revision>
  <dc:subject/>
  <dc:title>Fotos no Momento Certo</dc:title>
</cp:coreProperties>
</file>