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9"/>
          </p:nvPr>
        </p:nvSpPr>
        <p:spPr>
          <a:xfrm>
            <a:off x="39891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0"/>
          </p:nvPr>
        </p:nvSpPr>
        <p:spPr>
          <a:xfrm>
            <a:off x="-3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21"/>
          </p:nvPr>
        </p:nvSpPr>
        <p:spPr>
          <a:xfrm>
            <a:off x="39891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570FE8-D87C-48CB-9B40-0556073808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2882160" y="8750160"/>
            <a:ext cx="127332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3791D0F-C6A8-4CD2-999A-4EF297EAC7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5240" cy="343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5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1F4EF1-D736-4FBD-991C-7616C8D68F6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Aftershock: Helping People Through Chan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by H. Woodward, S. Buchholz, K. Hess (Wiley 198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5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851B2F-95A7-471F-A29D-D6C49FD7990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5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AAD38C-B78F-4090-9A55-DA5CEBB17AC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5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500BBC-1319-42A6-908A-3F83D4112D0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5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F95B78-C672-412C-AD5C-56890B8E24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5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CE3B07-7F8D-4F72-B104-A51EEEB6AAE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5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223F8A-A550-4B65-8C21-B007FF3D39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5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3D9F99-A023-4ACD-899B-A08953B150C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5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7B3C1C-0285-4B24-B456-FF3321EB8C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5"/>
          <p:cNvSpPr/>
          <p:nvPr/>
        </p:nvSpPr>
        <p:spPr>
          <a:xfrm>
            <a:off x="3989520" y="8726400"/>
            <a:ext cx="30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0035A4-A3A5-4329-80EF-2F9A456907B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26B-27EE-4C0E-9B46-7F066C59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CF9-62EA-4E37-8D8D-BAB90F13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08F-087F-4EAA-B1B3-4F35BFC9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221-B035-4DCA-ABE9-78AE4D34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0F663-5420-49DD-AB85-529CA858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5669E-9CA8-439A-875D-B2602039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D8930-BAE6-442D-9E85-B09E4748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E9152-FB16-4F40-963B-69501035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70D39-3E66-49FD-89EF-07E04ED6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0B574-5903-4E3D-994F-0BE08697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0371C-BF00-4E8B-9DE1-F190E889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3F0-8D9C-44A3-9872-91F2F374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EB42F-89C6-4D28-B7EA-74F2646A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7C3CA-D121-4F8B-AE01-1688BEE3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DB975-39AE-4E59-883E-49279B29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958D5-0400-434B-8648-6EEF1143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AC1AA-2BDC-4013-9B74-75C022FC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A6AF1-7EA1-4665-97ED-C96ED941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2502D-3F5A-488A-A475-B282992D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29043-00C7-4691-9B65-012E2D3C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C0A4D-6A7C-4E56-BDA6-9AD39E69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6554B-BFA6-4F1A-986C-FC2ED376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E21-632D-4C28-A6FC-02F93873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67CEC-C7F9-4726-A9CF-A5B8DB1E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9EF1A-06EE-49E4-8577-DE949B2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B6277-2A8A-45FA-803C-AEB61135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C58E5-209F-47E6-BA1F-122874C5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636BF-C655-40B8-8D37-3E8F8177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34FB6-9D5C-4A7A-A3EC-E4B5510A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C010C-2AD9-4C03-A066-80E48624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5DA1E-D633-43C7-87D4-597F1D1B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0DC11-10FD-4876-83F2-63FF529D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3CD90-08A4-4086-A380-41C58135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663-37F6-47A7-ABB9-C4D6A393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FF0D3-DBCA-4340-A76E-5465BBC3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FA7C5-C792-4EB9-96DC-F556EFBD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059ED-2DF3-4083-87B2-1A8006A7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11262-F54E-4630-8855-5C3C2DF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B5950-91C9-4DC3-A749-FC788DAC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CD8C5-721F-41EE-9566-198F1E58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F2346-75D0-4DB8-8651-AD47629A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C1EE5D-2D18-407A-A58B-A43BD2D1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1DC03-C4FA-463C-A263-D057C12D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BD79B-7544-4FD7-9D4C-FC23809F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594-95C2-4AA3-9C60-C66C716E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DB698-472D-43CB-8B1B-D4C48DCD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F0667-4E1C-4840-845F-E55A21A8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1EF38-5A3D-4F02-8954-DFA31334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4CC96-1C8A-45EA-AE3D-F813B827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44516-F3CF-4EC9-8B89-97036668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54342-6CC1-4792-A6F7-644CB2F5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95B0C-AA01-4915-8DF4-6C97A528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43580-4AB3-44AF-8AFF-0CA6C71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FA0E0-C208-4963-87C1-D3ED9E6D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B484C-7539-4D13-9D97-E1644D24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73E-337F-4A83-9BDB-253F48C4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ED6137-82E1-405F-9C07-0AFB6499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6D964-F551-45FE-B05D-F3A5B8BB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71FBC-B8CA-4E8F-A495-E267CD24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430AC-A309-40BD-94ED-7DCDDE8A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859F3-7425-4A14-9D51-8493102B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6A9498-BC19-41EB-A856-AA6B1499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2B278-DC5E-4BA4-BC8D-09FF81BB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D113F4-E33E-48F1-8681-C487658A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54467-04CD-4CC0-A3A6-90D8A4B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0984D-C8CE-40B2-A655-DCA51135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4C9-7DC6-4822-BDFE-25560ECC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7CA5C-21E9-459B-8D12-ABDBC75E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A062C-3ED8-44C0-995B-3C25215E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62DCD-C21A-4C8D-A7CF-EBC7160C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7A6-97FA-42B9-A2F1-77A1533E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B96-18BC-4B00-9BCE-D9C35E90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9AB2-7FA0-4119-854B-42298A863939}" type="datetime3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465E-B16C-4C4F-9F66-3EFEBA3AF0D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Text Box 82"/>
          <p:cNvSpPr/>
          <p:nvPr/>
        </p:nvSpPr>
        <p:spPr>
          <a:xfrm>
            <a:off x="8309520" y="6655680"/>
            <a:ext cx="735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7A42-EB8D-40CF-A2EB-3B1183626CE8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4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6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6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2" name="Text Box 82"/>
          <p:cNvSpPr/>
          <p:nvPr/>
        </p:nvSpPr>
        <p:spPr>
          <a:xfrm>
            <a:off x="8309520" y="6655680"/>
            <a:ext cx="735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DB9C-EF91-41F4-BDDB-F62B0A6B8C2A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1828800" y="3265200"/>
            <a:ext cx="457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7398-2CF1-4F1E-95AE-AB16181575B1}" type="datetime3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4349-9218-4728-B5F3-A9C92FB34E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1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Text Box 82"/>
          <p:cNvSpPr/>
          <p:nvPr/>
        </p:nvSpPr>
        <p:spPr>
          <a:xfrm>
            <a:off x="8309520" y="6655680"/>
            <a:ext cx="735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F29F-847F-4B86-A923-C743F8D868FB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4267080" y="4075200"/>
            <a:ext cx="4572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EDA6-1AD8-43F3-9A91-5D5275292054}" type="datetime3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8704-D6E2-4C0C-953C-4CE6BBBB82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6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8" name="Text Box 82"/>
          <p:cNvSpPr/>
          <p:nvPr/>
        </p:nvSpPr>
        <p:spPr>
          <a:xfrm>
            <a:off x="8309520" y="6655680"/>
            <a:ext cx="735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CA60-DFF6-4C79-96FC-0CB95DFADD45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1057320" y="520560"/>
            <a:ext cx="457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4780080" y="520560"/>
            <a:ext cx="457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45DC-DBFC-41D1-BF50-F35893E617B8}" type="datetime3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72A0-0729-4CD9-8B05-B3CBED76ED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4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6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9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2" name="Text Box 82"/>
          <p:cNvSpPr/>
          <p:nvPr/>
        </p:nvSpPr>
        <p:spPr>
          <a:xfrm>
            <a:off x="8309520" y="6655680"/>
            <a:ext cx="735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C4B3-3D4D-4B40-9423-B7103F979FA3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5329080" y="1774800"/>
            <a:ext cx="457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42C9-C1B3-483B-B007-780DD1309D39}" type="datetime3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6304-A0FD-4F7C-8667-8DAB8F72BC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7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5" name="Text Box 82"/>
          <p:cNvSpPr/>
          <p:nvPr/>
        </p:nvSpPr>
        <p:spPr>
          <a:xfrm>
            <a:off x="8309520" y="6655680"/>
            <a:ext cx="735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3A91-FF11-4BEF-A0BB-84F30E02322F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2435400" y="3332160"/>
            <a:ext cx="457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479E-AFD3-4A97-B166-D92CEE313622}" type="datetime3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7FEE-3E3A-4A41-80C0-8A17924CED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378000" y="1947240"/>
            <a:ext cx="8404200" cy="257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9d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Verdana"/>
              </a:rPr>
              <a:t>Basic Project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Verdana"/>
              </a:rPr>
              <a:t>Management Process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2782800" y="5189400"/>
            <a:ext cx="35942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Larry Cre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July 11, 2003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5"/>
          <p:cNvSpPr/>
          <p:nvPr/>
        </p:nvSpPr>
        <p:spPr>
          <a:xfrm>
            <a:off x="952560" y="2019240"/>
            <a:ext cx="698508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dentify project activit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stimate activity du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termine resource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onstruct and analyze project networ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epare project schedu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184320" y="130320"/>
            <a:ext cx="554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Develop Detailed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Rectangle 15"/>
          <p:cNvSpPr/>
          <p:nvPr/>
        </p:nvSpPr>
        <p:spPr>
          <a:xfrm>
            <a:off x="76320" y="6257880"/>
            <a:ext cx="38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987 Kepner-Tregoe, Inc. and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Effective 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by R.K. Wysocki, R. Beck Jr. &amp; D.B. Crane (Wiley, 1995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9" name="Group 87"/>
          <p:cNvGrpSpPr/>
          <p:nvPr/>
        </p:nvGrpSpPr>
        <p:grpSpPr>
          <a:xfrm>
            <a:off x="392040" y="901800"/>
            <a:ext cx="8637840" cy="1041480"/>
            <a:chOff x="392040" y="901800"/>
            <a:chExt cx="8637840" cy="1041480"/>
          </a:xfrm>
        </p:grpSpPr>
        <p:grpSp>
          <p:nvGrpSpPr>
            <p:cNvPr id="500" name="Group 55"/>
            <p:cNvGrpSpPr/>
            <p:nvPr/>
          </p:nvGrpSpPr>
          <p:grpSpPr>
            <a:xfrm>
              <a:off x="7840800" y="1295280"/>
              <a:ext cx="1189080" cy="635040"/>
              <a:chOff x="7840800" y="1295280"/>
              <a:chExt cx="1189080" cy="635040"/>
            </a:xfrm>
          </p:grpSpPr>
          <p:sp>
            <p:nvSpPr>
              <p:cNvPr id="501" name="AutoShape 56"/>
              <p:cNvSpPr/>
              <p:nvPr/>
            </p:nvSpPr>
            <p:spPr>
              <a:xfrm>
                <a:off x="7988760" y="1295280"/>
                <a:ext cx="761760" cy="635040"/>
              </a:xfrm>
              <a:prstGeom prst="leftArrow">
                <a:avLst>
                  <a:gd name="adj1" fmla="val 50000"/>
                  <a:gd name="adj2" fmla="val 29989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2" name="Text Box 57"/>
              <p:cNvSpPr/>
              <p:nvPr/>
            </p:nvSpPr>
            <p:spPr>
              <a:xfrm>
                <a:off x="7840800" y="1403280"/>
                <a:ext cx="1189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Project Completed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03" name="Group 58"/>
            <p:cNvGrpSpPr/>
            <p:nvPr/>
          </p:nvGrpSpPr>
          <p:grpSpPr>
            <a:xfrm>
              <a:off x="392040" y="1282680"/>
              <a:ext cx="831960" cy="660600"/>
              <a:chOff x="392040" y="1282680"/>
              <a:chExt cx="831960" cy="660600"/>
            </a:xfrm>
          </p:grpSpPr>
          <p:sp>
            <p:nvSpPr>
              <p:cNvPr id="504" name="AutoShape 59"/>
              <p:cNvSpPr/>
              <p:nvPr/>
            </p:nvSpPr>
            <p:spPr>
              <a:xfrm>
                <a:off x="415800" y="1282680"/>
                <a:ext cx="782640" cy="660600"/>
              </a:xfrm>
              <a:prstGeom prst="rightArrow">
                <a:avLst>
                  <a:gd name="adj1" fmla="val 50000"/>
                  <a:gd name="adj2" fmla="val 29619"/>
                </a:avLst>
              </a:prstGeom>
              <a:solidFill>
                <a:srgbClr val="33cc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" name="Text Box 60"/>
              <p:cNvSpPr/>
              <p:nvPr/>
            </p:nvSpPr>
            <p:spPr>
              <a:xfrm>
                <a:off x="392040" y="1415880"/>
                <a:ext cx="831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Project Authorized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06" name="Group 61"/>
            <p:cNvGrpSpPr/>
            <p:nvPr/>
          </p:nvGrpSpPr>
          <p:grpSpPr>
            <a:xfrm>
              <a:off x="1486080" y="1382760"/>
              <a:ext cx="838080" cy="459000"/>
              <a:chOff x="1486080" y="1382760"/>
              <a:chExt cx="838080" cy="459000"/>
            </a:xfrm>
          </p:grpSpPr>
          <p:sp>
            <p:nvSpPr>
              <p:cNvPr id="507" name="Rectangle 62"/>
              <p:cNvSpPr/>
              <p:nvPr/>
            </p:nvSpPr>
            <p:spPr>
              <a:xfrm>
                <a:off x="148608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8" name="Text Box 63"/>
              <p:cNvSpPr/>
              <p:nvPr/>
            </p:nvSpPr>
            <p:spPr>
              <a:xfrm>
                <a:off x="1568520" y="1382760"/>
                <a:ext cx="64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Define Projec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09" name="Line 64"/>
            <p:cNvSpPr/>
            <p:nvPr/>
          </p:nvSpPr>
          <p:spPr>
            <a:xfrm>
              <a:off x="1193040" y="1612800"/>
              <a:ext cx="30492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" name="Line 65"/>
            <p:cNvSpPr/>
            <p:nvPr/>
          </p:nvSpPr>
          <p:spPr>
            <a:xfrm>
              <a:off x="3174840" y="1168560"/>
              <a:ext cx="259092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" name="Text Box 67"/>
            <p:cNvSpPr/>
            <p:nvPr/>
          </p:nvSpPr>
          <p:spPr>
            <a:xfrm>
              <a:off x="4038480" y="901800"/>
              <a:ext cx="73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00"/>
                  </a:solidFill>
                  <a:latin typeface="Tahoma"/>
                </a:rPr>
                <a:t>Feedback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2" name="Group 86"/>
            <p:cNvGrpSpPr/>
            <p:nvPr/>
          </p:nvGrpSpPr>
          <p:grpSpPr>
            <a:xfrm>
              <a:off x="2782800" y="1181160"/>
              <a:ext cx="838440" cy="673200"/>
              <a:chOff x="2782800" y="1181160"/>
              <a:chExt cx="838440" cy="673200"/>
            </a:xfrm>
          </p:grpSpPr>
          <p:sp>
            <p:nvSpPr>
              <p:cNvPr id="513" name="Line 66"/>
              <p:cNvSpPr/>
              <p:nvPr/>
            </p:nvSpPr>
            <p:spPr>
              <a:xfrm>
                <a:off x="3174840" y="1181160"/>
                <a:ext cx="0" cy="253800"/>
              </a:xfrm>
              <a:prstGeom prst="line">
                <a:avLst/>
              </a:prstGeom>
              <a:ln w="12600">
                <a:solidFill>
                  <a:srgbClr val="ff5a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Rectangle 69"/>
              <p:cNvSpPr/>
              <p:nvPr/>
            </p:nvSpPr>
            <p:spPr>
              <a:xfrm>
                <a:off x="2782800" y="1447920"/>
                <a:ext cx="838440" cy="355320"/>
              </a:xfrm>
              <a:prstGeom prst="rect">
                <a:avLst/>
              </a:prstGeom>
              <a:solidFill>
                <a:srgbClr val="accbf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Text Box 70"/>
              <p:cNvSpPr/>
              <p:nvPr/>
            </p:nvSpPr>
            <p:spPr>
              <a:xfrm>
                <a:off x="2840040" y="1395360"/>
                <a:ext cx="723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Develop Plan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16" name="Group 71"/>
            <p:cNvGrpSpPr/>
            <p:nvPr/>
          </p:nvGrpSpPr>
          <p:grpSpPr>
            <a:xfrm>
              <a:off x="4079880" y="1382760"/>
              <a:ext cx="838080" cy="459000"/>
              <a:chOff x="4079880" y="1382760"/>
              <a:chExt cx="838080" cy="459000"/>
            </a:xfrm>
          </p:grpSpPr>
          <p:sp>
            <p:nvSpPr>
              <p:cNvPr id="517" name="Rectangle 72"/>
              <p:cNvSpPr/>
              <p:nvPr/>
            </p:nvSpPr>
            <p:spPr>
              <a:xfrm>
                <a:off x="407988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Text Box 73"/>
              <p:cNvSpPr/>
              <p:nvPr/>
            </p:nvSpPr>
            <p:spPr>
              <a:xfrm>
                <a:off x="4162320" y="1382760"/>
                <a:ext cx="64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Launch Plan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19" name="Group 74"/>
            <p:cNvGrpSpPr/>
            <p:nvPr/>
          </p:nvGrpSpPr>
          <p:grpSpPr>
            <a:xfrm>
              <a:off x="5376960" y="1395360"/>
              <a:ext cx="857160" cy="459000"/>
              <a:chOff x="5376960" y="1395360"/>
              <a:chExt cx="857160" cy="459000"/>
            </a:xfrm>
          </p:grpSpPr>
          <p:sp>
            <p:nvSpPr>
              <p:cNvPr id="520" name="Rectangle 75"/>
              <p:cNvSpPr/>
              <p:nvPr/>
            </p:nvSpPr>
            <p:spPr>
              <a:xfrm>
                <a:off x="539604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Text Box 76"/>
              <p:cNvSpPr/>
              <p:nvPr/>
            </p:nvSpPr>
            <p:spPr>
              <a:xfrm>
                <a:off x="5376960" y="1395360"/>
                <a:ext cx="850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Monitor &amp; Control 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2" name="Group 77"/>
            <p:cNvGrpSpPr/>
            <p:nvPr/>
          </p:nvGrpSpPr>
          <p:grpSpPr>
            <a:xfrm>
              <a:off x="6692760" y="1395360"/>
              <a:ext cx="889200" cy="459000"/>
              <a:chOff x="6692760" y="1395360"/>
              <a:chExt cx="889200" cy="459000"/>
            </a:xfrm>
          </p:grpSpPr>
          <p:sp>
            <p:nvSpPr>
              <p:cNvPr id="523" name="Rectangle 78"/>
              <p:cNvSpPr/>
              <p:nvPr/>
            </p:nvSpPr>
            <p:spPr>
              <a:xfrm>
                <a:off x="6692760" y="1447920"/>
                <a:ext cx="88920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Text Box 79"/>
              <p:cNvSpPr/>
              <p:nvPr/>
            </p:nvSpPr>
            <p:spPr>
              <a:xfrm>
                <a:off x="6721920" y="1395360"/>
                <a:ext cx="82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Close Out Projec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5" name="Line 80"/>
            <p:cNvSpPr/>
            <p:nvPr/>
          </p:nvSpPr>
          <p:spPr>
            <a:xfrm>
              <a:off x="5765760" y="1168560"/>
              <a:ext cx="0" cy="27936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6" name="Line 81"/>
            <p:cNvSpPr/>
            <p:nvPr/>
          </p:nvSpPr>
          <p:spPr>
            <a:xfrm>
              <a:off x="2336760" y="16383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7" name="Line 82"/>
            <p:cNvSpPr/>
            <p:nvPr/>
          </p:nvSpPr>
          <p:spPr>
            <a:xfrm>
              <a:off x="363204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8" name="Line 83"/>
            <p:cNvSpPr/>
            <p:nvPr/>
          </p:nvSpPr>
          <p:spPr>
            <a:xfrm>
              <a:off x="494028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9" name="Line 84"/>
            <p:cNvSpPr/>
            <p:nvPr/>
          </p:nvSpPr>
          <p:spPr>
            <a:xfrm>
              <a:off x="624852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0" name="Line 85"/>
            <p:cNvSpPr/>
            <p:nvPr/>
          </p:nvSpPr>
          <p:spPr>
            <a:xfrm>
              <a:off x="7593840" y="1612800"/>
              <a:ext cx="40644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1244520" y="2006640"/>
            <a:ext cx="688356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cruit and organize project tea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stablish team operating ru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evel project resour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ssign wor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184320" y="130320"/>
            <a:ext cx="445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Launch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76320" y="6257880"/>
            <a:ext cx="38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987 Kepner-Tregoe, Inc. and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Effective 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by R.K. Wysocki, R. Beck Jr. &amp; D.B. Crane (Wiley, 1995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4" name="Group 85"/>
          <p:cNvGrpSpPr/>
          <p:nvPr/>
        </p:nvGrpSpPr>
        <p:grpSpPr>
          <a:xfrm>
            <a:off x="392040" y="901800"/>
            <a:ext cx="8637840" cy="1041480"/>
            <a:chOff x="392040" y="901800"/>
            <a:chExt cx="8637840" cy="1041480"/>
          </a:xfrm>
        </p:grpSpPr>
        <p:grpSp>
          <p:nvGrpSpPr>
            <p:cNvPr id="535" name="Group 53"/>
            <p:cNvGrpSpPr/>
            <p:nvPr/>
          </p:nvGrpSpPr>
          <p:grpSpPr>
            <a:xfrm>
              <a:off x="7840800" y="1295280"/>
              <a:ext cx="1189080" cy="635040"/>
              <a:chOff x="7840800" y="1295280"/>
              <a:chExt cx="1189080" cy="635040"/>
            </a:xfrm>
          </p:grpSpPr>
          <p:sp>
            <p:nvSpPr>
              <p:cNvPr id="536" name="AutoShape 54"/>
              <p:cNvSpPr/>
              <p:nvPr/>
            </p:nvSpPr>
            <p:spPr>
              <a:xfrm>
                <a:off x="7988760" y="1295280"/>
                <a:ext cx="761760" cy="635040"/>
              </a:xfrm>
              <a:prstGeom prst="leftArrow">
                <a:avLst>
                  <a:gd name="adj1" fmla="val 50000"/>
                  <a:gd name="adj2" fmla="val 29989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7" name="Text Box 55"/>
              <p:cNvSpPr/>
              <p:nvPr/>
            </p:nvSpPr>
            <p:spPr>
              <a:xfrm>
                <a:off x="7840800" y="1403280"/>
                <a:ext cx="1189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Project Completed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38" name="Group 56"/>
            <p:cNvGrpSpPr/>
            <p:nvPr/>
          </p:nvGrpSpPr>
          <p:grpSpPr>
            <a:xfrm>
              <a:off x="392040" y="1282680"/>
              <a:ext cx="831960" cy="660600"/>
              <a:chOff x="392040" y="1282680"/>
              <a:chExt cx="831960" cy="660600"/>
            </a:xfrm>
          </p:grpSpPr>
          <p:sp>
            <p:nvSpPr>
              <p:cNvPr id="539" name="AutoShape 57"/>
              <p:cNvSpPr/>
              <p:nvPr/>
            </p:nvSpPr>
            <p:spPr>
              <a:xfrm>
                <a:off x="415800" y="1282680"/>
                <a:ext cx="782640" cy="660600"/>
              </a:xfrm>
              <a:prstGeom prst="rightArrow">
                <a:avLst>
                  <a:gd name="adj1" fmla="val 50000"/>
                  <a:gd name="adj2" fmla="val 29619"/>
                </a:avLst>
              </a:prstGeom>
              <a:solidFill>
                <a:srgbClr val="33cc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0" name="Text Box 58"/>
              <p:cNvSpPr/>
              <p:nvPr/>
            </p:nvSpPr>
            <p:spPr>
              <a:xfrm>
                <a:off x="392040" y="1415880"/>
                <a:ext cx="831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Project Authorized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41" name="Group 59"/>
            <p:cNvGrpSpPr/>
            <p:nvPr/>
          </p:nvGrpSpPr>
          <p:grpSpPr>
            <a:xfrm>
              <a:off x="1486080" y="1382760"/>
              <a:ext cx="838080" cy="459000"/>
              <a:chOff x="1486080" y="1382760"/>
              <a:chExt cx="838080" cy="459000"/>
            </a:xfrm>
          </p:grpSpPr>
          <p:sp>
            <p:nvSpPr>
              <p:cNvPr id="542" name="Rectangle 60"/>
              <p:cNvSpPr/>
              <p:nvPr/>
            </p:nvSpPr>
            <p:spPr>
              <a:xfrm>
                <a:off x="148608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3" name="Text Box 61"/>
              <p:cNvSpPr/>
              <p:nvPr/>
            </p:nvSpPr>
            <p:spPr>
              <a:xfrm>
                <a:off x="1568520" y="1382760"/>
                <a:ext cx="64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Define Projec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44" name="Line 62"/>
            <p:cNvSpPr/>
            <p:nvPr/>
          </p:nvSpPr>
          <p:spPr>
            <a:xfrm>
              <a:off x="1193040" y="1612800"/>
              <a:ext cx="30492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" name="Line 63"/>
            <p:cNvSpPr/>
            <p:nvPr/>
          </p:nvSpPr>
          <p:spPr>
            <a:xfrm>
              <a:off x="3174840" y="1168560"/>
              <a:ext cx="259092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6" name="Line 64"/>
            <p:cNvSpPr/>
            <p:nvPr/>
          </p:nvSpPr>
          <p:spPr>
            <a:xfrm>
              <a:off x="3174840" y="1181160"/>
              <a:ext cx="0" cy="25380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7" name="Text Box 65"/>
            <p:cNvSpPr/>
            <p:nvPr/>
          </p:nvSpPr>
          <p:spPr>
            <a:xfrm>
              <a:off x="4038480" y="901800"/>
              <a:ext cx="73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00"/>
                  </a:solidFill>
                  <a:latin typeface="Tahoma"/>
                </a:rPr>
                <a:t>Feedback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48" name="Group 66"/>
            <p:cNvGrpSpPr/>
            <p:nvPr/>
          </p:nvGrpSpPr>
          <p:grpSpPr>
            <a:xfrm>
              <a:off x="2782800" y="1395360"/>
              <a:ext cx="838080" cy="459000"/>
              <a:chOff x="2782800" y="1395360"/>
              <a:chExt cx="838080" cy="459000"/>
            </a:xfrm>
          </p:grpSpPr>
          <p:sp>
            <p:nvSpPr>
              <p:cNvPr id="549" name="Rectangle 67"/>
              <p:cNvSpPr/>
              <p:nvPr/>
            </p:nvSpPr>
            <p:spPr>
              <a:xfrm>
                <a:off x="278280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0" name="Text Box 68"/>
              <p:cNvSpPr/>
              <p:nvPr/>
            </p:nvSpPr>
            <p:spPr>
              <a:xfrm>
                <a:off x="2840040" y="1395360"/>
                <a:ext cx="723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Develop Plan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51" name="Group 84"/>
            <p:cNvGrpSpPr/>
            <p:nvPr/>
          </p:nvGrpSpPr>
          <p:grpSpPr>
            <a:xfrm>
              <a:off x="4079880" y="1382760"/>
              <a:ext cx="838080" cy="459000"/>
              <a:chOff x="4079880" y="1382760"/>
              <a:chExt cx="838080" cy="459000"/>
            </a:xfrm>
          </p:grpSpPr>
          <p:sp>
            <p:nvSpPr>
              <p:cNvPr id="552" name="Rectangle 70"/>
              <p:cNvSpPr/>
              <p:nvPr/>
            </p:nvSpPr>
            <p:spPr>
              <a:xfrm>
                <a:off x="4079880" y="1447920"/>
                <a:ext cx="838080" cy="355320"/>
              </a:xfrm>
              <a:prstGeom prst="rect">
                <a:avLst/>
              </a:prstGeom>
              <a:solidFill>
                <a:srgbClr val="accbf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3" name="Text Box 71"/>
              <p:cNvSpPr/>
              <p:nvPr/>
            </p:nvSpPr>
            <p:spPr>
              <a:xfrm>
                <a:off x="4162320" y="1382760"/>
                <a:ext cx="64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Launch Plan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54" name="Group 72"/>
            <p:cNvGrpSpPr/>
            <p:nvPr/>
          </p:nvGrpSpPr>
          <p:grpSpPr>
            <a:xfrm>
              <a:off x="5376960" y="1395360"/>
              <a:ext cx="857160" cy="459000"/>
              <a:chOff x="5376960" y="1395360"/>
              <a:chExt cx="857160" cy="459000"/>
            </a:xfrm>
          </p:grpSpPr>
          <p:sp>
            <p:nvSpPr>
              <p:cNvPr id="555" name="Rectangle 73"/>
              <p:cNvSpPr/>
              <p:nvPr/>
            </p:nvSpPr>
            <p:spPr>
              <a:xfrm>
                <a:off x="539604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6" name="Text Box 74"/>
              <p:cNvSpPr/>
              <p:nvPr/>
            </p:nvSpPr>
            <p:spPr>
              <a:xfrm>
                <a:off x="5376960" y="1395360"/>
                <a:ext cx="850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Monitor &amp; Control 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57" name="Group 75"/>
            <p:cNvGrpSpPr/>
            <p:nvPr/>
          </p:nvGrpSpPr>
          <p:grpSpPr>
            <a:xfrm>
              <a:off x="6692760" y="1395360"/>
              <a:ext cx="889200" cy="459000"/>
              <a:chOff x="6692760" y="1395360"/>
              <a:chExt cx="889200" cy="459000"/>
            </a:xfrm>
          </p:grpSpPr>
          <p:sp>
            <p:nvSpPr>
              <p:cNvPr id="558" name="Rectangle 76"/>
              <p:cNvSpPr/>
              <p:nvPr/>
            </p:nvSpPr>
            <p:spPr>
              <a:xfrm>
                <a:off x="6692760" y="1447920"/>
                <a:ext cx="88920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9" name="Text Box 77"/>
              <p:cNvSpPr/>
              <p:nvPr/>
            </p:nvSpPr>
            <p:spPr>
              <a:xfrm>
                <a:off x="6721920" y="1395360"/>
                <a:ext cx="82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Close Out Projec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60" name="Line 78"/>
            <p:cNvSpPr/>
            <p:nvPr/>
          </p:nvSpPr>
          <p:spPr>
            <a:xfrm>
              <a:off x="5765760" y="1168560"/>
              <a:ext cx="0" cy="27936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1" name="Line 79"/>
            <p:cNvSpPr/>
            <p:nvPr/>
          </p:nvSpPr>
          <p:spPr>
            <a:xfrm>
              <a:off x="2336760" y="16383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2" name="Line 80"/>
            <p:cNvSpPr/>
            <p:nvPr/>
          </p:nvSpPr>
          <p:spPr>
            <a:xfrm>
              <a:off x="363204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" name="Line 81"/>
            <p:cNvSpPr/>
            <p:nvPr/>
          </p:nvSpPr>
          <p:spPr>
            <a:xfrm>
              <a:off x="494028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4" name="Line 82"/>
            <p:cNvSpPr/>
            <p:nvPr/>
          </p:nvSpPr>
          <p:spPr>
            <a:xfrm>
              <a:off x="624852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5" name="Line 83"/>
            <p:cNvSpPr/>
            <p:nvPr/>
          </p:nvSpPr>
          <p:spPr>
            <a:xfrm>
              <a:off x="7593840" y="1612800"/>
              <a:ext cx="40644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27"/>
          <p:cNvSpPr/>
          <p:nvPr/>
        </p:nvSpPr>
        <p:spPr>
          <a:xfrm>
            <a:off x="1054080" y="2019240"/>
            <a:ext cx="650232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stablish progress reporting syst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t up change control proce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fine problem escalation proce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onitor progress vs. pl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vise project plan as requir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Text Box 1037"/>
          <p:cNvSpPr/>
          <p:nvPr/>
        </p:nvSpPr>
        <p:spPr>
          <a:xfrm>
            <a:off x="184320" y="130320"/>
            <a:ext cx="6134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Monitor &amp; Control Prog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Rectangle 1039"/>
          <p:cNvSpPr/>
          <p:nvPr/>
        </p:nvSpPr>
        <p:spPr>
          <a:xfrm>
            <a:off x="76320" y="6257880"/>
            <a:ext cx="38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987 Kepner-Tregoe, Inc. and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Effective 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by R.K. Wysocki, R. Beck Jr. &amp; D.B. Crane (Wiley, 1995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9" name="Group 1109"/>
          <p:cNvGrpSpPr/>
          <p:nvPr/>
        </p:nvGrpSpPr>
        <p:grpSpPr>
          <a:xfrm>
            <a:off x="392040" y="901800"/>
            <a:ext cx="8637840" cy="1041480"/>
            <a:chOff x="392040" y="901800"/>
            <a:chExt cx="8637840" cy="1041480"/>
          </a:xfrm>
        </p:grpSpPr>
        <p:grpSp>
          <p:nvGrpSpPr>
            <p:cNvPr id="570" name="Group 1077"/>
            <p:cNvGrpSpPr/>
            <p:nvPr/>
          </p:nvGrpSpPr>
          <p:grpSpPr>
            <a:xfrm>
              <a:off x="7840800" y="1295280"/>
              <a:ext cx="1189080" cy="635040"/>
              <a:chOff x="7840800" y="1295280"/>
              <a:chExt cx="1189080" cy="635040"/>
            </a:xfrm>
          </p:grpSpPr>
          <p:sp>
            <p:nvSpPr>
              <p:cNvPr id="571" name="AutoShape 1078"/>
              <p:cNvSpPr/>
              <p:nvPr/>
            </p:nvSpPr>
            <p:spPr>
              <a:xfrm>
                <a:off x="7988760" y="1295280"/>
                <a:ext cx="761760" cy="635040"/>
              </a:xfrm>
              <a:prstGeom prst="leftArrow">
                <a:avLst>
                  <a:gd name="adj1" fmla="val 50000"/>
                  <a:gd name="adj2" fmla="val 29989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2" name="Text Box 1079"/>
              <p:cNvSpPr/>
              <p:nvPr/>
            </p:nvSpPr>
            <p:spPr>
              <a:xfrm>
                <a:off x="7840800" y="1403280"/>
                <a:ext cx="1189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Project Completed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73" name="Group 1080"/>
            <p:cNvGrpSpPr/>
            <p:nvPr/>
          </p:nvGrpSpPr>
          <p:grpSpPr>
            <a:xfrm>
              <a:off x="392040" y="1282680"/>
              <a:ext cx="831960" cy="660600"/>
              <a:chOff x="392040" y="1282680"/>
              <a:chExt cx="831960" cy="660600"/>
            </a:xfrm>
          </p:grpSpPr>
          <p:sp>
            <p:nvSpPr>
              <p:cNvPr id="574" name="AutoShape 1081"/>
              <p:cNvSpPr/>
              <p:nvPr/>
            </p:nvSpPr>
            <p:spPr>
              <a:xfrm>
                <a:off x="415800" y="1282680"/>
                <a:ext cx="782640" cy="660600"/>
              </a:xfrm>
              <a:prstGeom prst="rightArrow">
                <a:avLst>
                  <a:gd name="adj1" fmla="val 50000"/>
                  <a:gd name="adj2" fmla="val 29619"/>
                </a:avLst>
              </a:prstGeom>
              <a:solidFill>
                <a:srgbClr val="33cc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5" name="Text Box 1082"/>
              <p:cNvSpPr/>
              <p:nvPr/>
            </p:nvSpPr>
            <p:spPr>
              <a:xfrm>
                <a:off x="392040" y="1415880"/>
                <a:ext cx="831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Project Authorized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76" name="Group 1083"/>
            <p:cNvGrpSpPr/>
            <p:nvPr/>
          </p:nvGrpSpPr>
          <p:grpSpPr>
            <a:xfrm>
              <a:off x="1486080" y="1382760"/>
              <a:ext cx="838080" cy="459000"/>
              <a:chOff x="1486080" y="1382760"/>
              <a:chExt cx="838080" cy="459000"/>
            </a:xfrm>
          </p:grpSpPr>
          <p:sp>
            <p:nvSpPr>
              <p:cNvPr id="577" name="Rectangle 1084"/>
              <p:cNvSpPr/>
              <p:nvPr/>
            </p:nvSpPr>
            <p:spPr>
              <a:xfrm>
                <a:off x="148608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8" name="Text Box 1085"/>
              <p:cNvSpPr/>
              <p:nvPr/>
            </p:nvSpPr>
            <p:spPr>
              <a:xfrm>
                <a:off x="1568520" y="1382760"/>
                <a:ext cx="64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Define Projec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79" name="Line 1086"/>
            <p:cNvSpPr/>
            <p:nvPr/>
          </p:nvSpPr>
          <p:spPr>
            <a:xfrm>
              <a:off x="1193040" y="1612800"/>
              <a:ext cx="30492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" name="Line 1087"/>
            <p:cNvSpPr/>
            <p:nvPr/>
          </p:nvSpPr>
          <p:spPr>
            <a:xfrm>
              <a:off x="3174840" y="1168560"/>
              <a:ext cx="259092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" name="Line 1088"/>
            <p:cNvSpPr/>
            <p:nvPr/>
          </p:nvSpPr>
          <p:spPr>
            <a:xfrm>
              <a:off x="3174840" y="1181160"/>
              <a:ext cx="0" cy="25380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2" name="Text Box 1089"/>
            <p:cNvSpPr/>
            <p:nvPr/>
          </p:nvSpPr>
          <p:spPr>
            <a:xfrm>
              <a:off x="4038480" y="901800"/>
              <a:ext cx="73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00"/>
                  </a:solidFill>
                  <a:latin typeface="Tahoma"/>
                </a:rPr>
                <a:t>Feedback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3" name="Group 1090"/>
            <p:cNvGrpSpPr/>
            <p:nvPr/>
          </p:nvGrpSpPr>
          <p:grpSpPr>
            <a:xfrm>
              <a:off x="2782800" y="1395360"/>
              <a:ext cx="838080" cy="459000"/>
              <a:chOff x="2782800" y="1395360"/>
              <a:chExt cx="838080" cy="459000"/>
            </a:xfrm>
          </p:grpSpPr>
          <p:sp>
            <p:nvSpPr>
              <p:cNvPr id="584" name="Rectangle 1091"/>
              <p:cNvSpPr/>
              <p:nvPr/>
            </p:nvSpPr>
            <p:spPr>
              <a:xfrm>
                <a:off x="278280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5" name="Text Box 1092"/>
              <p:cNvSpPr/>
              <p:nvPr/>
            </p:nvSpPr>
            <p:spPr>
              <a:xfrm>
                <a:off x="2840040" y="1395360"/>
                <a:ext cx="723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Develop Plan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86" name="Group 1093"/>
            <p:cNvGrpSpPr/>
            <p:nvPr/>
          </p:nvGrpSpPr>
          <p:grpSpPr>
            <a:xfrm>
              <a:off x="4079880" y="1382760"/>
              <a:ext cx="838080" cy="459000"/>
              <a:chOff x="4079880" y="1382760"/>
              <a:chExt cx="838080" cy="459000"/>
            </a:xfrm>
          </p:grpSpPr>
          <p:sp>
            <p:nvSpPr>
              <p:cNvPr id="587" name="Rectangle 1094"/>
              <p:cNvSpPr/>
              <p:nvPr/>
            </p:nvSpPr>
            <p:spPr>
              <a:xfrm>
                <a:off x="407988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8" name="Text Box 1095"/>
              <p:cNvSpPr/>
              <p:nvPr/>
            </p:nvSpPr>
            <p:spPr>
              <a:xfrm>
                <a:off x="4162320" y="1382760"/>
                <a:ext cx="64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Launch Plan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89" name="Group 1108"/>
            <p:cNvGrpSpPr/>
            <p:nvPr/>
          </p:nvGrpSpPr>
          <p:grpSpPr>
            <a:xfrm>
              <a:off x="5376960" y="1395360"/>
              <a:ext cx="857160" cy="459000"/>
              <a:chOff x="5376960" y="1395360"/>
              <a:chExt cx="857160" cy="459000"/>
            </a:xfrm>
          </p:grpSpPr>
          <p:sp>
            <p:nvSpPr>
              <p:cNvPr id="590" name="Rectangle 1097"/>
              <p:cNvSpPr/>
              <p:nvPr/>
            </p:nvSpPr>
            <p:spPr>
              <a:xfrm>
                <a:off x="5396040" y="1447920"/>
                <a:ext cx="838080" cy="355320"/>
              </a:xfrm>
              <a:prstGeom prst="rect">
                <a:avLst/>
              </a:prstGeom>
              <a:solidFill>
                <a:srgbClr val="accbf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Text Box 1098"/>
              <p:cNvSpPr/>
              <p:nvPr/>
            </p:nvSpPr>
            <p:spPr>
              <a:xfrm>
                <a:off x="5376960" y="1395360"/>
                <a:ext cx="850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Monitor &amp; Control 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92" name="Group 1099"/>
            <p:cNvGrpSpPr/>
            <p:nvPr/>
          </p:nvGrpSpPr>
          <p:grpSpPr>
            <a:xfrm>
              <a:off x="6692760" y="1395360"/>
              <a:ext cx="889200" cy="459000"/>
              <a:chOff x="6692760" y="1395360"/>
              <a:chExt cx="889200" cy="459000"/>
            </a:xfrm>
          </p:grpSpPr>
          <p:sp>
            <p:nvSpPr>
              <p:cNvPr id="593" name="Rectangle 1100"/>
              <p:cNvSpPr/>
              <p:nvPr/>
            </p:nvSpPr>
            <p:spPr>
              <a:xfrm>
                <a:off x="6692760" y="1447920"/>
                <a:ext cx="88920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Text Box 1101"/>
              <p:cNvSpPr/>
              <p:nvPr/>
            </p:nvSpPr>
            <p:spPr>
              <a:xfrm>
                <a:off x="6721920" y="1395360"/>
                <a:ext cx="82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Close Out Projec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5" name="Line 1102"/>
            <p:cNvSpPr/>
            <p:nvPr/>
          </p:nvSpPr>
          <p:spPr>
            <a:xfrm>
              <a:off x="5765760" y="1168560"/>
              <a:ext cx="0" cy="27936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6" name="Line 1103"/>
            <p:cNvSpPr/>
            <p:nvPr/>
          </p:nvSpPr>
          <p:spPr>
            <a:xfrm>
              <a:off x="2336760" y="16383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7" name="Line 1104"/>
            <p:cNvSpPr/>
            <p:nvPr/>
          </p:nvSpPr>
          <p:spPr>
            <a:xfrm>
              <a:off x="363204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8" name="Line 1105"/>
            <p:cNvSpPr/>
            <p:nvPr/>
          </p:nvSpPr>
          <p:spPr>
            <a:xfrm>
              <a:off x="494028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9" name="Line 1106"/>
            <p:cNvSpPr/>
            <p:nvPr/>
          </p:nvSpPr>
          <p:spPr>
            <a:xfrm>
              <a:off x="624852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0" name="Line 1107"/>
            <p:cNvSpPr/>
            <p:nvPr/>
          </p:nvSpPr>
          <p:spPr>
            <a:xfrm>
              <a:off x="7593840" y="1612800"/>
              <a:ext cx="40644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028"/>
          <p:cNvSpPr/>
          <p:nvPr/>
        </p:nvSpPr>
        <p:spPr>
          <a:xfrm>
            <a:off x="990720" y="2006640"/>
            <a:ext cx="7111800" cy="41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btain customer acceptan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stall project deliverab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omplete project document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omplete post-implementation audi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ssue final project repo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Text Box 1037"/>
          <p:cNvSpPr/>
          <p:nvPr/>
        </p:nvSpPr>
        <p:spPr>
          <a:xfrm>
            <a:off x="184320" y="130320"/>
            <a:ext cx="499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Close Out Pro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Rectangle 1039"/>
          <p:cNvSpPr/>
          <p:nvPr/>
        </p:nvSpPr>
        <p:spPr>
          <a:xfrm>
            <a:off x="76320" y="6257880"/>
            <a:ext cx="38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987 Kepner-Tregoe, Inc. and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Effective 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by R.K. Wysocki, R. Beck Jr. &amp; D.B. Crane (Wiley, 1995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4" name="Group 1109"/>
          <p:cNvGrpSpPr/>
          <p:nvPr/>
        </p:nvGrpSpPr>
        <p:grpSpPr>
          <a:xfrm>
            <a:off x="392040" y="901800"/>
            <a:ext cx="8637840" cy="1041480"/>
            <a:chOff x="392040" y="901800"/>
            <a:chExt cx="8637840" cy="1041480"/>
          </a:xfrm>
        </p:grpSpPr>
        <p:grpSp>
          <p:nvGrpSpPr>
            <p:cNvPr id="605" name="Group 1077"/>
            <p:cNvGrpSpPr/>
            <p:nvPr/>
          </p:nvGrpSpPr>
          <p:grpSpPr>
            <a:xfrm>
              <a:off x="7840800" y="1295280"/>
              <a:ext cx="1189080" cy="635040"/>
              <a:chOff x="7840800" y="1295280"/>
              <a:chExt cx="1189080" cy="635040"/>
            </a:xfrm>
          </p:grpSpPr>
          <p:sp>
            <p:nvSpPr>
              <p:cNvPr id="606" name="AutoShape 1078"/>
              <p:cNvSpPr/>
              <p:nvPr/>
            </p:nvSpPr>
            <p:spPr>
              <a:xfrm>
                <a:off x="7988760" y="1295280"/>
                <a:ext cx="761760" cy="635040"/>
              </a:xfrm>
              <a:prstGeom prst="leftArrow">
                <a:avLst>
                  <a:gd name="adj1" fmla="val 50000"/>
                  <a:gd name="adj2" fmla="val 29989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7" name="Text Box 1079"/>
              <p:cNvSpPr/>
              <p:nvPr/>
            </p:nvSpPr>
            <p:spPr>
              <a:xfrm>
                <a:off x="7840800" y="1403280"/>
                <a:ext cx="1189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Project Completed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08" name="Group 1080"/>
            <p:cNvGrpSpPr/>
            <p:nvPr/>
          </p:nvGrpSpPr>
          <p:grpSpPr>
            <a:xfrm>
              <a:off x="392040" y="1282680"/>
              <a:ext cx="831960" cy="660600"/>
              <a:chOff x="392040" y="1282680"/>
              <a:chExt cx="831960" cy="660600"/>
            </a:xfrm>
          </p:grpSpPr>
          <p:sp>
            <p:nvSpPr>
              <p:cNvPr id="609" name="AutoShape 1081"/>
              <p:cNvSpPr/>
              <p:nvPr/>
            </p:nvSpPr>
            <p:spPr>
              <a:xfrm>
                <a:off x="415800" y="1282680"/>
                <a:ext cx="782640" cy="660600"/>
              </a:xfrm>
              <a:prstGeom prst="rightArrow">
                <a:avLst>
                  <a:gd name="adj1" fmla="val 50000"/>
                  <a:gd name="adj2" fmla="val 29619"/>
                </a:avLst>
              </a:prstGeom>
              <a:solidFill>
                <a:srgbClr val="33cc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0" name="Text Box 1082"/>
              <p:cNvSpPr/>
              <p:nvPr/>
            </p:nvSpPr>
            <p:spPr>
              <a:xfrm>
                <a:off x="392040" y="1415880"/>
                <a:ext cx="831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Project Authorized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11" name="Group 1083"/>
            <p:cNvGrpSpPr/>
            <p:nvPr/>
          </p:nvGrpSpPr>
          <p:grpSpPr>
            <a:xfrm>
              <a:off x="1486080" y="1382760"/>
              <a:ext cx="838080" cy="459000"/>
              <a:chOff x="1486080" y="1382760"/>
              <a:chExt cx="838080" cy="459000"/>
            </a:xfrm>
          </p:grpSpPr>
          <p:sp>
            <p:nvSpPr>
              <p:cNvPr id="612" name="Rectangle 1084"/>
              <p:cNvSpPr/>
              <p:nvPr/>
            </p:nvSpPr>
            <p:spPr>
              <a:xfrm>
                <a:off x="148608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3" name="Text Box 1085"/>
              <p:cNvSpPr/>
              <p:nvPr/>
            </p:nvSpPr>
            <p:spPr>
              <a:xfrm>
                <a:off x="1568520" y="1382760"/>
                <a:ext cx="64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Define Projec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14" name="Line 1086"/>
            <p:cNvSpPr/>
            <p:nvPr/>
          </p:nvSpPr>
          <p:spPr>
            <a:xfrm>
              <a:off x="1193040" y="1612800"/>
              <a:ext cx="30492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5" name="Line 1087"/>
            <p:cNvSpPr/>
            <p:nvPr/>
          </p:nvSpPr>
          <p:spPr>
            <a:xfrm>
              <a:off x="3174840" y="1168560"/>
              <a:ext cx="259092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6" name="Line 1088"/>
            <p:cNvSpPr/>
            <p:nvPr/>
          </p:nvSpPr>
          <p:spPr>
            <a:xfrm>
              <a:off x="3174840" y="1181160"/>
              <a:ext cx="0" cy="25380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7" name="Text Box 1089"/>
            <p:cNvSpPr/>
            <p:nvPr/>
          </p:nvSpPr>
          <p:spPr>
            <a:xfrm>
              <a:off x="4038480" y="901800"/>
              <a:ext cx="73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00"/>
                  </a:solidFill>
                  <a:latin typeface="Tahoma"/>
                </a:rPr>
                <a:t>Feedback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18" name="Group 1090"/>
            <p:cNvGrpSpPr/>
            <p:nvPr/>
          </p:nvGrpSpPr>
          <p:grpSpPr>
            <a:xfrm>
              <a:off x="2782800" y="1395360"/>
              <a:ext cx="838080" cy="459000"/>
              <a:chOff x="2782800" y="1395360"/>
              <a:chExt cx="838080" cy="459000"/>
            </a:xfrm>
          </p:grpSpPr>
          <p:sp>
            <p:nvSpPr>
              <p:cNvPr id="619" name="Rectangle 1091"/>
              <p:cNvSpPr/>
              <p:nvPr/>
            </p:nvSpPr>
            <p:spPr>
              <a:xfrm>
                <a:off x="278280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0" name="Text Box 1092"/>
              <p:cNvSpPr/>
              <p:nvPr/>
            </p:nvSpPr>
            <p:spPr>
              <a:xfrm>
                <a:off x="2840040" y="1395360"/>
                <a:ext cx="723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Develop Plan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21" name="Group 1093"/>
            <p:cNvGrpSpPr/>
            <p:nvPr/>
          </p:nvGrpSpPr>
          <p:grpSpPr>
            <a:xfrm>
              <a:off x="4079880" y="1382760"/>
              <a:ext cx="838080" cy="459000"/>
              <a:chOff x="4079880" y="1382760"/>
              <a:chExt cx="838080" cy="459000"/>
            </a:xfrm>
          </p:grpSpPr>
          <p:sp>
            <p:nvSpPr>
              <p:cNvPr id="622" name="Rectangle 1094"/>
              <p:cNvSpPr/>
              <p:nvPr/>
            </p:nvSpPr>
            <p:spPr>
              <a:xfrm>
                <a:off x="407988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3" name="Text Box 1095"/>
              <p:cNvSpPr/>
              <p:nvPr/>
            </p:nvSpPr>
            <p:spPr>
              <a:xfrm>
                <a:off x="4162320" y="1382760"/>
                <a:ext cx="64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Launch Plan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24" name="Group 1096"/>
            <p:cNvGrpSpPr/>
            <p:nvPr/>
          </p:nvGrpSpPr>
          <p:grpSpPr>
            <a:xfrm>
              <a:off x="5376960" y="1395360"/>
              <a:ext cx="857160" cy="459000"/>
              <a:chOff x="5376960" y="1395360"/>
              <a:chExt cx="857160" cy="459000"/>
            </a:xfrm>
          </p:grpSpPr>
          <p:sp>
            <p:nvSpPr>
              <p:cNvPr id="625" name="Rectangle 1097"/>
              <p:cNvSpPr/>
              <p:nvPr/>
            </p:nvSpPr>
            <p:spPr>
              <a:xfrm>
                <a:off x="539604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6" name="Text Box 1098"/>
              <p:cNvSpPr/>
              <p:nvPr/>
            </p:nvSpPr>
            <p:spPr>
              <a:xfrm>
                <a:off x="5376960" y="1395360"/>
                <a:ext cx="850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Monitor &amp; Control 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27" name="Group 1108"/>
            <p:cNvGrpSpPr/>
            <p:nvPr/>
          </p:nvGrpSpPr>
          <p:grpSpPr>
            <a:xfrm>
              <a:off x="6692760" y="1395360"/>
              <a:ext cx="889200" cy="459000"/>
              <a:chOff x="6692760" y="1395360"/>
              <a:chExt cx="889200" cy="459000"/>
            </a:xfrm>
          </p:grpSpPr>
          <p:sp>
            <p:nvSpPr>
              <p:cNvPr id="628" name="Rectangle 1100"/>
              <p:cNvSpPr/>
              <p:nvPr/>
            </p:nvSpPr>
            <p:spPr>
              <a:xfrm>
                <a:off x="6692760" y="1447920"/>
                <a:ext cx="889200" cy="355320"/>
              </a:xfrm>
              <a:prstGeom prst="rect">
                <a:avLst/>
              </a:prstGeom>
              <a:solidFill>
                <a:srgbClr val="accbf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9" name="Text Box 1101"/>
              <p:cNvSpPr/>
              <p:nvPr/>
            </p:nvSpPr>
            <p:spPr>
              <a:xfrm>
                <a:off x="6721560" y="1395360"/>
                <a:ext cx="828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Close Out Projec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30" name="Line 1102"/>
            <p:cNvSpPr/>
            <p:nvPr/>
          </p:nvSpPr>
          <p:spPr>
            <a:xfrm>
              <a:off x="5765760" y="1168560"/>
              <a:ext cx="0" cy="27936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1" name="Line 1103"/>
            <p:cNvSpPr/>
            <p:nvPr/>
          </p:nvSpPr>
          <p:spPr>
            <a:xfrm>
              <a:off x="2336760" y="16383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2" name="Line 1104"/>
            <p:cNvSpPr/>
            <p:nvPr/>
          </p:nvSpPr>
          <p:spPr>
            <a:xfrm>
              <a:off x="363204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3" name="Line 1105"/>
            <p:cNvSpPr/>
            <p:nvPr/>
          </p:nvSpPr>
          <p:spPr>
            <a:xfrm>
              <a:off x="494028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4" name="Line 1106"/>
            <p:cNvSpPr/>
            <p:nvPr/>
          </p:nvSpPr>
          <p:spPr>
            <a:xfrm>
              <a:off x="624852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5" name="Line 1107"/>
            <p:cNvSpPr/>
            <p:nvPr/>
          </p:nvSpPr>
          <p:spPr>
            <a:xfrm>
              <a:off x="7593840" y="1612800"/>
              <a:ext cx="40644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84320" y="130320"/>
            <a:ext cx="8673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PM Process Summ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685800" y="5181480"/>
            <a:ext cx="3124080" cy="1432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unch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ruit and organize project tea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tablish team operating ru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vel project resourc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sign work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5397480" y="1523880"/>
            <a:ext cx="3301920" cy="18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onito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&amp; Control Progr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tablish progress reporting syste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t up change control proc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e problem escalation proc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itor progress vs. p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vise project p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5423040" y="4483080"/>
            <a:ext cx="3301920" cy="1645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ose Out Pro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tain client acceptan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stall project deliverab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lete project documenta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lete post-implementation audi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sue final project repor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685800" y="3124080"/>
            <a:ext cx="3251160" cy="18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velop Detailed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y project activiti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timate activity dura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termine resource requirem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struct / analyze project net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pare project schedu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635040" y="1066680"/>
            <a:ext cx="3301920" cy="18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fine Pro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need, problem or opportun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e project objectiv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y success criter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st assumptions, risks and obsta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cc3300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e project scop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2057400" y="2590920"/>
            <a:ext cx="0" cy="457200"/>
          </a:xfrm>
          <a:prstGeom prst="line">
            <a:avLst/>
          </a:prstGeom>
          <a:ln w="38160">
            <a:solidFill>
              <a:srgbClr val="ff5a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Line 11"/>
          <p:cNvSpPr/>
          <p:nvPr/>
        </p:nvSpPr>
        <p:spPr>
          <a:xfrm>
            <a:off x="2057400" y="4648320"/>
            <a:ext cx="0" cy="457200"/>
          </a:xfrm>
          <a:prstGeom prst="line">
            <a:avLst/>
          </a:prstGeom>
          <a:ln w="38160">
            <a:solidFill>
              <a:srgbClr val="ff5a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Line 12"/>
          <p:cNvSpPr/>
          <p:nvPr/>
        </p:nvSpPr>
        <p:spPr>
          <a:xfrm>
            <a:off x="6985080" y="3048120"/>
            <a:ext cx="0" cy="1346040"/>
          </a:xfrm>
          <a:prstGeom prst="line">
            <a:avLst/>
          </a:prstGeom>
          <a:ln w="38160">
            <a:solidFill>
              <a:srgbClr val="ff5a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Line 13"/>
          <p:cNvSpPr/>
          <p:nvPr/>
        </p:nvSpPr>
        <p:spPr>
          <a:xfrm flipH="1">
            <a:off x="4025880" y="3009960"/>
            <a:ext cx="1270080" cy="685800"/>
          </a:xfrm>
          <a:prstGeom prst="line">
            <a:avLst/>
          </a:prstGeom>
          <a:ln w="38160">
            <a:solidFill>
              <a:srgbClr val="ff5a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Line 14"/>
          <p:cNvSpPr/>
          <p:nvPr/>
        </p:nvSpPr>
        <p:spPr>
          <a:xfrm flipV="1">
            <a:off x="3873600" y="3072960"/>
            <a:ext cx="2235240" cy="2514600"/>
          </a:xfrm>
          <a:prstGeom prst="line">
            <a:avLst/>
          </a:prstGeom>
          <a:ln w="38160">
            <a:solidFill>
              <a:srgbClr val="ff5a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3936960" y="283212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Feedbac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Rectangle 16"/>
          <p:cNvSpPr/>
          <p:nvPr/>
        </p:nvSpPr>
        <p:spPr>
          <a:xfrm>
            <a:off x="4660920" y="6245280"/>
            <a:ext cx="38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987 Kepner-Tregoe, Inc. and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Effective 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by R.K. Wysocki, R. Beck Jr. &amp; D.B. Crane (Wiley, 1995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4"/>
          <p:cNvSpPr/>
          <p:nvPr/>
        </p:nvSpPr>
        <p:spPr>
          <a:xfrm>
            <a:off x="138240" y="168120"/>
            <a:ext cx="30747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Summar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Rectangle 8"/>
          <p:cNvSpPr/>
          <p:nvPr/>
        </p:nvSpPr>
        <p:spPr>
          <a:xfrm>
            <a:off x="762120" y="1103400"/>
            <a:ext cx="78469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3300"/>
              </a:buClr>
              <a:buFont typeface="Tahom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 project is a temporary endeavor undertaken to create a unique product, service or resul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3300"/>
              </a:buClr>
              <a:buFont typeface="Tahom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 project has a life cycle that consists of stag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343080">
              <a:lnSpc>
                <a:spcPct val="12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Beginning stage (idea / approval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343080">
              <a:lnSpc>
                <a:spcPct val="12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iddle stage (work intensiv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343080">
              <a:lnSpc>
                <a:spcPct val="12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nd stage (final resul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3300"/>
              </a:buClr>
              <a:buFont typeface="Tahom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o be successful projects must be defined, planned, controlled and closed out using a well defined project management proce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1026"/>
          <p:cNvSpPr/>
          <p:nvPr/>
        </p:nvSpPr>
        <p:spPr>
          <a:xfrm>
            <a:off x="138240" y="168120"/>
            <a:ext cx="30747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Referenc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Text Box 1028"/>
          <p:cNvSpPr/>
          <p:nvPr/>
        </p:nvSpPr>
        <p:spPr>
          <a:xfrm>
            <a:off x="1015920" y="1914480"/>
            <a:ext cx="73152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A Guide to the Project Management Body of Knowledge 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(Project Management Institute, 2000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ffective Project Management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  by R.K. Wysocki, R. Beck Jr., &amp; D.B. Crane (Wiley, 1995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Project Management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 (Kepner-Tregoe, Inc., 198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Project Management: A Managerial Approach 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by J.R. Meredith &amp; S.J. Mantel Jr. (5</a:t>
            </a:r>
            <a:r>
              <a:rPr b="0" lang="en-US" sz="1600" spc="-1" strike="noStrike" baseline="30000">
                <a:solidFill>
                  <a:srgbClr val="ffff00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 Ed., Wiley 2003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4"/>
          <p:cNvSpPr/>
          <p:nvPr/>
        </p:nvSpPr>
        <p:spPr>
          <a:xfrm>
            <a:off x="1143000" y="914400"/>
            <a:ext cx="68706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7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39"/>
          <p:cNvGrpSpPr/>
          <p:nvPr/>
        </p:nvGrpSpPr>
        <p:grpSpPr>
          <a:xfrm>
            <a:off x="1854360" y="1917720"/>
            <a:ext cx="5410080" cy="3135240"/>
            <a:chOff x="1854360" y="1917720"/>
            <a:chExt cx="5410080" cy="3135240"/>
          </a:xfrm>
        </p:grpSpPr>
        <p:sp>
          <p:nvSpPr>
            <p:cNvPr id="655" name="AutoShape 5"/>
            <p:cNvSpPr/>
            <p:nvPr/>
          </p:nvSpPr>
          <p:spPr>
            <a:xfrm>
              <a:off x="1854360" y="1917720"/>
              <a:ext cx="5410080" cy="313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6" name="Rectangle 7"/>
            <p:cNvSpPr/>
            <p:nvPr/>
          </p:nvSpPr>
          <p:spPr>
            <a:xfrm>
              <a:off x="1876320" y="1938240"/>
              <a:ext cx="5369040" cy="30956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7" name="Rectangle 12"/>
            <p:cNvSpPr/>
            <p:nvPr/>
          </p:nvSpPr>
          <p:spPr>
            <a:xfrm>
              <a:off x="2397240" y="2771640"/>
              <a:ext cx="209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Larry Creel, PMP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8" name="Rectangle 15"/>
            <p:cNvSpPr/>
            <p:nvPr/>
          </p:nvSpPr>
          <p:spPr>
            <a:xfrm>
              <a:off x="4654440" y="3341520"/>
              <a:ext cx="1963800" cy="10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MKPO Consulting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2413 S. Kentucky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edalia, MO 65301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660.826.8392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59" name="Text Box 26"/>
          <p:cNvSpPr/>
          <p:nvPr/>
        </p:nvSpPr>
        <p:spPr>
          <a:xfrm>
            <a:off x="138240" y="168120"/>
            <a:ext cx="4484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Contact Inform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184320" y="130320"/>
            <a:ext cx="4559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What is a Projec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2082960"/>
            <a:ext cx="829332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finition 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 temporary endeavor undertaken to create a unique product, service or result. (Project Management Institut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finition 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 series of interrelated activities undertaken to accomplish a specific goal or end result. (Kepner-Trego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3270240" y="1041480"/>
            <a:ext cx="2336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76320" y="6334200"/>
            <a:ext cx="808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eferences: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A Guide to the Project Management Body of Knowledge (PMBOK Guide</a:t>
            </a:r>
            <a:r>
              <a:rPr b="0" i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000 Edition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ject Management Institute;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987 Kepner-Tregoe, Inc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026"/>
          <p:cNvSpPr/>
          <p:nvPr/>
        </p:nvSpPr>
        <p:spPr>
          <a:xfrm>
            <a:off x="184320" y="130320"/>
            <a:ext cx="6845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What is Project Managemen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027"/>
          <p:cNvSpPr/>
          <p:nvPr/>
        </p:nvSpPr>
        <p:spPr>
          <a:xfrm>
            <a:off x="609480" y="1727280"/>
            <a:ext cx="8293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finition 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e application of knowledge, skills, tools and techniques to project activities to meet the project requirements. (Project Management Institut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finition 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e actions taken to define the project’s requirements; plan the activities to accomplish the requirements; and ensure successful project implementation. (Kepner-Trego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Text Box 1028"/>
          <p:cNvSpPr/>
          <p:nvPr/>
        </p:nvSpPr>
        <p:spPr>
          <a:xfrm>
            <a:off x="1949400" y="838080"/>
            <a:ext cx="5410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ject Manag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Text Box 1029"/>
          <p:cNvSpPr/>
          <p:nvPr/>
        </p:nvSpPr>
        <p:spPr>
          <a:xfrm>
            <a:off x="76320" y="6334200"/>
            <a:ext cx="808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eferences: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A Guide to the Project Management Body of Knowledge (PMBOK Guide</a:t>
            </a:r>
            <a:r>
              <a:rPr b="0" i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000 Edition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ject Management Institute;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987 Kepner-Tregoe, Inc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026"/>
          <p:cNvSpPr/>
          <p:nvPr/>
        </p:nvSpPr>
        <p:spPr>
          <a:xfrm>
            <a:off x="184320" y="130320"/>
            <a:ext cx="6845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What is a Project Life Cycl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1027"/>
          <p:cNvSpPr/>
          <p:nvPr/>
        </p:nvSpPr>
        <p:spPr>
          <a:xfrm>
            <a:off x="546120" y="2438280"/>
            <a:ext cx="8292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 collection of generally sequential project phases whose name and number are determined by the control needs of the organization or organizations involved in the project. (Project Management Institut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Text Box 1028"/>
          <p:cNvSpPr/>
          <p:nvPr/>
        </p:nvSpPr>
        <p:spPr>
          <a:xfrm>
            <a:off x="1784520" y="1397160"/>
            <a:ext cx="5410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ject Life Cyc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Text Box 1029"/>
          <p:cNvSpPr/>
          <p:nvPr/>
        </p:nvSpPr>
        <p:spPr>
          <a:xfrm>
            <a:off x="76320" y="6537240"/>
            <a:ext cx="808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eference: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A Guide to the Project Management Body of Knowledge (PMBOK Guide</a:t>
            </a:r>
            <a:r>
              <a:rPr b="0" i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000 Edition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ject Management Institut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026"/>
          <p:cNvSpPr/>
          <p:nvPr/>
        </p:nvSpPr>
        <p:spPr>
          <a:xfrm>
            <a:off x="184320" y="130320"/>
            <a:ext cx="5778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Typical Project Life Cyc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1031"/>
          <p:cNvSpPr/>
          <p:nvPr/>
        </p:nvSpPr>
        <p:spPr>
          <a:xfrm>
            <a:off x="76320" y="6575400"/>
            <a:ext cx="808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Project Management: A Managerial Approach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by J.R. Meredith &amp; S.J. Mantel Jr. (5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Ed., Wiley 2003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0" name="Group 1083"/>
          <p:cNvGrpSpPr/>
          <p:nvPr/>
        </p:nvGrpSpPr>
        <p:grpSpPr>
          <a:xfrm>
            <a:off x="393840" y="4889520"/>
            <a:ext cx="8610120" cy="545760"/>
            <a:chOff x="393840" y="4889520"/>
            <a:chExt cx="8610120" cy="545760"/>
          </a:xfrm>
        </p:grpSpPr>
        <p:sp>
          <p:nvSpPr>
            <p:cNvPr id="381" name="Text Box 1058"/>
            <p:cNvSpPr/>
            <p:nvPr/>
          </p:nvSpPr>
          <p:spPr>
            <a:xfrm>
              <a:off x="393840" y="4889520"/>
              <a:ext cx="257328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Idea / concept developed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Project authorized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Text Box 1059"/>
            <p:cNvSpPr/>
            <p:nvPr/>
          </p:nvSpPr>
          <p:spPr>
            <a:xfrm>
              <a:off x="3460680" y="4889520"/>
              <a:ext cx="31237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Plans developed / executed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Progress monitored / controlled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Text Box 1060"/>
            <p:cNvSpPr/>
            <p:nvPr/>
          </p:nvSpPr>
          <p:spPr>
            <a:xfrm>
              <a:off x="7061040" y="4889520"/>
              <a:ext cx="19429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Results delivered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Final report issued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84" name="Group 1087"/>
          <p:cNvGrpSpPr/>
          <p:nvPr/>
        </p:nvGrpSpPr>
        <p:grpSpPr>
          <a:xfrm>
            <a:off x="50760" y="1100160"/>
            <a:ext cx="8889840" cy="3294360"/>
            <a:chOff x="50760" y="1100160"/>
            <a:chExt cx="8889840" cy="3294360"/>
          </a:xfrm>
        </p:grpSpPr>
        <p:sp>
          <p:nvSpPr>
            <p:cNvPr id="385" name="Text Box 1032"/>
            <p:cNvSpPr/>
            <p:nvPr/>
          </p:nvSpPr>
          <p:spPr>
            <a:xfrm rot="18297600">
              <a:off x="2705040" y="2070000"/>
              <a:ext cx="25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Definition &amp; Planning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6" name="Text Box 1050"/>
            <p:cNvSpPr/>
            <p:nvPr/>
          </p:nvSpPr>
          <p:spPr>
            <a:xfrm rot="18507600">
              <a:off x="1581120" y="2112840"/>
              <a:ext cx="246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Selection &amp; Authorization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7" name="Text Box 1035"/>
            <p:cNvSpPr/>
            <p:nvPr/>
          </p:nvSpPr>
          <p:spPr>
            <a:xfrm rot="18246600">
              <a:off x="5131080" y="2170800"/>
              <a:ext cx="22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Monitor &amp;  Control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Line 1027"/>
            <p:cNvSpPr/>
            <p:nvPr/>
          </p:nvSpPr>
          <p:spPr>
            <a:xfrm>
              <a:off x="711000" y="3581280"/>
              <a:ext cx="8229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Text Box 1034"/>
            <p:cNvSpPr/>
            <p:nvPr/>
          </p:nvSpPr>
          <p:spPr>
            <a:xfrm rot="18297600">
              <a:off x="7581960" y="2527200"/>
              <a:ext cx="147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Close Ou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" name="Text Box 1049"/>
            <p:cNvSpPr/>
            <p:nvPr/>
          </p:nvSpPr>
          <p:spPr>
            <a:xfrm rot="18409200">
              <a:off x="914760" y="2618640"/>
              <a:ext cx="12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Conception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" name="Line 1052"/>
            <p:cNvSpPr/>
            <p:nvPr/>
          </p:nvSpPr>
          <p:spPr>
            <a:xfrm>
              <a:off x="1854000" y="3505320"/>
              <a:ext cx="0" cy="177840"/>
            </a:xfrm>
            <a:prstGeom prst="line">
              <a:avLst/>
            </a:prstGeom>
            <a:ln w="2844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" name="Line 1055"/>
            <p:cNvSpPr/>
            <p:nvPr/>
          </p:nvSpPr>
          <p:spPr>
            <a:xfrm>
              <a:off x="2361960" y="3314880"/>
              <a:ext cx="0" cy="583920"/>
            </a:xfrm>
            <a:prstGeom prst="line">
              <a:avLst/>
            </a:prstGeom>
            <a:ln w="2844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" name="Line 1061"/>
            <p:cNvSpPr/>
            <p:nvPr/>
          </p:nvSpPr>
          <p:spPr>
            <a:xfrm>
              <a:off x="4419360" y="2997360"/>
              <a:ext cx="0" cy="558720"/>
            </a:xfrm>
            <a:prstGeom prst="line">
              <a:avLst/>
            </a:prstGeom>
            <a:ln w="2844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" name="Text Box 1062"/>
            <p:cNvSpPr/>
            <p:nvPr/>
          </p:nvSpPr>
          <p:spPr>
            <a:xfrm rot="18297600">
              <a:off x="4051440" y="2145960"/>
              <a:ext cx="147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Launch Plan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" name="Line 1068"/>
            <p:cNvSpPr/>
            <p:nvPr/>
          </p:nvSpPr>
          <p:spPr>
            <a:xfrm>
              <a:off x="8394480" y="3314880"/>
              <a:ext cx="0" cy="583920"/>
            </a:xfrm>
            <a:prstGeom prst="line">
              <a:avLst/>
            </a:prstGeom>
            <a:ln w="2844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6" name="Line 1069"/>
            <p:cNvSpPr/>
            <p:nvPr/>
          </p:nvSpPr>
          <p:spPr>
            <a:xfrm>
              <a:off x="927000" y="3314880"/>
              <a:ext cx="0" cy="583920"/>
            </a:xfrm>
            <a:prstGeom prst="line">
              <a:avLst/>
            </a:prstGeom>
            <a:ln w="2844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" name="Line 1070"/>
            <p:cNvSpPr/>
            <p:nvPr/>
          </p:nvSpPr>
          <p:spPr>
            <a:xfrm>
              <a:off x="7594560" y="3314880"/>
              <a:ext cx="0" cy="583920"/>
            </a:xfrm>
            <a:prstGeom prst="line">
              <a:avLst/>
            </a:prstGeom>
            <a:ln w="2844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" name="Text Box 1076"/>
            <p:cNvSpPr/>
            <p:nvPr/>
          </p:nvSpPr>
          <p:spPr>
            <a:xfrm>
              <a:off x="914400" y="3784680"/>
              <a:ext cx="1473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</a:rPr>
                <a:t>Beginning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</a:rPr>
                <a:t>Stage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" name="Text Box 1077"/>
            <p:cNvSpPr/>
            <p:nvPr/>
          </p:nvSpPr>
          <p:spPr>
            <a:xfrm>
              <a:off x="4317840" y="3784680"/>
              <a:ext cx="99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</a:rPr>
                <a:t>Middle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</a:rPr>
                <a:t>Stage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" name="Text Box 1078"/>
            <p:cNvSpPr/>
            <p:nvPr/>
          </p:nvSpPr>
          <p:spPr>
            <a:xfrm>
              <a:off x="7505640" y="3784680"/>
              <a:ext cx="939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</a:rPr>
                <a:t>End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</a:rPr>
                <a:t>Stage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Text Box 1085"/>
            <p:cNvSpPr/>
            <p:nvPr/>
          </p:nvSpPr>
          <p:spPr>
            <a:xfrm>
              <a:off x="50760" y="3416400"/>
              <a:ext cx="7110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08000" y="130320"/>
            <a:ext cx="9023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Example – Progress Through the Life Cyc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76320" y="6575400"/>
            <a:ext cx="808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Project Management: A Managerial Approach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by J.R. Meredith &amp; S.J. Mantel Jr. (5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Ed., Wiley 2003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723960" y="5613480"/>
            <a:ext cx="80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nstruction projects tend to follow this patter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5" name="Group 25"/>
          <p:cNvGrpSpPr/>
          <p:nvPr/>
        </p:nvGrpSpPr>
        <p:grpSpPr>
          <a:xfrm>
            <a:off x="571680" y="1180800"/>
            <a:ext cx="7226280" cy="3861720"/>
            <a:chOff x="571680" y="1180800"/>
            <a:chExt cx="7226280" cy="3861720"/>
          </a:xfrm>
        </p:grpSpPr>
        <p:sp>
          <p:nvSpPr>
            <p:cNvPr id="406" name="Line 3"/>
            <p:cNvSpPr/>
            <p:nvPr/>
          </p:nvSpPr>
          <p:spPr>
            <a:xfrm flipV="1">
              <a:off x="2171880" y="1180800"/>
              <a:ext cx="0" cy="3530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" name="Line 4"/>
            <p:cNvSpPr/>
            <p:nvPr/>
          </p:nvSpPr>
          <p:spPr>
            <a:xfrm>
              <a:off x="2184480" y="4699080"/>
              <a:ext cx="53085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cxnSp>
          <p:nvCxnSpPr>
            <p:cNvPr id="408" name="AutoShape 5"/>
            <p:cNvCxnSpPr/>
            <p:nvPr/>
          </p:nvCxnSpPr>
          <p:spPr>
            <a:xfrm flipV="1">
              <a:off x="2209320" y="1841040"/>
              <a:ext cx="3886920" cy="2820240"/>
            </a:xfrm>
            <a:prstGeom prst="curvedConnector5">
              <a:avLst>
                <a:gd name="adj1" fmla="val 50000"/>
                <a:gd name="adj2" fmla="val 49993"/>
                <a:gd name="adj3" fmla="val 50000"/>
              </a:avLst>
            </a:prstGeom>
            <a:ln w="28440">
              <a:solidFill>
                <a:srgbClr val="ccff33"/>
              </a:solidFill>
              <a:miter/>
            </a:ln>
          </p:spPr>
        </p:cxnSp>
        <p:sp>
          <p:nvSpPr>
            <p:cNvPr id="409" name="Line 6"/>
            <p:cNvSpPr/>
            <p:nvPr/>
          </p:nvSpPr>
          <p:spPr>
            <a:xfrm>
              <a:off x="2209680" y="1816200"/>
              <a:ext cx="515628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571680" y="2692440"/>
              <a:ext cx="14983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Verdana"/>
                </a:rPr>
                <a:t>% Project Comple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Text Box 8"/>
            <p:cNvSpPr/>
            <p:nvPr/>
          </p:nvSpPr>
          <p:spPr>
            <a:xfrm>
              <a:off x="6959520" y="4254480"/>
              <a:ext cx="8384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Verdana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5346720" y="2082960"/>
              <a:ext cx="12193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Slow finish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2184480" y="4140360"/>
              <a:ext cx="1092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Slow star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3289320" y="2197080"/>
              <a:ext cx="12193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Quick momentum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" name="Text Box 14"/>
            <p:cNvSpPr/>
            <p:nvPr/>
          </p:nvSpPr>
          <p:spPr>
            <a:xfrm>
              <a:off x="1606680" y="4495680"/>
              <a:ext cx="4824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Text Box 15"/>
            <p:cNvSpPr/>
            <p:nvPr/>
          </p:nvSpPr>
          <p:spPr>
            <a:xfrm>
              <a:off x="1441440" y="1676520"/>
              <a:ext cx="660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Rectangle 19"/>
            <p:cNvSpPr/>
            <p:nvPr/>
          </p:nvSpPr>
          <p:spPr>
            <a:xfrm>
              <a:off x="2108160" y="4753080"/>
              <a:ext cx="12952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Beginning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Line 21"/>
            <p:cNvSpPr/>
            <p:nvPr/>
          </p:nvSpPr>
          <p:spPr>
            <a:xfrm>
              <a:off x="5118120" y="1828800"/>
              <a:ext cx="0" cy="289548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Rectangle 22"/>
            <p:cNvSpPr/>
            <p:nvPr/>
          </p:nvSpPr>
          <p:spPr>
            <a:xfrm>
              <a:off x="3708360" y="4778280"/>
              <a:ext cx="9399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Middl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Rectangle 23"/>
            <p:cNvSpPr/>
            <p:nvPr/>
          </p:nvSpPr>
          <p:spPr>
            <a:xfrm>
              <a:off x="5689440" y="4753080"/>
              <a:ext cx="559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Verdana"/>
                </a:rPr>
                <a:t>End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Line 24"/>
            <p:cNvSpPr/>
            <p:nvPr/>
          </p:nvSpPr>
          <p:spPr>
            <a:xfrm>
              <a:off x="3301920" y="1803240"/>
              <a:ext cx="0" cy="28958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5"/>
          <p:cNvSpPr/>
          <p:nvPr/>
        </p:nvSpPr>
        <p:spPr>
          <a:xfrm>
            <a:off x="184320" y="130320"/>
            <a:ext cx="4559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1282680" y="2425680"/>
            <a:ext cx="702324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sic project management defin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74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ife cycle of a pro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74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sic project management pro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685800" y="1486080"/>
            <a:ext cx="37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e will discu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07"/>
          <p:cNvSpPr/>
          <p:nvPr/>
        </p:nvSpPr>
        <p:spPr>
          <a:xfrm>
            <a:off x="184320" y="130320"/>
            <a:ext cx="8546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Basic Project Management Pro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6" name="Group 113"/>
          <p:cNvGrpSpPr/>
          <p:nvPr/>
        </p:nvGrpSpPr>
        <p:grpSpPr>
          <a:xfrm>
            <a:off x="365040" y="1282680"/>
            <a:ext cx="8296200" cy="5067360"/>
            <a:chOff x="365040" y="1282680"/>
            <a:chExt cx="8296200" cy="5067360"/>
          </a:xfrm>
        </p:grpSpPr>
        <p:grpSp>
          <p:nvGrpSpPr>
            <p:cNvPr id="427" name="Group 93"/>
            <p:cNvGrpSpPr/>
            <p:nvPr/>
          </p:nvGrpSpPr>
          <p:grpSpPr>
            <a:xfrm>
              <a:off x="2844720" y="3390840"/>
              <a:ext cx="1879560" cy="914400"/>
              <a:chOff x="2844720" y="3390840"/>
              <a:chExt cx="1879560" cy="914400"/>
            </a:xfrm>
          </p:grpSpPr>
          <p:sp>
            <p:nvSpPr>
              <p:cNvPr id="428" name="Rectangle 89"/>
              <p:cNvSpPr/>
              <p:nvPr/>
            </p:nvSpPr>
            <p:spPr>
              <a:xfrm>
                <a:off x="2844720" y="3390840"/>
                <a:ext cx="1879560" cy="91440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9" name="Text Box 79"/>
              <p:cNvSpPr/>
              <p:nvPr/>
            </p:nvSpPr>
            <p:spPr>
              <a:xfrm>
                <a:off x="3085920" y="3466800"/>
                <a:ext cx="1473120" cy="752040"/>
              </a:xfrm>
              <a:prstGeom prst="rect">
                <a:avLst/>
              </a:prstGeom>
              <a:solidFill>
                <a:srgbClr val="629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Launch Plan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0" name="Group 84"/>
            <p:cNvGrpSpPr/>
            <p:nvPr/>
          </p:nvGrpSpPr>
          <p:grpSpPr>
            <a:xfrm>
              <a:off x="7010280" y="4978440"/>
              <a:ext cx="1650960" cy="1371600"/>
              <a:chOff x="7010280" y="4978440"/>
              <a:chExt cx="1650960" cy="1371600"/>
            </a:xfrm>
          </p:grpSpPr>
          <p:sp>
            <p:nvSpPr>
              <p:cNvPr id="431" name="AutoShape 67"/>
              <p:cNvSpPr/>
              <p:nvPr/>
            </p:nvSpPr>
            <p:spPr>
              <a:xfrm>
                <a:off x="7010280" y="4978440"/>
                <a:ext cx="1650960" cy="1371600"/>
              </a:xfrm>
              <a:prstGeom prst="leftArrow">
                <a:avLst>
                  <a:gd name="adj1" fmla="val 50000"/>
                  <a:gd name="adj2" fmla="val 30092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2" name="Text Box 68"/>
              <p:cNvSpPr/>
              <p:nvPr/>
            </p:nvSpPr>
            <p:spPr>
              <a:xfrm>
                <a:off x="7294320" y="5340240"/>
                <a:ext cx="1341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Project Completed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3" name="Group 83"/>
            <p:cNvGrpSpPr/>
            <p:nvPr/>
          </p:nvGrpSpPr>
          <p:grpSpPr>
            <a:xfrm>
              <a:off x="365040" y="1282680"/>
              <a:ext cx="1747800" cy="1396800"/>
              <a:chOff x="365040" y="1282680"/>
              <a:chExt cx="1747800" cy="1396800"/>
            </a:xfrm>
          </p:grpSpPr>
          <p:sp>
            <p:nvSpPr>
              <p:cNvPr id="434" name="AutoShape 70"/>
              <p:cNvSpPr/>
              <p:nvPr/>
            </p:nvSpPr>
            <p:spPr>
              <a:xfrm>
                <a:off x="365040" y="1282680"/>
                <a:ext cx="1747800" cy="1396800"/>
              </a:xfrm>
              <a:prstGeom prst="rightArrow">
                <a:avLst>
                  <a:gd name="adj1" fmla="val 50000"/>
                  <a:gd name="adj2" fmla="val 31282"/>
                </a:avLst>
              </a:prstGeom>
              <a:solidFill>
                <a:srgbClr val="33cc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5" name="Text Box 71"/>
              <p:cNvSpPr/>
              <p:nvPr/>
            </p:nvSpPr>
            <p:spPr>
              <a:xfrm>
                <a:off x="469800" y="1650960"/>
                <a:ext cx="1265040" cy="9169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Project Authorized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6" name="Group 92"/>
            <p:cNvGrpSpPr/>
            <p:nvPr/>
          </p:nvGrpSpPr>
          <p:grpSpPr>
            <a:xfrm>
              <a:off x="2844720" y="1549440"/>
              <a:ext cx="1879560" cy="914400"/>
              <a:chOff x="2844720" y="1549440"/>
              <a:chExt cx="1879560" cy="914400"/>
            </a:xfrm>
          </p:grpSpPr>
          <p:sp>
            <p:nvSpPr>
              <p:cNvPr id="437" name="Rectangle 85"/>
              <p:cNvSpPr/>
              <p:nvPr/>
            </p:nvSpPr>
            <p:spPr>
              <a:xfrm>
                <a:off x="2844720" y="1549440"/>
                <a:ext cx="1879560" cy="91440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" name="Text Box 78"/>
              <p:cNvSpPr/>
              <p:nvPr/>
            </p:nvSpPr>
            <p:spPr>
              <a:xfrm>
                <a:off x="3213000" y="1625760"/>
                <a:ext cx="1143000" cy="752040"/>
              </a:xfrm>
              <a:prstGeom prst="rect">
                <a:avLst/>
              </a:prstGeom>
              <a:solidFill>
                <a:srgbClr val="629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Define Project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9" name="Group 90"/>
            <p:cNvGrpSpPr/>
            <p:nvPr/>
          </p:nvGrpSpPr>
          <p:grpSpPr>
            <a:xfrm>
              <a:off x="5854680" y="1574640"/>
              <a:ext cx="1879560" cy="914400"/>
              <a:chOff x="5854680" y="1574640"/>
              <a:chExt cx="1879560" cy="914400"/>
            </a:xfrm>
          </p:grpSpPr>
          <p:sp>
            <p:nvSpPr>
              <p:cNvPr id="440" name="Rectangle 86"/>
              <p:cNvSpPr/>
              <p:nvPr/>
            </p:nvSpPr>
            <p:spPr>
              <a:xfrm>
                <a:off x="5854680" y="1574640"/>
                <a:ext cx="1879560" cy="91440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1" name="Text Box 80"/>
              <p:cNvSpPr/>
              <p:nvPr/>
            </p:nvSpPr>
            <p:spPr>
              <a:xfrm>
                <a:off x="5968800" y="1650600"/>
                <a:ext cx="1701360" cy="752040"/>
              </a:xfrm>
              <a:prstGeom prst="rect">
                <a:avLst/>
              </a:prstGeom>
              <a:solidFill>
                <a:srgbClr val="629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Develop Detailed Plan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2" name="Group 91"/>
            <p:cNvGrpSpPr/>
            <p:nvPr/>
          </p:nvGrpSpPr>
          <p:grpSpPr>
            <a:xfrm>
              <a:off x="5740200" y="3390840"/>
              <a:ext cx="2108160" cy="914400"/>
              <a:chOff x="5740200" y="3390840"/>
              <a:chExt cx="2108160" cy="914400"/>
            </a:xfrm>
          </p:grpSpPr>
          <p:sp>
            <p:nvSpPr>
              <p:cNvPr id="443" name="Rectangle 88"/>
              <p:cNvSpPr/>
              <p:nvPr/>
            </p:nvSpPr>
            <p:spPr>
              <a:xfrm>
                <a:off x="5803920" y="3390840"/>
                <a:ext cx="1981080" cy="91440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4" name="Text Box 81"/>
              <p:cNvSpPr/>
              <p:nvPr/>
            </p:nvSpPr>
            <p:spPr>
              <a:xfrm>
                <a:off x="5740200" y="3467160"/>
                <a:ext cx="21081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Monitor &amp; Control Progress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5" name="Group 94"/>
            <p:cNvGrpSpPr/>
            <p:nvPr/>
          </p:nvGrpSpPr>
          <p:grpSpPr>
            <a:xfrm>
              <a:off x="2844720" y="5207040"/>
              <a:ext cx="1879560" cy="914400"/>
              <a:chOff x="2844720" y="5207040"/>
              <a:chExt cx="1879560" cy="914400"/>
            </a:xfrm>
          </p:grpSpPr>
          <p:sp>
            <p:nvSpPr>
              <p:cNvPr id="446" name="Rectangle 87"/>
              <p:cNvSpPr/>
              <p:nvPr/>
            </p:nvSpPr>
            <p:spPr>
              <a:xfrm>
                <a:off x="2844720" y="5207040"/>
                <a:ext cx="1879560" cy="91440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" name="Text Box 82"/>
              <p:cNvSpPr/>
              <p:nvPr/>
            </p:nvSpPr>
            <p:spPr>
              <a:xfrm>
                <a:off x="2908440" y="5283000"/>
                <a:ext cx="1727280" cy="752040"/>
              </a:xfrm>
              <a:prstGeom prst="rect">
                <a:avLst/>
              </a:prstGeom>
              <a:solidFill>
                <a:srgbClr val="629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Close Out Project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8" name="Line 96"/>
            <p:cNvSpPr/>
            <p:nvPr/>
          </p:nvSpPr>
          <p:spPr>
            <a:xfrm>
              <a:off x="6769080" y="2476440"/>
              <a:ext cx="0" cy="457200"/>
            </a:xfrm>
            <a:prstGeom prst="line">
              <a:avLst/>
            </a:prstGeom>
            <a:ln w="1908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9" name="Line 98"/>
            <p:cNvSpPr/>
            <p:nvPr/>
          </p:nvSpPr>
          <p:spPr>
            <a:xfrm>
              <a:off x="4736160" y="2006640"/>
              <a:ext cx="1117800" cy="0"/>
            </a:xfrm>
            <a:prstGeom prst="line">
              <a:avLst/>
            </a:prstGeom>
            <a:ln w="1908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0" name="Line 99"/>
            <p:cNvSpPr/>
            <p:nvPr/>
          </p:nvSpPr>
          <p:spPr>
            <a:xfrm>
              <a:off x="2120760" y="1981080"/>
              <a:ext cx="711360" cy="0"/>
            </a:xfrm>
            <a:prstGeom prst="line">
              <a:avLst/>
            </a:prstGeom>
            <a:ln w="1908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" name="Line 100"/>
            <p:cNvSpPr/>
            <p:nvPr/>
          </p:nvSpPr>
          <p:spPr>
            <a:xfrm>
              <a:off x="4736880" y="3835440"/>
              <a:ext cx="1067040" cy="0"/>
            </a:xfrm>
            <a:prstGeom prst="line">
              <a:avLst/>
            </a:prstGeom>
            <a:ln w="1908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" name="Line 101"/>
            <p:cNvSpPr/>
            <p:nvPr/>
          </p:nvSpPr>
          <p:spPr>
            <a:xfrm>
              <a:off x="4724280" y="5638680"/>
              <a:ext cx="2286000" cy="0"/>
            </a:xfrm>
            <a:prstGeom prst="line">
              <a:avLst/>
            </a:prstGeom>
            <a:ln w="1908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" name="Line 103"/>
            <p:cNvSpPr/>
            <p:nvPr/>
          </p:nvSpPr>
          <p:spPr>
            <a:xfrm>
              <a:off x="3809880" y="2933640"/>
              <a:ext cx="2971800" cy="0"/>
            </a:xfrm>
            <a:prstGeom prst="line">
              <a:avLst/>
            </a:prstGeom>
            <a:ln w="1908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" name="Line 105"/>
            <p:cNvSpPr/>
            <p:nvPr/>
          </p:nvSpPr>
          <p:spPr>
            <a:xfrm>
              <a:off x="3809880" y="2921040"/>
              <a:ext cx="0" cy="431640"/>
            </a:xfrm>
            <a:prstGeom prst="line">
              <a:avLst/>
            </a:prstGeom>
            <a:ln w="1908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" name="Line 106"/>
            <p:cNvSpPr/>
            <p:nvPr/>
          </p:nvSpPr>
          <p:spPr>
            <a:xfrm flipV="1">
              <a:off x="7264440" y="2476440"/>
              <a:ext cx="0" cy="914400"/>
            </a:xfrm>
            <a:prstGeom prst="line">
              <a:avLst/>
            </a:prstGeom>
            <a:ln w="19080">
              <a:solidFill>
                <a:srgbClr val="ff5a2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Line 109"/>
            <p:cNvSpPr/>
            <p:nvPr/>
          </p:nvSpPr>
          <p:spPr>
            <a:xfrm>
              <a:off x="6756120" y="4317840"/>
              <a:ext cx="0" cy="457200"/>
            </a:xfrm>
            <a:prstGeom prst="line">
              <a:avLst/>
            </a:prstGeom>
            <a:ln w="1908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Line 110"/>
            <p:cNvSpPr/>
            <p:nvPr/>
          </p:nvSpPr>
          <p:spPr>
            <a:xfrm>
              <a:off x="3784320" y="4775040"/>
              <a:ext cx="2971800" cy="0"/>
            </a:xfrm>
            <a:prstGeom prst="line">
              <a:avLst/>
            </a:prstGeom>
            <a:ln w="1908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Line 111"/>
            <p:cNvSpPr/>
            <p:nvPr/>
          </p:nvSpPr>
          <p:spPr>
            <a:xfrm>
              <a:off x="3784320" y="4762440"/>
              <a:ext cx="0" cy="431640"/>
            </a:xfrm>
            <a:prstGeom prst="line">
              <a:avLst/>
            </a:prstGeom>
            <a:ln w="1908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Text Box 112"/>
            <p:cNvSpPr/>
            <p:nvPr/>
          </p:nvSpPr>
          <p:spPr>
            <a:xfrm>
              <a:off x="7391160" y="2755800"/>
              <a:ext cx="127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00"/>
                  </a:solidFill>
                  <a:latin typeface="Tahoma"/>
                </a:rPr>
                <a:t>Feedback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0" name="Rectangle 116"/>
          <p:cNvSpPr/>
          <p:nvPr/>
        </p:nvSpPr>
        <p:spPr>
          <a:xfrm>
            <a:off x="76320" y="6257880"/>
            <a:ext cx="38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987 Kepner-Tregoe, Inc. and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Effective 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by R.K. Wysocki, R. Beck Jr. &amp; D.B. Crane (Wiley, 1995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812880" y="1994040"/>
            <a:ext cx="77976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e need, problem or opportun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fine project objectiv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dentify success criter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ist assumptions, risks and obstac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406440">
              <a:lnSpc>
                <a:spcPct val="19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fine project scope (what will be delivered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184320" y="130320"/>
            <a:ext cx="554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Verdana"/>
              </a:rPr>
              <a:t>Define Projec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76320" y="6257880"/>
            <a:ext cx="38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987 Kepner-Tregoe, Inc. and 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Effective Project Management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by R.K. Wysocki, R. Beck Jr. &amp; D.B. Crane (Wiley, 1995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4" name="Group 79"/>
          <p:cNvGrpSpPr/>
          <p:nvPr/>
        </p:nvGrpSpPr>
        <p:grpSpPr>
          <a:xfrm>
            <a:off x="392040" y="901800"/>
            <a:ext cx="8637840" cy="1041480"/>
            <a:chOff x="392040" y="901800"/>
            <a:chExt cx="8637840" cy="1041480"/>
          </a:xfrm>
        </p:grpSpPr>
        <p:grpSp>
          <p:nvGrpSpPr>
            <p:cNvPr id="465" name="Group 47"/>
            <p:cNvGrpSpPr/>
            <p:nvPr/>
          </p:nvGrpSpPr>
          <p:grpSpPr>
            <a:xfrm>
              <a:off x="7840800" y="1295280"/>
              <a:ext cx="1189080" cy="635040"/>
              <a:chOff x="7840800" y="1295280"/>
              <a:chExt cx="1189080" cy="635040"/>
            </a:xfrm>
          </p:grpSpPr>
          <p:sp>
            <p:nvSpPr>
              <p:cNvPr id="466" name="AutoShape 48"/>
              <p:cNvSpPr/>
              <p:nvPr/>
            </p:nvSpPr>
            <p:spPr>
              <a:xfrm>
                <a:off x="7988760" y="1295280"/>
                <a:ext cx="761760" cy="635040"/>
              </a:xfrm>
              <a:prstGeom prst="leftArrow">
                <a:avLst>
                  <a:gd name="adj1" fmla="val 50000"/>
                  <a:gd name="adj2" fmla="val 29989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7" name="Text Box 49"/>
              <p:cNvSpPr/>
              <p:nvPr/>
            </p:nvSpPr>
            <p:spPr>
              <a:xfrm>
                <a:off x="7840800" y="1403280"/>
                <a:ext cx="1189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Project Completed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68" name="Group 50"/>
            <p:cNvGrpSpPr/>
            <p:nvPr/>
          </p:nvGrpSpPr>
          <p:grpSpPr>
            <a:xfrm>
              <a:off x="392040" y="1282680"/>
              <a:ext cx="831960" cy="660600"/>
              <a:chOff x="392040" y="1282680"/>
              <a:chExt cx="831960" cy="660600"/>
            </a:xfrm>
          </p:grpSpPr>
          <p:sp>
            <p:nvSpPr>
              <p:cNvPr id="469" name="AutoShape 51"/>
              <p:cNvSpPr/>
              <p:nvPr/>
            </p:nvSpPr>
            <p:spPr>
              <a:xfrm>
                <a:off x="415800" y="1282680"/>
                <a:ext cx="782640" cy="660600"/>
              </a:xfrm>
              <a:prstGeom prst="rightArrow">
                <a:avLst>
                  <a:gd name="adj1" fmla="val 50000"/>
                  <a:gd name="adj2" fmla="val 29619"/>
                </a:avLst>
              </a:prstGeom>
              <a:solidFill>
                <a:srgbClr val="33cc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" name="Text Box 52"/>
              <p:cNvSpPr/>
              <p:nvPr/>
            </p:nvSpPr>
            <p:spPr>
              <a:xfrm>
                <a:off x="392040" y="1415880"/>
                <a:ext cx="831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Project Authorized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71" name="Group 78"/>
            <p:cNvGrpSpPr/>
            <p:nvPr/>
          </p:nvGrpSpPr>
          <p:grpSpPr>
            <a:xfrm>
              <a:off x="1486080" y="1382760"/>
              <a:ext cx="838080" cy="459000"/>
              <a:chOff x="1486080" y="1382760"/>
              <a:chExt cx="838080" cy="459000"/>
            </a:xfrm>
          </p:grpSpPr>
          <p:sp>
            <p:nvSpPr>
              <p:cNvPr id="472" name="Rectangle 54"/>
              <p:cNvSpPr/>
              <p:nvPr/>
            </p:nvSpPr>
            <p:spPr>
              <a:xfrm>
                <a:off x="1486080" y="1447920"/>
                <a:ext cx="838080" cy="355320"/>
              </a:xfrm>
              <a:prstGeom prst="rect">
                <a:avLst/>
              </a:prstGeom>
              <a:solidFill>
                <a:srgbClr val="accbf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3" name="Text Box 55"/>
              <p:cNvSpPr/>
              <p:nvPr/>
            </p:nvSpPr>
            <p:spPr>
              <a:xfrm>
                <a:off x="1568520" y="1382760"/>
                <a:ext cx="64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Define Projec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4" name="Line 56"/>
            <p:cNvSpPr/>
            <p:nvPr/>
          </p:nvSpPr>
          <p:spPr>
            <a:xfrm>
              <a:off x="1193040" y="1612800"/>
              <a:ext cx="30492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5" name="Line 57"/>
            <p:cNvSpPr/>
            <p:nvPr/>
          </p:nvSpPr>
          <p:spPr>
            <a:xfrm>
              <a:off x="3174840" y="1168560"/>
              <a:ext cx="259092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6" name="Line 58"/>
            <p:cNvSpPr/>
            <p:nvPr/>
          </p:nvSpPr>
          <p:spPr>
            <a:xfrm>
              <a:off x="3174840" y="1181160"/>
              <a:ext cx="0" cy="25380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7" name="Text Box 59"/>
            <p:cNvSpPr/>
            <p:nvPr/>
          </p:nvSpPr>
          <p:spPr>
            <a:xfrm>
              <a:off x="4038480" y="901800"/>
              <a:ext cx="73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00"/>
                  </a:solidFill>
                  <a:latin typeface="Tahoma"/>
                </a:rPr>
                <a:t>Feedback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8" name="Group 60"/>
            <p:cNvGrpSpPr/>
            <p:nvPr/>
          </p:nvGrpSpPr>
          <p:grpSpPr>
            <a:xfrm>
              <a:off x="2782800" y="1395360"/>
              <a:ext cx="838080" cy="459000"/>
              <a:chOff x="2782800" y="1395360"/>
              <a:chExt cx="838080" cy="459000"/>
            </a:xfrm>
          </p:grpSpPr>
          <p:sp>
            <p:nvSpPr>
              <p:cNvPr id="479" name="Rectangle 61"/>
              <p:cNvSpPr/>
              <p:nvPr/>
            </p:nvSpPr>
            <p:spPr>
              <a:xfrm>
                <a:off x="278280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0" name="Text Box 62"/>
              <p:cNvSpPr/>
              <p:nvPr/>
            </p:nvSpPr>
            <p:spPr>
              <a:xfrm>
                <a:off x="2840040" y="1395360"/>
                <a:ext cx="723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Develop Plan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1" name="Group 63"/>
            <p:cNvGrpSpPr/>
            <p:nvPr/>
          </p:nvGrpSpPr>
          <p:grpSpPr>
            <a:xfrm>
              <a:off x="4079880" y="1382760"/>
              <a:ext cx="838080" cy="459000"/>
              <a:chOff x="4079880" y="1382760"/>
              <a:chExt cx="838080" cy="459000"/>
            </a:xfrm>
          </p:grpSpPr>
          <p:sp>
            <p:nvSpPr>
              <p:cNvPr id="482" name="Rectangle 64"/>
              <p:cNvSpPr/>
              <p:nvPr/>
            </p:nvSpPr>
            <p:spPr>
              <a:xfrm>
                <a:off x="407988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3" name="Text Box 65"/>
              <p:cNvSpPr/>
              <p:nvPr/>
            </p:nvSpPr>
            <p:spPr>
              <a:xfrm>
                <a:off x="4162320" y="1382760"/>
                <a:ext cx="64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Launch Plan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4" name="Group 66"/>
            <p:cNvGrpSpPr/>
            <p:nvPr/>
          </p:nvGrpSpPr>
          <p:grpSpPr>
            <a:xfrm>
              <a:off x="5376960" y="1395360"/>
              <a:ext cx="857160" cy="459000"/>
              <a:chOff x="5376960" y="1395360"/>
              <a:chExt cx="857160" cy="459000"/>
            </a:xfrm>
          </p:grpSpPr>
          <p:sp>
            <p:nvSpPr>
              <p:cNvPr id="485" name="Rectangle 67"/>
              <p:cNvSpPr/>
              <p:nvPr/>
            </p:nvSpPr>
            <p:spPr>
              <a:xfrm>
                <a:off x="5396040" y="1447920"/>
                <a:ext cx="83808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6" name="Text Box 68"/>
              <p:cNvSpPr/>
              <p:nvPr/>
            </p:nvSpPr>
            <p:spPr>
              <a:xfrm>
                <a:off x="5376960" y="1395360"/>
                <a:ext cx="850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Monitor &amp; Control 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7" name="Group 69"/>
            <p:cNvGrpSpPr/>
            <p:nvPr/>
          </p:nvGrpSpPr>
          <p:grpSpPr>
            <a:xfrm>
              <a:off x="6692760" y="1395360"/>
              <a:ext cx="889200" cy="459000"/>
              <a:chOff x="6692760" y="1395360"/>
              <a:chExt cx="889200" cy="459000"/>
            </a:xfrm>
          </p:grpSpPr>
          <p:sp>
            <p:nvSpPr>
              <p:cNvPr id="488" name="Rectangle 70"/>
              <p:cNvSpPr/>
              <p:nvPr/>
            </p:nvSpPr>
            <p:spPr>
              <a:xfrm>
                <a:off x="6692760" y="1447920"/>
                <a:ext cx="889200" cy="355320"/>
              </a:xfrm>
              <a:prstGeom prst="rect">
                <a:avLst/>
              </a:prstGeom>
              <a:solidFill>
                <a:srgbClr val="629dd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9" name="Text Box 71"/>
              <p:cNvSpPr/>
              <p:nvPr/>
            </p:nvSpPr>
            <p:spPr>
              <a:xfrm>
                <a:off x="6721920" y="1395360"/>
                <a:ext cx="827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Close Out Projec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90" name="Line 72"/>
            <p:cNvSpPr/>
            <p:nvPr/>
          </p:nvSpPr>
          <p:spPr>
            <a:xfrm>
              <a:off x="5765760" y="1168560"/>
              <a:ext cx="0" cy="27936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" name="Line 73"/>
            <p:cNvSpPr/>
            <p:nvPr/>
          </p:nvSpPr>
          <p:spPr>
            <a:xfrm>
              <a:off x="2336760" y="16383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" name="Line 74"/>
            <p:cNvSpPr/>
            <p:nvPr/>
          </p:nvSpPr>
          <p:spPr>
            <a:xfrm>
              <a:off x="363204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3" name="Line 75"/>
            <p:cNvSpPr/>
            <p:nvPr/>
          </p:nvSpPr>
          <p:spPr>
            <a:xfrm>
              <a:off x="494028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" name="Line 76"/>
            <p:cNvSpPr/>
            <p:nvPr/>
          </p:nvSpPr>
          <p:spPr>
            <a:xfrm>
              <a:off x="6248520" y="1625760"/>
              <a:ext cx="45720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" name="Line 77"/>
            <p:cNvSpPr/>
            <p:nvPr/>
          </p:nvSpPr>
          <p:spPr>
            <a:xfrm>
              <a:off x="7593840" y="1612800"/>
              <a:ext cx="406440" cy="0"/>
            </a:xfrm>
            <a:prstGeom prst="line">
              <a:avLst/>
            </a:prstGeom>
            <a:ln w="12600">
              <a:solidFill>
                <a:srgbClr val="ff5a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01:53:30Z</dcterms:created>
  <dc:creator>Steve Petty</dc:creator>
  <dc:description>Graphics by the Sprint Visual Communications Center
Sharon Schumacher 624-3554</dc:description>
  <dc:language>en-US</dc:language>
  <cp:lastModifiedBy>HP ENVY</cp:lastModifiedBy>
  <cp:lastPrinted>2000-12-19T14:09:33Z</cp:lastPrinted>
  <dcterms:modified xsi:type="dcterms:W3CDTF">2014-11-28T14:27:56Z</dcterms:modified>
  <cp:revision>944</cp:revision>
  <dc:subject>Business Architecture</dc:subject>
  <dc:title>Business Archite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pld.corp.sprint.com/busarch/</vt:lpwstr>
  </property>
  <property fmtid="{D5CDD505-2E9C-101B-9397-08002B2CF9AE}" pid="9" name="LinkColor">
    <vt:r8>16711782</vt:r8>
  </property>
  <property fmtid="{D5CDD505-2E9C-101B-9397-08002B2CF9AE}" pid="10" name="MailAddress">
    <vt:lpwstr>Larry.Creel@mail.sprint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BA Work Folder on local C drive\BA Website\Web Presentation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