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9E9-D2B8-4899-8A3E-7270FA44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3962-FE55-4236-A275-26BCE42C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BEE-7CED-4179-8014-13F9FC38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CEF-8763-421A-882B-A5F69837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ECB1-DB34-45DC-AA0E-75FB0BA2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6E8-CC81-42F4-B143-81D1125C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E96-F974-4F11-AB02-96E685B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D7D-A902-43B2-BBFD-C079F435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7AA-F472-4988-AC0E-986A03B2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FF73-E439-4B04-A082-DD524AF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55A-FE28-4D0A-8E56-8AE1F1B3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0B3-A9B1-4A0B-A7C7-0215636F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554-E916-4417-A659-C83CB21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0A76-DCD5-4D47-B7B3-D8EED10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A85F-1190-4EBF-96BE-E844403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475C-6BF8-4DFA-81B7-BAED123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88A-7BC8-4B98-88AF-C5829CD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39EC-540F-4E97-914F-59A3E896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9D1-E4C8-4DFB-93F4-887729E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4A2B-9EE9-4506-96DA-8B9BA0F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E717-3D4D-477A-AD35-CF199AE9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886D-B40A-467A-B04D-230892D2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E16C-FC84-4EEB-8016-4217B65D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ABDD-8D4E-4C5A-A834-7AC4DBB6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426A-346A-47CF-9DBD-48349462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4AD1-B77C-4A2A-94C2-AE4193B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CAD1-12CE-4C42-949C-95BC0E9B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8D6-378B-4625-AF00-DA21001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F936-685A-49C1-BA52-9C68C9D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1AD5-1719-4107-8368-16709F6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D70B-D47A-4D61-8E80-D0C6B23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232E-2A3F-40E4-9698-990BA78F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99A1-8BFC-4112-91C9-F8D5FFE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73D3-F2D6-482F-8BBB-E48F45B4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EF7C-AF05-4918-B557-3826245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589C-B300-442F-9BFD-66BA3089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8F7D-1D10-4BF2-A307-01C50B42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5339-3863-4989-9E8D-40F916F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F77-582C-4457-A8AE-C671F53D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4619-8397-4ECC-A8B2-0E14B42D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3964-2EC8-4840-97BE-C14A843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38B2-ABAF-472E-A499-31F057A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7BC5D-A32A-4506-BAE5-5027EDF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88A7-5206-477E-9E03-35F63D9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E6C2-4B57-42CA-96EA-82F5ABF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463D-1168-4B15-AB96-A7625EE0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9111-2A17-436C-A693-C2797466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0293-C3EB-42E0-B0DA-F7653DCB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3354-16D5-4853-B5F2-15044B1A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5D4-9A0B-4D5F-9662-8C871884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FEF12-0965-4DDE-AA08-2AD3464D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1CAD-3B2F-4D09-98CF-463ACEA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C03D-B4BD-435B-B289-68FADCD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6F8D-DFE0-4023-93D4-2A8D10A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ADB6-2C0C-4BE7-9295-350DA8E2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CE01-C05E-4F1E-8370-07ACA79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1618-E04B-4311-AC17-688B1E9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227E-3CF1-45F5-9DEE-FA88384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1CC7-1D90-4A3B-8FEB-218224A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6EC5-07CF-46F0-B6F6-166B4745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941-1F89-4CC6-B7B8-DBB025D8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6C16-E753-4DAB-9CB5-F3C2158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252C3-3A33-4ED8-983E-5CED342C51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DAD99-191F-41D8-9CD5-446A572A5E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DC2F6-9F86-4FE2-8E10-27A8985400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C34C7-8C5B-4108-B6D1-65A5EBE60C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25297-448C-4C9C-AF2A-4A6887DFA5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C97F2-BA60-4C87-976B-6128C06E06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19EA1-C681-41D8-8E4D-F43149047B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89B51-1A89-4DB6-B8CC-D1F1449FC7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32FFD-71D3-4EEB-9A3D-AE437530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11C-5E61-456D-A4EA-FF2CD3E5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9DFBC-5F7F-4AF0-BEC9-9C543E9F46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8C334-4893-4E53-B662-4FB9885E99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EB07C-7342-407F-AEA2-2494EF924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ED1-580C-4C2A-895E-912ADF9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142-7AD0-44F6-A64F-4EC187D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6168-B3C7-406C-9913-7FC29436393E}" type="datetime3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8-</a:t>
            </a:r>
            <a:fld id="{1EA244FB-86DB-4354-B51A-2031656A4E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E7A-AF28-42CE-A9EC-6FB0757E32B5}" type="datetime3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140-4969-446A-927F-FE170F40A1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93F1-77CF-43DF-A01E-7CD70B7BDF0B}" type="datetime3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8-</a:t>
            </a:r>
            <a:fld id="{CA8A8FEC-AA62-495B-96C8-FC52A237ED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2819-9A2A-4460-82DD-4F242C0923BB}" type="datetime3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8-</a:t>
            </a:r>
            <a:fld id="{9765FECE-E639-43D4-BF6D-279A5747A1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6A06-5A79-495A-A2AD-65EC3468E97C}" type="datetime3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8-</a:t>
            </a:r>
            <a:fld id="{372C651C-BA5F-4AF7-B31F-1CB099051D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6"/>
          </p:nvPr>
        </p:nvSpPr>
        <p:spPr>
          <a:xfrm>
            <a:off x="837720" y="6377040"/>
            <a:ext cx="538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7"/>
          </p:nvPr>
        </p:nvSpPr>
        <p:spPr>
          <a:xfrm>
            <a:off x="6910920" y="6444000"/>
            <a:ext cx="155160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8-</a:t>
            </a:r>
            <a:fld id="{E9AC1843-6F03-4564-87D7-B77DF036A4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Franklin Gothic Book"/>
              </a:rPr>
              <a:t>Human Resour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819520" y="12193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Employee Compensa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1424-2B36-426A-987B-BA6C142398F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ypes of pa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urly w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onger someone works, the more s/he is pai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dividual incentive or piece r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loyees are paid for the number of units they produce during the workda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raight sal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mon form of payment for manag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iss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ually applied to sales and salespeop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mployee Compensation (cont.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D0E-479C-4614-9219-4D32663281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95280" y="2209680"/>
            <a:ext cx="64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ainsha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incentive plan joins employees in a common effort to achieve company goals in which they share in the gai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fit sha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ts aside a portion of profits for employees at year’s e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Managing Diversity in Workpla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opyright 2006 John Wiley &amp; Son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29D-C23D-441E-858D-0A7E65DF7B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orkforce has become more diver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4 out of every 10 people entering the workforce during the decade from 1998 to 2008 will be members of minority group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2000, U.S. Census  showed that some minorities, primarily Hispanic and Asian, are becoming majorit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mpanies must develop a strategic approach to managing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Affirmative Actions vs. Managing Diversit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7711-8CC6-45B4-8D7F-7DA13C6574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 outgrowth of laws and regul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overnment initiated and mandat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goals and timetables designed to increase  level of participation by women and minorities to attain parity levels in a company’s workfor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t directly concerned with increasing company success or increasing pro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aging divers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cess of creating a work environment in which all employees can contribute to their full potential in order to achieve a company’s go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luntary in nature, not mandat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eks to improve internal communications and interpersonal relationships, resolve conflict, and increase product quality, productivity, and efficienc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versity Management Progra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warene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mmit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14" descr="diversity"/>
          <p:cNvPicPr/>
          <p:nvPr/>
        </p:nvPicPr>
        <p:blipFill>
          <a:blip r:embed="rId1"/>
          <a:stretch/>
        </p:blipFill>
        <p:spPr>
          <a:xfrm>
            <a:off x="4952880" y="2514600"/>
            <a:ext cx="3121200" cy="317808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5"/>
          <p:cNvSpPr/>
          <p:nvPr/>
        </p:nvSpPr>
        <p:spPr>
          <a:xfrm>
            <a:off x="304920" y="624852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DD8-94AF-4AD2-B544-ADD8429088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lobal Diversity Issu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FDD-2458-436B-8B6C-3D6C87BFDB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ultural, language, geograph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gnificant barriers to managing a globall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-mails, faxes, Internet, phones, air tra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ke managing a global workforce possible but not necessarily effec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 to deal with diversit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dentify critical cultural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arn  informal rules of communic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 a third party who is better able to bridge  cultural ga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come culturally aware and learn foreign langua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ach employees  cultural norm of  organiz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ttributes of Good Job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2B73-B7EE-43AF-B491-011B24BA26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09280" y="22906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appropriate degree of repetitiven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appropriate degree of attention and mental absorp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employee responsibility for decisions and discre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loyee control over their own jo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863960" y="22906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oals and achievement feedbac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erceived contribution to a useful product or serv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rtunities for personal relationships and friendship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influence over the way work is carried out in group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of skil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Factors in Job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609-550C-4863-ADE3-2B8859F670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90720" y="2286000"/>
            <a:ext cx="7315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ask analy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w tasks fit together to form a jo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er analy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termining worker capabilities and responsibilities for a jo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nvironment analy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haracteristics and location of a jo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rgonomic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tting  task to person in a work environ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chnology and auto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roadened scope of job desig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lements of Job Desig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Task Analysi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64EE-BDE1-475D-BE06-4A9E1B2045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447920" y="2209680"/>
            <a:ext cx="5181480" cy="403884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905120" y="2362320"/>
            <a:ext cx="5638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task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f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ity of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with other jobs/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duration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SzPct val="85000"/>
              <a:buFont typeface="Wingdings" charset="2"/>
              <a:buChar char="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lements of Job Desig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Work Analysi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D9C-BE7F-4CC3-B705-AFA7608E5B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85800" y="2438280"/>
            <a:ext cx="7848720" cy="320040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38080" y="2743200"/>
            <a:ext cx="41911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18108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257800" y="2743200"/>
            <a:ext cx="38862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m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ecture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F23-033A-4C3E-B5E5-E85E4E3448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95280" y="2286000"/>
            <a:ext cx="5562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 Resources and Total Quality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ing Nature of Human Resources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emporary Trends in Human Resources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loyee Compens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aging Diversity in Workpl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arning Curv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lements of Job Desig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Environmental Analysi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E3FA-4ABC-4EF5-B55A-C7A53ECB3C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1447920" y="2209680"/>
            <a:ext cx="5181480" cy="403884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905120" y="2362320"/>
            <a:ext cx="5638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and 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96a9a9"/>
              </a:buClr>
              <a:buFont typeface="Wingdings" charset="2"/>
              <a:buChar char=""/>
              <a:tabLst>
                <a:tab algn="ctr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Process Flowchart Symbo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A670-BD4C-4387-8A9A-ECB2D6D59D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762120" y="1447920"/>
            <a:ext cx="8001000" cy="480060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990720" y="1600200"/>
            <a:ext cx="7583400" cy="828000"/>
            <a:chOff x="990720" y="1600200"/>
            <a:chExt cx="7583400" cy="828000"/>
          </a:xfrm>
        </p:grpSpPr>
        <p:sp>
          <p:nvSpPr>
            <p:cNvPr id="372" name="Oval 4"/>
            <p:cNvSpPr/>
            <p:nvPr/>
          </p:nvSpPr>
          <p:spPr>
            <a:xfrm>
              <a:off x="990720" y="1657440"/>
              <a:ext cx="384120" cy="372960"/>
            </a:xfrm>
            <a:prstGeom prst="ellipse">
              <a:avLst/>
            </a:prstGeom>
            <a:solidFill>
              <a:srgbClr val="e6b3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1781280" y="1600200"/>
              <a:ext cx="679284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pe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 activity directly contributing to  product o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6"/>
          <p:cNvGrpSpPr/>
          <p:nvPr/>
        </p:nvGrpSpPr>
        <p:grpSpPr>
          <a:xfrm>
            <a:off x="545040" y="5105520"/>
            <a:ext cx="6271200" cy="764640"/>
            <a:chOff x="545040" y="5105520"/>
            <a:chExt cx="6271200" cy="764640"/>
          </a:xfrm>
        </p:grpSpPr>
        <p:sp>
          <p:nvSpPr>
            <p:cNvPr id="375" name="AutoShape 7"/>
            <p:cNvSpPr/>
            <p:nvPr/>
          </p:nvSpPr>
          <p:spPr>
            <a:xfrm flipH="1" rot="10800000">
              <a:off x="1065600" y="5162760"/>
              <a:ext cx="452520" cy="390240"/>
            </a:xfrm>
            <a:prstGeom prst="triangle">
              <a:avLst>
                <a:gd name="adj" fmla="val 49995"/>
              </a:avLst>
            </a:prstGeom>
            <a:solidFill>
              <a:srgbClr val="e6b3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"/>
            <p:cNvSpPr/>
            <p:nvPr/>
          </p:nvSpPr>
          <p:spPr>
            <a:xfrm>
              <a:off x="545040" y="5105520"/>
              <a:ext cx="62712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39920" indent="-13399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orag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339920" indent="-13399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e of the product o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9"/>
          <p:cNvGrpSpPr/>
          <p:nvPr/>
        </p:nvGrpSpPr>
        <p:grpSpPr>
          <a:xfrm>
            <a:off x="1143000" y="3200400"/>
            <a:ext cx="7518240" cy="1069560"/>
            <a:chOff x="1143000" y="3200400"/>
            <a:chExt cx="7518240" cy="1069560"/>
          </a:xfrm>
        </p:grpSpPr>
        <p:sp>
          <p:nvSpPr>
            <p:cNvPr id="378" name="Rectangle 10"/>
            <p:cNvSpPr/>
            <p:nvPr/>
          </p:nvSpPr>
          <p:spPr>
            <a:xfrm>
              <a:off x="1143000" y="3257280"/>
              <a:ext cx="336600" cy="336600"/>
            </a:xfrm>
            <a:prstGeom prst="rect">
              <a:avLst/>
            </a:prstGeom>
            <a:solidFill>
              <a:srgbClr val="e6b3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1"/>
            <p:cNvSpPr/>
            <p:nvPr/>
          </p:nvSpPr>
          <p:spPr>
            <a:xfrm>
              <a:off x="1909800" y="3200400"/>
              <a:ext cx="6751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ining the product or service for completeness, irregularities, or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2"/>
          <p:cNvGrpSpPr/>
          <p:nvPr/>
        </p:nvGrpSpPr>
        <p:grpSpPr>
          <a:xfrm>
            <a:off x="1066680" y="2438280"/>
            <a:ext cx="7747200" cy="764640"/>
            <a:chOff x="1066680" y="2438280"/>
            <a:chExt cx="7747200" cy="764640"/>
          </a:xfrm>
        </p:grpSpPr>
        <p:sp>
          <p:nvSpPr>
            <p:cNvPr id="381" name="AutoShape 13"/>
            <p:cNvSpPr/>
            <p:nvPr/>
          </p:nvSpPr>
          <p:spPr>
            <a:xfrm>
              <a:off x="1066680" y="2495520"/>
              <a:ext cx="420840" cy="399960"/>
            </a:xfrm>
            <a:prstGeom prst="rightArrow">
              <a:avLst>
                <a:gd name="adj1" fmla="val 50000"/>
                <a:gd name="adj2" fmla="val 52615"/>
              </a:avLst>
            </a:prstGeom>
            <a:solidFill>
              <a:srgbClr val="e6b3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1874880" y="2438280"/>
              <a:ext cx="69390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nspor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ving the product or service from one location to an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5"/>
          <p:cNvGrpSpPr/>
          <p:nvPr/>
        </p:nvGrpSpPr>
        <p:grpSpPr>
          <a:xfrm>
            <a:off x="931320" y="4267080"/>
            <a:ext cx="4818240" cy="764640"/>
            <a:chOff x="931320" y="4267080"/>
            <a:chExt cx="4818240" cy="764640"/>
          </a:xfrm>
        </p:grpSpPr>
        <p:sp>
          <p:nvSpPr>
            <p:cNvPr id="384" name="Rectangle 16"/>
            <p:cNvSpPr/>
            <p:nvPr/>
          </p:nvSpPr>
          <p:spPr>
            <a:xfrm>
              <a:off x="931320" y="4267080"/>
              <a:ext cx="48182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044720" indent="-10447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la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44720" indent="-104472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having to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17"/>
            <p:cNvSpPr/>
            <p:nvPr/>
          </p:nvSpPr>
          <p:spPr>
            <a:xfrm>
              <a:off x="1219320" y="4324320"/>
              <a:ext cx="324000" cy="381240"/>
            </a:xfrm>
            <a:prstGeom prst="flowChartDelay">
              <a:avLst/>
            </a:prstGeom>
            <a:solidFill>
              <a:srgbClr val="e6b3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Process Flowchart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3234-AB64-4B21-9AE7-C1A942CB53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124"/>
          <p:cNvGrpSpPr/>
          <p:nvPr/>
        </p:nvGrpSpPr>
        <p:grpSpPr>
          <a:xfrm>
            <a:off x="1752480" y="1219320"/>
            <a:ext cx="5764320" cy="5265360"/>
            <a:chOff x="1752480" y="1219320"/>
            <a:chExt cx="5764320" cy="5265360"/>
          </a:xfrm>
        </p:grpSpPr>
        <p:sp>
          <p:nvSpPr>
            <p:cNvPr id="389" name="Rectangle 5"/>
            <p:cNvSpPr/>
            <p:nvPr/>
          </p:nvSpPr>
          <p:spPr>
            <a:xfrm>
              <a:off x="1752480" y="1230480"/>
              <a:ext cx="5757840" cy="524952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>
              <a:off x="5172480" y="1228680"/>
              <a:ext cx="2180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e:              9/11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7"/>
            <p:cNvSpPr/>
            <p:nvPr/>
          </p:nvSpPr>
          <p:spPr>
            <a:xfrm>
              <a:off x="5178240" y="1519200"/>
              <a:ext cx="1972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alyst:       Calvin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>
              <a:off x="1802520" y="1243080"/>
              <a:ext cx="2135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:      Copying Job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5186880" y="1828800"/>
              <a:ext cx="66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1755720" y="1219320"/>
              <a:ext cx="5757840" cy="526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1"/>
            <p:cNvSpPr/>
            <p:nvPr/>
          </p:nvSpPr>
          <p:spPr>
            <a:xfrm>
              <a:off x="2378160" y="1515960"/>
              <a:ext cx="13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2"/>
            <p:cNvGrpSpPr/>
            <p:nvPr/>
          </p:nvGrpSpPr>
          <p:grpSpPr>
            <a:xfrm>
              <a:off x="1755720" y="2035080"/>
              <a:ext cx="5761080" cy="4449600"/>
              <a:chOff x="1755720" y="2035080"/>
              <a:chExt cx="5761080" cy="4449600"/>
            </a:xfrm>
          </p:grpSpPr>
          <p:grpSp>
            <p:nvGrpSpPr>
              <p:cNvPr id="397" name="Group 13"/>
              <p:cNvGrpSpPr/>
              <p:nvPr/>
            </p:nvGrpSpPr>
            <p:grpSpPr>
              <a:xfrm>
                <a:off x="1815480" y="2425680"/>
                <a:ext cx="3997440" cy="4034160"/>
                <a:chOff x="1815480" y="2425680"/>
                <a:chExt cx="3997440" cy="4034160"/>
              </a:xfrm>
            </p:grpSpPr>
            <p:sp>
              <p:nvSpPr>
                <p:cNvPr id="398" name="Rectangle 14"/>
                <p:cNvSpPr/>
                <p:nvPr/>
              </p:nvSpPr>
              <p:spPr>
                <a:xfrm>
                  <a:off x="1820880" y="2425680"/>
                  <a:ext cx="3037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k operator fills out work or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15"/>
                <p:cNvSpPr/>
                <p:nvPr/>
              </p:nvSpPr>
              <p:spPr>
                <a:xfrm>
                  <a:off x="1819080" y="2712960"/>
                  <a:ext cx="3482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ork order placed in “waiting job” bo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16"/>
                <p:cNvSpPr/>
                <p:nvPr/>
              </p:nvSpPr>
              <p:spPr>
                <a:xfrm>
                  <a:off x="1821240" y="3000240"/>
                  <a:ext cx="32004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ob picked up by operator and rea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7"/>
                <p:cNvSpPr/>
                <p:nvPr/>
              </p:nvSpPr>
              <p:spPr>
                <a:xfrm>
                  <a:off x="1819800" y="3287520"/>
                  <a:ext cx="362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ob carried to appropriate copy machi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8"/>
                <p:cNvSpPr/>
                <p:nvPr/>
              </p:nvSpPr>
              <p:spPr>
                <a:xfrm>
                  <a:off x="1819440" y="3574800"/>
                  <a:ext cx="3314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or waits for machine to vac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19"/>
                <p:cNvSpPr/>
                <p:nvPr/>
              </p:nvSpPr>
              <p:spPr>
                <a:xfrm>
                  <a:off x="1825200" y="3862440"/>
                  <a:ext cx="19843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or loads pap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20"/>
                <p:cNvSpPr/>
                <p:nvPr/>
              </p:nvSpPr>
              <p:spPr>
                <a:xfrm>
                  <a:off x="1824480" y="4149720"/>
                  <a:ext cx="2113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or sets machi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21"/>
                <p:cNvSpPr/>
                <p:nvPr/>
              </p:nvSpPr>
              <p:spPr>
                <a:xfrm>
                  <a:off x="1821600" y="4435560"/>
                  <a:ext cx="3371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or performs and completes jo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22"/>
                <p:cNvSpPr/>
                <p:nvPr/>
              </p:nvSpPr>
              <p:spPr>
                <a:xfrm>
                  <a:off x="1815480" y="5010120"/>
                  <a:ext cx="39974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ob filed alphabetically in completed shelv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23"/>
                <p:cNvSpPr/>
                <p:nvPr/>
              </p:nvSpPr>
              <p:spPr>
                <a:xfrm>
                  <a:off x="1823760" y="5297400"/>
                  <a:ext cx="1955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ob waits for pick u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4"/>
                <p:cNvSpPr/>
                <p:nvPr/>
              </p:nvSpPr>
              <p:spPr>
                <a:xfrm>
                  <a:off x="1821240" y="5584680"/>
                  <a:ext cx="301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ob moved by cashier for pick u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25"/>
                <p:cNvSpPr/>
                <p:nvPr/>
              </p:nvSpPr>
              <p:spPr>
                <a:xfrm>
                  <a:off x="1822680" y="5871960"/>
                  <a:ext cx="2776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ashier completes transa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26"/>
                <p:cNvSpPr/>
                <p:nvPr/>
              </p:nvSpPr>
              <p:spPr>
                <a:xfrm>
                  <a:off x="1818360" y="4722840"/>
                  <a:ext cx="3445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or inspects job for irregular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27"/>
                <p:cNvSpPr/>
                <p:nvPr/>
              </p:nvSpPr>
              <p:spPr>
                <a:xfrm>
                  <a:off x="1818720" y="6157800"/>
                  <a:ext cx="3659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ashier packages job (bag, wrap, or box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AutoShape 28"/>
              <p:cNvSpPr/>
              <p:nvPr/>
            </p:nvSpPr>
            <p:spPr>
              <a:xfrm>
                <a:off x="6919920" y="25160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29"/>
              <p:cNvSpPr/>
              <p:nvPr/>
            </p:nvSpPr>
            <p:spPr>
              <a:xfrm>
                <a:off x="6553440" y="25081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AutoShape 30"/>
              <p:cNvSpPr/>
              <p:nvPr/>
            </p:nvSpPr>
            <p:spPr>
              <a:xfrm>
                <a:off x="6220080" y="250164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31"/>
              <p:cNvSpPr/>
              <p:nvPr/>
            </p:nvSpPr>
            <p:spPr>
              <a:xfrm>
                <a:off x="5888160" y="250344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AutoShape 32"/>
              <p:cNvSpPr/>
              <p:nvPr/>
            </p:nvSpPr>
            <p:spPr>
              <a:xfrm flipV="1">
                <a:off x="7210440" y="25146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AutoShape 33"/>
              <p:cNvSpPr/>
              <p:nvPr/>
            </p:nvSpPr>
            <p:spPr>
              <a:xfrm>
                <a:off x="6919920" y="2801880"/>
                <a:ext cx="112680" cy="139680"/>
              </a:xfrm>
              <a:prstGeom prst="flowChartDelay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4"/>
              <p:cNvSpPr/>
              <p:nvPr/>
            </p:nvSpPr>
            <p:spPr>
              <a:xfrm>
                <a:off x="6553440" y="279396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AutoShape 35"/>
              <p:cNvSpPr/>
              <p:nvPr/>
            </p:nvSpPr>
            <p:spPr>
              <a:xfrm>
                <a:off x="6220080" y="27874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36"/>
              <p:cNvSpPr/>
              <p:nvPr/>
            </p:nvSpPr>
            <p:spPr>
              <a:xfrm>
                <a:off x="5888160" y="2789280"/>
                <a:ext cx="162000" cy="16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AutoShape 37"/>
              <p:cNvSpPr/>
              <p:nvPr/>
            </p:nvSpPr>
            <p:spPr>
              <a:xfrm flipV="1">
                <a:off x="7210440" y="2799360"/>
                <a:ext cx="162000" cy="14004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AutoShape 38"/>
              <p:cNvSpPr/>
              <p:nvPr/>
            </p:nvSpPr>
            <p:spPr>
              <a:xfrm>
                <a:off x="6919920" y="5379840"/>
                <a:ext cx="112680" cy="139680"/>
              </a:xfrm>
              <a:prstGeom prst="flowChartDelay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39"/>
              <p:cNvSpPr/>
              <p:nvPr/>
            </p:nvSpPr>
            <p:spPr>
              <a:xfrm>
                <a:off x="6553440" y="53719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6220080" y="53658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41"/>
              <p:cNvSpPr/>
              <p:nvPr/>
            </p:nvSpPr>
            <p:spPr>
              <a:xfrm>
                <a:off x="5888160" y="536724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utoShape 42"/>
              <p:cNvSpPr/>
              <p:nvPr/>
            </p:nvSpPr>
            <p:spPr>
              <a:xfrm flipV="1">
                <a:off x="7210440" y="53784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AutoShape 43"/>
              <p:cNvSpPr/>
              <p:nvPr/>
            </p:nvSpPr>
            <p:spPr>
              <a:xfrm>
                <a:off x="6919920" y="509436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44"/>
              <p:cNvSpPr/>
              <p:nvPr/>
            </p:nvSpPr>
            <p:spPr>
              <a:xfrm>
                <a:off x="6553440" y="508608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AutoShape 45"/>
              <p:cNvSpPr/>
              <p:nvPr/>
            </p:nvSpPr>
            <p:spPr>
              <a:xfrm>
                <a:off x="6220080" y="507996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46"/>
              <p:cNvSpPr/>
              <p:nvPr/>
            </p:nvSpPr>
            <p:spPr>
              <a:xfrm>
                <a:off x="5888160" y="508140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AutoShape 47"/>
              <p:cNvSpPr/>
              <p:nvPr/>
            </p:nvSpPr>
            <p:spPr>
              <a:xfrm flipV="1">
                <a:off x="7210440" y="50925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AutoShape 48"/>
              <p:cNvSpPr/>
              <p:nvPr/>
            </p:nvSpPr>
            <p:spPr>
              <a:xfrm>
                <a:off x="6919920" y="3087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9"/>
              <p:cNvSpPr/>
              <p:nvPr/>
            </p:nvSpPr>
            <p:spPr>
              <a:xfrm>
                <a:off x="6553440" y="3079800"/>
                <a:ext cx="155520" cy="155520"/>
              </a:xfrm>
              <a:prstGeom prst="rect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AutoShape 50"/>
              <p:cNvSpPr/>
              <p:nvPr/>
            </p:nvSpPr>
            <p:spPr>
              <a:xfrm>
                <a:off x="6220080" y="30733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51"/>
              <p:cNvSpPr/>
              <p:nvPr/>
            </p:nvSpPr>
            <p:spPr>
              <a:xfrm>
                <a:off x="5888160" y="307476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AutoShape 52"/>
              <p:cNvSpPr/>
              <p:nvPr/>
            </p:nvSpPr>
            <p:spPr>
              <a:xfrm flipV="1">
                <a:off x="7210440" y="30859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AutoShape 53"/>
              <p:cNvSpPr/>
              <p:nvPr/>
            </p:nvSpPr>
            <p:spPr>
              <a:xfrm>
                <a:off x="6919920" y="337500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54"/>
              <p:cNvSpPr/>
              <p:nvPr/>
            </p:nvSpPr>
            <p:spPr>
              <a:xfrm>
                <a:off x="6553440" y="336708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AutoShape 55"/>
              <p:cNvSpPr/>
              <p:nvPr/>
            </p:nvSpPr>
            <p:spPr>
              <a:xfrm>
                <a:off x="6220080" y="33606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Oval 56"/>
              <p:cNvSpPr/>
              <p:nvPr/>
            </p:nvSpPr>
            <p:spPr>
              <a:xfrm>
                <a:off x="5888160" y="3362400"/>
                <a:ext cx="162000" cy="16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AutoShape 57"/>
              <p:cNvSpPr/>
              <p:nvPr/>
            </p:nvSpPr>
            <p:spPr>
              <a:xfrm flipV="1">
                <a:off x="7210440" y="33732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AutoShape 58"/>
              <p:cNvSpPr/>
              <p:nvPr/>
            </p:nvSpPr>
            <p:spPr>
              <a:xfrm>
                <a:off x="6919920" y="3660840"/>
                <a:ext cx="112680" cy="139680"/>
              </a:xfrm>
              <a:prstGeom prst="flowChartDelay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59"/>
              <p:cNvSpPr/>
              <p:nvPr/>
            </p:nvSpPr>
            <p:spPr>
              <a:xfrm>
                <a:off x="6553440" y="36529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AutoShape 60"/>
              <p:cNvSpPr/>
              <p:nvPr/>
            </p:nvSpPr>
            <p:spPr>
              <a:xfrm>
                <a:off x="6220080" y="364644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Oval 61"/>
              <p:cNvSpPr/>
              <p:nvPr/>
            </p:nvSpPr>
            <p:spPr>
              <a:xfrm>
                <a:off x="5888160" y="364788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AutoShape 62"/>
              <p:cNvSpPr/>
              <p:nvPr/>
            </p:nvSpPr>
            <p:spPr>
              <a:xfrm flipV="1">
                <a:off x="7210440" y="36590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AutoShape 63"/>
              <p:cNvSpPr/>
              <p:nvPr/>
            </p:nvSpPr>
            <p:spPr>
              <a:xfrm>
                <a:off x="6919920" y="39481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64"/>
              <p:cNvSpPr/>
              <p:nvPr/>
            </p:nvSpPr>
            <p:spPr>
              <a:xfrm>
                <a:off x="6553440" y="394020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AutoShape 65"/>
              <p:cNvSpPr/>
              <p:nvPr/>
            </p:nvSpPr>
            <p:spPr>
              <a:xfrm>
                <a:off x="6220080" y="39337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Oval 66"/>
              <p:cNvSpPr/>
              <p:nvPr/>
            </p:nvSpPr>
            <p:spPr>
              <a:xfrm>
                <a:off x="5888160" y="393516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AutoShape 67"/>
              <p:cNvSpPr/>
              <p:nvPr/>
            </p:nvSpPr>
            <p:spPr>
              <a:xfrm flipV="1">
                <a:off x="7210440" y="39463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AutoShape 68"/>
              <p:cNvSpPr/>
              <p:nvPr/>
            </p:nvSpPr>
            <p:spPr>
              <a:xfrm>
                <a:off x="6919920" y="423360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69"/>
              <p:cNvSpPr/>
              <p:nvPr/>
            </p:nvSpPr>
            <p:spPr>
              <a:xfrm>
                <a:off x="6553440" y="422568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AutoShape 70"/>
              <p:cNvSpPr/>
              <p:nvPr/>
            </p:nvSpPr>
            <p:spPr>
              <a:xfrm>
                <a:off x="6220080" y="421956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71"/>
              <p:cNvSpPr/>
              <p:nvPr/>
            </p:nvSpPr>
            <p:spPr>
              <a:xfrm>
                <a:off x="5888160" y="422100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AutoShape 72"/>
              <p:cNvSpPr/>
              <p:nvPr/>
            </p:nvSpPr>
            <p:spPr>
              <a:xfrm flipV="1">
                <a:off x="7210440" y="423216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AutoShape 73"/>
              <p:cNvSpPr/>
              <p:nvPr/>
            </p:nvSpPr>
            <p:spPr>
              <a:xfrm>
                <a:off x="6919920" y="45212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74"/>
              <p:cNvSpPr/>
              <p:nvPr/>
            </p:nvSpPr>
            <p:spPr>
              <a:xfrm>
                <a:off x="6553440" y="45133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AutoShape 75"/>
              <p:cNvSpPr/>
              <p:nvPr/>
            </p:nvSpPr>
            <p:spPr>
              <a:xfrm>
                <a:off x="6220080" y="450684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76"/>
              <p:cNvSpPr/>
              <p:nvPr/>
            </p:nvSpPr>
            <p:spPr>
              <a:xfrm>
                <a:off x="5888160" y="450828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AutoShape 77"/>
              <p:cNvSpPr/>
              <p:nvPr/>
            </p:nvSpPr>
            <p:spPr>
              <a:xfrm flipV="1">
                <a:off x="7210440" y="451944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AutoShape 78"/>
              <p:cNvSpPr/>
              <p:nvPr/>
            </p:nvSpPr>
            <p:spPr>
              <a:xfrm>
                <a:off x="6919920" y="480672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79"/>
              <p:cNvSpPr/>
              <p:nvPr/>
            </p:nvSpPr>
            <p:spPr>
              <a:xfrm>
                <a:off x="6553440" y="4798800"/>
                <a:ext cx="155520" cy="155520"/>
              </a:xfrm>
              <a:prstGeom prst="rect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AutoShape 80"/>
              <p:cNvSpPr/>
              <p:nvPr/>
            </p:nvSpPr>
            <p:spPr>
              <a:xfrm>
                <a:off x="6220080" y="47926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81"/>
              <p:cNvSpPr/>
              <p:nvPr/>
            </p:nvSpPr>
            <p:spPr>
              <a:xfrm>
                <a:off x="5888160" y="479412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2"/>
              <p:cNvSpPr/>
              <p:nvPr/>
            </p:nvSpPr>
            <p:spPr>
              <a:xfrm flipV="1">
                <a:off x="7210440" y="48052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AutoShape 83"/>
              <p:cNvSpPr/>
              <p:nvPr/>
            </p:nvSpPr>
            <p:spPr>
              <a:xfrm>
                <a:off x="6919920" y="5667120"/>
                <a:ext cx="112680" cy="14004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84"/>
              <p:cNvSpPr/>
              <p:nvPr/>
            </p:nvSpPr>
            <p:spPr>
              <a:xfrm>
                <a:off x="6553440" y="5659200"/>
                <a:ext cx="155520" cy="155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85"/>
              <p:cNvSpPr/>
              <p:nvPr/>
            </p:nvSpPr>
            <p:spPr>
              <a:xfrm>
                <a:off x="6220080" y="565308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Oval 86"/>
              <p:cNvSpPr/>
              <p:nvPr/>
            </p:nvSpPr>
            <p:spPr>
              <a:xfrm>
                <a:off x="5888160" y="5654520"/>
                <a:ext cx="162000" cy="162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utoShape 87"/>
              <p:cNvSpPr/>
              <p:nvPr/>
            </p:nvSpPr>
            <p:spPr>
              <a:xfrm flipV="1">
                <a:off x="7210440" y="566568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AutoShape 88"/>
              <p:cNvSpPr/>
              <p:nvPr/>
            </p:nvSpPr>
            <p:spPr>
              <a:xfrm>
                <a:off x="6919920" y="595296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89"/>
              <p:cNvSpPr/>
              <p:nvPr/>
            </p:nvSpPr>
            <p:spPr>
              <a:xfrm>
                <a:off x="6553440" y="594504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AutoShape 90"/>
              <p:cNvSpPr/>
              <p:nvPr/>
            </p:nvSpPr>
            <p:spPr>
              <a:xfrm>
                <a:off x="6220080" y="593892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Oval 91"/>
              <p:cNvSpPr/>
              <p:nvPr/>
            </p:nvSpPr>
            <p:spPr>
              <a:xfrm>
                <a:off x="5888160" y="594036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AutoShape 92"/>
              <p:cNvSpPr/>
              <p:nvPr/>
            </p:nvSpPr>
            <p:spPr>
              <a:xfrm flipV="1">
                <a:off x="7210440" y="595152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AutoShape 93"/>
              <p:cNvSpPr/>
              <p:nvPr/>
            </p:nvSpPr>
            <p:spPr>
              <a:xfrm>
                <a:off x="6919920" y="6240240"/>
                <a:ext cx="112680" cy="139680"/>
              </a:xfrm>
              <a:prstGeom prst="flowChartDelay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94"/>
              <p:cNvSpPr/>
              <p:nvPr/>
            </p:nvSpPr>
            <p:spPr>
              <a:xfrm>
                <a:off x="6553440" y="6232320"/>
                <a:ext cx="155520" cy="155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AutoShape 95"/>
              <p:cNvSpPr/>
              <p:nvPr/>
            </p:nvSpPr>
            <p:spPr>
              <a:xfrm>
                <a:off x="6220080" y="6226200"/>
                <a:ext cx="172800" cy="166680"/>
              </a:xfrm>
              <a:prstGeom prst="rightArrow">
                <a:avLst>
                  <a:gd name="adj1" fmla="val 68694"/>
                  <a:gd name="adj2" fmla="val 5611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Oval 96"/>
              <p:cNvSpPr/>
              <p:nvPr/>
            </p:nvSpPr>
            <p:spPr>
              <a:xfrm>
                <a:off x="5888160" y="6227640"/>
                <a:ext cx="162000" cy="162000"/>
              </a:xfrm>
              <a:prstGeom prst="ellipse">
                <a:avLst/>
              </a:prstGeom>
              <a:solidFill>
                <a:srgbClr val="e6b3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AutoShape 97"/>
              <p:cNvSpPr/>
              <p:nvPr/>
            </p:nvSpPr>
            <p:spPr>
              <a:xfrm flipV="1">
                <a:off x="7210440" y="6238800"/>
                <a:ext cx="162000" cy="1396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98"/>
              <p:cNvSpPr/>
              <p:nvPr/>
            </p:nvSpPr>
            <p:spPr>
              <a:xfrm>
                <a:off x="2887920" y="2146320"/>
                <a:ext cx="190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 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Rectangle 99"/>
              <p:cNvSpPr/>
              <p:nvPr/>
            </p:nvSpPr>
            <p:spPr>
              <a:xfrm>
                <a:off x="5808960" y="2146320"/>
                <a:ext cx="16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 Symb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Line 100"/>
              <p:cNvSpPr/>
              <p:nvPr/>
            </p:nvSpPr>
            <p:spPr>
              <a:xfrm>
                <a:off x="1755720" y="21366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101"/>
              <p:cNvSpPr/>
              <p:nvPr/>
            </p:nvSpPr>
            <p:spPr>
              <a:xfrm>
                <a:off x="1758960" y="24303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102"/>
              <p:cNvSpPr/>
              <p:nvPr/>
            </p:nvSpPr>
            <p:spPr>
              <a:xfrm>
                <a:off x="1758960" y="27399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Line 103"/>
              <p:cNvSpPr/>
              <p:nvPr/>
            </p:nvSpPr>
            <p:spPr>
              <a:xfrm>
                <a:off x="1760760" y="300492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Line 104"/>
              <p:cNvSpPr/>
              <p:nvPr/>
            </p:nvSpPr>
            <p:spPr>
              <a:xfrm>
                <a:off x="1760760" y="331308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105"/>
              <p:cNvSpPr/>
              <p:nvPr/>
            </p:nvSpPr>
            <p:spPr>
              <a:xfrm>
                <a:off x="1755720" y="35924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106"/>
              <p:cNvSpPr/>
              <p:nvPr/>
            </p:nvSpPr>
            <p:spPr>
              <a:xfrm>
                <a:off x="1755720" y="38718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107"/>
              <p:cNvSpPr/>
              <p:nvPr/>
            </p:nvSpPr>
            <p:spPr>
              <a:xfrm>
                <a:off x="1755720" y="415584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108"/>
              <p:cNvSpPr/>
              <p:nvPr/>
            </p:nvSpPr>
            <p:spPr>
              <a:xfrm>
                <a:off x="1760760" y="444492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109"/>
              <p:cNvSpPr/>
              <p:nvPr/>
            </p:nvSpPr>
            <p:spPr>
              <a:xfrm>
                <a:off x="1755720" y="47322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110"/>
              <p:cNvSpPr/>
              <p:nvPr/>
            </p:nvSpPr>
            <p:spPr>
              <a:xfrm>
                <a:off x="1758960" y="50259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111"/>
              <p:cNvSpPr/>
              <p:nvPr/>
            </p:nvSpPr>
            <p:spPr>
              <a:xfrm>
                <a:off x="1760760" y="5303880"/>
                <a:ext cx="575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Line 112"/>
              <p:cNvSpPr/>
              <p:nvPr/>
            </p:nvSpPr>
            <p:spPr>
              <a:xfrm>
                <a:off x="1755720" y="559116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13"/>
              <p:cNvSpPr/>
              <p:nvPr/>
            </p:nvSpPr>
            <p:spPr>
              <a:xfrm>
                <a:off x="1755720" y="586872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114"/>
              <p:cNvSpPr/>
              <p:nvPr/>
            </p:nvSpPr>
            <p:spPr>
              <a:xfrm>
                <a:off x="1755720" y="6157800"/>
                <a:ext cx="575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115"/>
              <p:cNvSpPr/>
              <p:nvPr/>
            </p:nvSpPr>
            <p:spPr>
              <a:xfrm>
                <a:off x="5778720" y="2136600"/>
                <a:ext cx="0" cy="433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16"/>
              <p:cNvSpPr/>
              <p:nvPr/>
            </p:nvSpPr>
            <p:spPr>
              <a:xfrm>
                <a:off x="6127920" y="243180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117"/>
              <p:cNvSpPr/>
              <p:nvPr/>
            </p:nvSpPr>
            <p:spPr>
              <a:xfrm>
                <a:off x="6470640" y="243828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118"/>
              <p:cNvSpPr/>
              <p:nvPr/>
            </p:nvSpPr>
            <p:spPr>
              <a:xfrm>
                <a:off x="6788160" y="2431800"/>
                <a:ext cx="0" cy="404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119"/>
              <p:cNvSpPr/>
              <p:nvPr/>
            </p:nvSpPr>
            <p:spPr>
              <a:xfrm>
                <a:off x="7118280" y="2433600"/>
                <a:ext cx="0" cy="404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120"/>
              <p:cNvSpPr/>
              <p:nvPr/>
            </p:nvSpPr>
            <p:spPr>
              <a:xfrm>
                <a:off x="6126120" y="2035080"/>
                <a:ext cx="11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Line 121"/>
            <p:cNvSpPr/>
            <p:nvPr/>
          </p:nvSpPr>
          <p:spPr>
            <a:xfrm>
              <a:off x="6126120" y="149544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2"/>
            <p:cNvSpPr/>
            <p:nvPr/>
          </p:nvSpPr>
          <p:spPr>
            <a:xfrm>
              <a:off x="6126120" y="17715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Freeform 125"/>
          <p:cNvSpPr/>
          <p:nvPr/>
        </p:nvSpPr>
        <p:spPr>
          <a:xfrm>
            <a:off x="5946840" y="2560680"/>
            <a:ext cx="1030320" cy="3738600"/>
          </a:xfrm>
          <a:prstGeom prst="pie">
            <a:avLst/>
          </a:prstGeom>
          <a:noFill/>
          <a:ln w="38160">
            <a:solidFill>
              <a:srgbClr val="96a9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General Guidelines for Motion Stud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DC7-CEA8-420C-9AA5-AAFFE82259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762120" y="2362320"/>
            <a:ext cx="761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Use Of Huma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, rhythmic and 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/arm 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d and simul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 full extent of physical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chines, minimize distances, use mome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minimal eye contact and muscular effort, no unnecessary motions, delays or idl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872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General Guidelines For Motion Stud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9AB2-B45A-4A77-9EFA-695D5B0496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457200" y="2133720"/>
            <a:ext cx="8013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Arrangement of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, material, equipment - designated, easily accessibl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fortable and healthy seating and work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Use of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mechanized  tools enhance worker 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ot-operated equipment to relieve hand/arm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8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arrange equipment to fit worke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Learning Cur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386-85D2-4636-BD9A-BED695B51E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09280" y="2214360"/>
            <a:ext cx="37623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llustrates  improvement rate of workers as a job is repeat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cessing time per unit decreases by a constant percentage each time output doub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17" name="Group 10"/>
          <p:cNvGrpSpPr/>
          <p:nvPr/>
        </p:nvGrpSpPr>
        <p:grpSpPr>
          <a:xfrm>
            <a:off x="4876920" y="1905120"/>
            <a:ext cx="3962160" cy="4114800"/>
            <a:chOff x="4876920" y="1905120"/>
            <a:chExt cx="3962160" cy="4114800"/>
          </a:xfrm>
        </p:grpSpPr>
        <p:sp>
          <p:nvSpPr>
            <p:cNvPr id="518" name="Rectangle 9"/>
            <p:cNvSpPr/>
            <p:nvPr/>
          </p:nvSpPr>
          <p:spPr>
            <a:xfrm>
              <a:off x="4876920" y="1905120"/>
              <a:ext cx="3962160" cy="4114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>
              <a:off x="6536520" y="5572440"/>
              <a:ext cx="1859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ts produc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6"/>
            <p:cNvSpPr/>
            <p:nvPr/>
          </p:nvSpPr>
          <p:spPr>
            <a:xfrm>
              <a:off x="5410080" y="2057760"/>
              <a:ext cx="3167280" cy="3382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>
              <a:off x="5715000" y="2819520"/>
              <a:ext cx="2832120" cy="2278080"/>
            </a:xfrm>
            <a:prstGeom prst="pie">
              <a:avLst/>
            </a:prstGeom>
            <a:noFill/>
            <a:ln w="28440">
              <a:solidFill>
                <a:srgbClr val="96a9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8"/>
            <p:cNvSpPr/>
            <p:nvPr/>
          </p:nvSpPr>
          <p:spPr>
            <a:xfrm rot="16200000">
              <a:off x="3712320" y="3603960"/>
              <a:ext cx="28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ing time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earning Curves (cont.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08AE-AA09-4B63-B566-5249D19DF5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762120" y="1981080"/>
            <a:ext cx="7543800" cy="4343400"/>
            <a:chOff x="762120" y="1981080"/>
            <a:chExt cx="7543800" cy="4343400"/>
          </a:xfrm>
        </p:grpSpPr>
        <p:grpSp>
          <p:nvGrpSpPr>
            <p:cNvPr id="526" name="Group 11"/>
            <p:cNvGrpSpPr/>
            <p:nvPr/>
          </p:nvGrpSpPr>
          <p:grpSpPr>
            <a:xfrm>
              <a:off x="762120" y="1981080"/>
              <a:ext cx="7543800" cy="4343400"/>
              <a:chOff x="762120" y="1981080"/>
              <a:chExt cx="7543800" cy="4343400"/>
            </a:xfrm>
          </p:grpSpPr>
          <p:sp>
            <p:nvSpPr>
              <p:cNvPr id="527" name="Rectangle 10"/>
              <p:cNvSpPr/>
              <p:nvPr/>
            </p:nvSpPr>
            <p:spPr>
              <a:xfrm>
                <a:off x="762120" y="1981080"/>
                <a:ext cx="7543800" cy="4343400"/>
              </a:xfrm>
              <a:prstGeom prst="rect">
                <a:avLst/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Group 4"/>
              <p:cNvGrpSpPr/>
              <p:nvPr/>
            </p:nvGrpSpPr>
            <p:grpSpPr>
              <a:xfrm>
                <a:off x="2151000" y="2286000"/>
                <a:ext cx="4935240" cy="1298880"/>
                <a:chOff x="2151000" y="2286000"/>
                <a:chExt cx="4935240" cy="1298880"/>
              </a:xfrm>
            </p:grpSpPr>
            <p:sp>
              <p:nvSpPr>
                <p:cNvPr id="529" name="Rectangle 5"/>
                <p:cNvSpPr/>
                <p:nvPr/>
              </p:nvSpPr>
              <p:spPr>
                <a:xfrm>
                  <a:off x="5179680" y="3005280"/>
                  <a:ext cx="1284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i="1" lang="en-US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=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i="1" lang="en-US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Rectangle 6"/>
                <p:cNvSpPr/>
                <p:nvPr/>
              </p:nvSpPr>
              <p:spPr>
                <a:xfrm>
                  <a:off x="2151000" y="2286000"/>
                  <a:ext cx="4935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Time required for the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th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unit =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7"/>
              <p:cNvGrpSpPr/>
              <p:nvPr/>
            </p:nvGrpSpPr>
            <p:grpSpPr>
              <a:xfrm>
                <a:off x="851040" y="3505320"/>
                <a:ext cx="7205400" cy="2378520"/>
                <a:chOff x="851040" y="3505320"/>
                <a:chExt cx="7205400" cy="2378520"/>
              </a:xfrm>
            </p:grpSpPr>
            <p:sp>
              <p:nvSpPr>
                <p:cNvPr id="532" name="Rectangle 8"/>
                <p:cNvSpPr/>
                <p:nvPr/>
              </p:nvSpPr>
              <p:spPr>
                <a:xfrm>
                  <a:off x="851040" y="3505320"/>
                  <a:ext cx="117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wher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Rectangle 9"/>
                <p:cNvSpPr/>
                <p:nvPr/>
              </p:nvSpPr>
              <p:spPr>
                <a:xfrm>
                  <a:off x="1474920" y="3921120"/>
                  <a:ext cx="6581520" cy="19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663480" indent="-663480">
                    <a:lnSpc>
                      <a:spcPct val="100000"/>
                    </a:lnSpc>
                    <a:tabLst>
                      <a:tab algn="l" pos="0"/>
                      <a:tab algn="r" pos="577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=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ime required for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th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unit produce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663480" indent="-663480">
                    <a:lnSpc>
                      <a:spcPct val="100000"/>
                    </a:lnSpc>
                    <a:tabLst>
                      <a:tab algn="l" pos="0"/>
                      <a:tab algn="r" pos="577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=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ime required for first unit produce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663480" indent="-663480">
                    <a:lnSpc>
                      <a:spcPct val="100000"/>
                    </a:lnSpc>
                    <a:tabLst>
                      <a:tab algn="l" pos="0"/>
                      <a:tab algn="r" pos="577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=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umulative number of units produce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663480" indent="-663480">
                    <a:lnSpc>
                      <a:spcPct val="100000"/>
                    </a:lnSpc>
                    <a:tabLst>
                      <a:tab algn="l" pos="0"/>
                      <a:tab algn="r" pos="577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=   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where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is the learning curve percent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663480" indent="-663480">
                    <a:lnSpc>
                      <a:spcPct val="100000"/>
                    </a:lnSpc>
                    <a:tabLst>
                      <a:tab algn="l" pos="0"/>
                      <a:tab algn="r" pos="577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decimal coefficient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534" name="Object 12"/>
            <p:cNvGraphicFramePr/>
            <p:nvPr/>
          </p:nvGraphicFramePr>
          <p:xfrm>
            <a:off x="2286000" y="4952880"/>
            <a:ext cx="5097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5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4952880"/>
                      <a:ext cx="509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earning Curves (cont.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566-1843-403C-93C6-9864B086CD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09280" y="2214360"/>
            <a:ext cx="3305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nning lab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nning budge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termining scheduling require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419720" y="2214360"/>
            <a:ext cx="43480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mit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duct modifications negate learning curve effe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mprovement can derive from sources besides lear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dustry-derived learning curve rates may be inappropri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Human Resources and Operations Management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2026-2EF1-4A9E-95A3-0486BD1E8C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al and technology resourc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end on the industry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companies have human re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Skilled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ke the difference between successfully competing or fail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ift toward  service sec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vances in inform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facturing work is more technically sophistica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Human Resources and Total Quality Management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74C-45F8-4E43-B712-5EC7138064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Quality Management changed the view about employees from replaceable to valuable resour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re than half of Deming’s 14 points for quality improvement relate to employe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lcolm Baldrige National Quality Award winners have a pervasive human resource foc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loyee training and education are recognized as necessary long-term invest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loyees have  power to make decisions that will improve quality and customer servi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ategic goals for quality and customer satisfaction require teamwork and group particip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Changing Nature of Human Resources Management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54A-E47F-498D-A907-0511476F7C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21880" y="23619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tific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reaking down jobs into elemental activities and simplifying job desig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ob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rise a set of tasks, elements, and job motions (basic physical movement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a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iece-rate wage syste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pay is based on outpu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76560" y="2361960"/>
            <a:ext cx="39034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embly-line production meshed with  principles of scientific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vantages of task special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igh output, low costs, and minimal train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dvantages of task special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oredom, lack of motivation, and physical and mental fatigu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mployee Motiv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5FB-CDE6-4CA7-9415-8D786B4950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981080"/>
            <a:ext cx="4267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8080" indent="-118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llingness to work hard because that effort satisfies an employee n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18080" indent="-1180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mproving Motiv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sitive reinforcement and feedbac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ffective organization and discipl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air treatment of peop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tisfaction of employee nee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tting of work-related go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7320" indent="-106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800600" y="1981080"/>
            <a:ext cx="4114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6640" indent="-116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mproving Motivation (cont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sign of jobs to fit  employe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ork responsi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structuring of jobs when necess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wards based on company as well as individual perform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34080" indent="-10584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chievement of company go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Evolution of Theories of Employee Motiva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143B-C121-42AB-92C9-C582851348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24"/>
          <p:cNvGrpSpPr/>
          <p:nvPr/>
        </p:nvGrpSpPr>
        <p:grpSpPr>
          <a:xfrm>
            <a:off x="76320" y="1828800"/>
            <a:ext cx="3200400" cy="4343400"/>
            <a:chOff x="76320" y="1828800"/>
            <a:chExt cx="3200400" cy="4343400"/>
          </a:xfrm>
        </p:grpSpPr>
        <p:grpSp>
          <p:nvGrpSpPr>
            <p:cNvPr id="301" name="Group 17"/>
            <p:cNvGrpSpPr/>
            <p:nvPr/>
          </p:nvGrpSpPr>
          <p:grpSpPr>
            <a:xfrm>
              <a:off x="76320" y="2514600"/>
              <a:ext cx="3200400" cy="3657600"/>
              <a:chOff x="76320" y="2514600"/>
              <a:chExt cx="3200400" cy="3657600"/>
            </a:xfrm>
          </p:grpSpPr>
          <p:sp>
            <p:nvSpPr>
              <p:cNvPr id="302" name="AutoShape 4"/>
              <p:cNvSpPr/>
              <p:nvPr/>
            </p:nvSpPr>
            <p:spPr>
              <a:xfrm>
                <a:off x="76320" y="2514600"/>
                <a:ext cx="3200400" cy="3657600"/>
              </a:xfrm>
              <a:prstGeom prst="triangle">
                <a:avLst>
                  <a:gd name="adj" fmla="val 50000"/>
                </a:avLst>
              </a:prstGeom>
              <a:solidFill>
                <a:srgbClr val="d3481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6"/>
              <p:cNvSpPr/>
              <p:nvPr/>
            </p:nvSpPr>
            <p:spPr>
              <a:xfrm>
                <a:off x="609480" y="488484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7"/>
              <p:cNvSpPr/>
              <p:nvPr/>
            </p:nvSpPr>
            <p:spPr>
              <a:xfrm>
                <a:off x="838080" y="447876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380880" y="57657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9"/>
              <p:cNvSpPr/>
              <p:nvPr/>
            </p:nvSpPr>
            <p:spPr>
              <a:xfrm>
                <a:off x="914400" y="3785760"/>
                <a:ext cx="159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ctualiz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1"/>
              <p:cNvSpPr/>
              <p:nvPr/>
            </p:nvSpPr>
            <p:spPr>
              <a:xfrm>
                <a:off x="457200" y="52912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3"/>
              <p:cNvSpPr/>
              <p:nvPr/>
            </p:nvSpPr>
            <p:spPr>
              <a:xfrm>
                <a:off x="1219680" y="453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ste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14"/>
              <p:cNvSpPr/>
              <p:nvPr/>
            </p:nvSpPr>
            <p:spPr>
              <a:xfrm>
                <a:off x="1221120" y="48848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15"/>
              <p:cNvSpPr/>
              <p:nvPr/>
            </p:nvSpPr>
            <p:spPr>
              <a:xfrm>
                <a:off x="685080" y="5359320"/>
                <a:ext cx="189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afety/Secur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16"/>
              <p:cNvSpPr/>
              <p:nvPr/>
            </p:nvSpPr>
            <p:spPr>
              <a:xfrm>
                <a:off x="304200" y="5765760"/>
                <a:ext cx="28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hysiological (financi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8"/>
            <p:cNvSpPr/>
            <p:nvPr/>
          </p:nvSpPr>
          <p:spPr>
            <a:xfrm>
              <a:off x="304920" y="1828800"/>
              <a:ext cx="2743200" cy="9810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raham Maslow’s Pyramid of Human N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25"/>
          <p:cNvGrpSpPr/>
          <p:nvPr/>
        </p:nvGrpSpPr>
        <p:grpSpPr>
          <a:xfrm>
            <a:off x="3276720" y="1828800"/>
            <a:ext cx="2743200" cy="4378320"/>
            <a:chOff x="3276720" y="1828800"/>
            <a:chExt cx="2743200" cy="4378320"/>
          </a:xfrm>
        </p:grpSpPr>
        <p:sp>
          <p:nvSpPr>
            <p:cNvPr id="314" name="Rectangle 19"/>
            <p:cNvSpPr/>
            <p:nvPr/>
          </p:nvSpPr>
          <p:spPr>
            <a:xfrm>
              <a:off x="3276720" y="1828800"/>
              <a:ext cx="2743200" cy="9810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uglas McGregor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ory X and Theory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1"/>
            <p:cNvSpPr/>
            <p:nvPr/>
          </p:nvSpPr>
          <p:spPr>
            <a:xfrm>
              <a:off x="3276720" y="2819520"/>
              <a:ext cx="2743200" cy="3387600"/>
            </a:xfrm>
            <a:prstGeom prst="rect">
              <a:avLst/>
            </a:prstGeom>
            <a:solidFill>
              <a:srgbClr val="d3481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ory X 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likes 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st be coer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hirks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ttle amb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curity top motiv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ory Y 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 is natu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f-dir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s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kes good dec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26"/>
          <p:cNvGrpSpPr/>
          <p:nvPr/>
        </p:nvGrpSpPr>
        <p:grpSpPr>
          <a:xfrm>
            <a:off x="6248520" y="1828800"/>
            <a:ext cx="2743200" cy="4378320"/>
            <a:chOff x="6248520" y="1828800"/>
            <a:chExt cx="2743200" cy="4378320"/>
          </a:xfrm>
        </p:grpSpPr>
        <p:sp>
          <p:nvSpPr>
            <p:cNvPr id="317" name="Rectangle 20"/>
            <p:cNvSpPr/>
            <p:nvPr/>
          </p:nvSpPr>
          <p:spPr>
            <a:xfrm>
              <a:off x="6248520" y="1828800"/>
              <a:ext cx="2743200" cy="9810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derick Herzberg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ygiene/Moti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6248520" y="2819520"/>
              <a:ext cx="2743200" cy="3387600"/>
            </a:xfrm>
            <a:prstGeom prst="rect">
              <a:avLst/>
            </a:prstGeom>
            <a:solidFill>
              <a:srgbClr val="d3481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giene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ny poli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per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ing cond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personal rel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ary, status,   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tivation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hiev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 inter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11916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vanc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Contemporary Trends in Human Resources Management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2A1F-9A9B-4441-A79E-96630EDC8F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ob trai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of Deming’s 14 points refer to employee education and train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ross Trai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 employee learns more than one jo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ob ro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rizontal movement between two or more jobs according to a pla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iving employees authority to make decis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oup of employees work on problems in their immediate work are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Contemporary Trends in Human Resources Management (cont.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3536-E712-4870-85C7-BDE3E21C86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ob enric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lows employees control over their work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 employee is assigned a complete unit of work with defined start and en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lexible work schedu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art of a daily work schedule in which employees can choose time of arrival and depar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560" y="228600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ternative workpl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ntraditional work lo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lecommu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mployees work electronically from a location they choos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mporary and part-time employe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stly in fast-food and restaurant chains, retail companies, package delivery services, and financial firm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4:02:51Z</dcterms:created>
  <dc:creator>Beni Asllani</dc:creator>
  <dc:description/>
  <dc:language>en-US</dc:language>
  <cp:lastModifiedBy>R-6703</cp:lastModifiedBy>
  <dcterms:modified xsi:type="dcterms:W3CDTF">2014-12-04T13:52:13Z</dcterms:modified>
  <cp:revision>38</cp:revision>
  <dc:subject/>
  <dc:title>Human Resources</dc:title>
</cp:coreProperties>
</file>