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9464-0E72-4770-B570-BEEC43A9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BEE-5E55-4267-B700-5C50047B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853-718B-44C6-8DFB-DF2DD38E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31B-92E8-45AA-B36D-DE4E4E45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E2D5-5D77-4F62-8F78-5BFAB59B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2B42-A67D-4D2B-91CE-362D0B2B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1556-1C58-4DB5-B173-BC21161A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5ABC-0561-4252-A1E5-64AB486D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6987-A234-40D9-AE3D-B7615531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4B87-507C-4E54-93D1-219545D0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8E51-2A85-4C29-B572-D98BB864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CF0-B7CD-4875-BC8B-16E701F6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1907-1326-4D08-88AF-F1C689B2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0F3C-0CB3-450E-8412-22686BA8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D7A2-B204-4844-8CBE-CDE75402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2139-2910-4818-8621-CD0654BC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9562-C9E1-4B94-AD79-6289B5FB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E3E-1F55-4F34-8455-33E12A8A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B760-46F6-44FC-B5A4-7BE61F9E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C5A-CB7D-414D-97F2-0C967C90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50B-BBFE-46F7-AE68-6FE3AD1D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E35-E126-4EDD-934E-6CDA6F09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2D4-67CD-48DA-8252-91355AAC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304-581F-4054-A70D-9F32B71A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0B88-B6F6-44CB-B4C0-0DCA289D27F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D179-4914-4092-B7AB-55885C25248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800" spc="-1" strike="noStrike">
                <a:solidFill>
                  <a:srgbClr val="008000"/>
                </a:solidFill>
                <a:latin typeface="Monotype Corsiva"/>
              </a:rPr>
              <a:t>As idades do homem</a:t>
            </a:r>
            <a:endParaRPr b="1" lang="en-US" sz="7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4360" y="263700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8000"/>
                </a:solidFill>
                <a:latin typeface="Arial Black"/>
              </a:rPr>
              <a:t>Ah!, mas não pensem que são </a:t>
            </a:r>
            <a:br>
              <a:rPr sz="3200"/>
            </a:br>
            <a:r>
              <a:rPr b="0" lang="pt-BR" sz="3200" spc="-1" strike="noStrike">
                <a:solidFill>
                  <a:srgbClr val="008000"/>
                </a:solidFill>
                <a:latin typeface="Arial Black"/>
              </a:rPr>
              <a:t>só os homens. </a:t>
            </a:r>
            <a:br>
              <a:rPr sz="3200"/>
            </a:br>
            <a:r>
              <a:rPr b="0" lang="pt-BR" sz="3200" spc="-1" strike="noStrike">
                <a:solidFill>
                  <a:srgbClr val="008000"/>
                </a:solidFill>
                <a:latin typeface="Arial Black"/>
              </a:rPr>
              <a:t>Os cientistas também analisaram as mulhe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00" y="2421000"/>
            <a:ext cx="856908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800" spc="-1" strike="noStrike">
                <a:solidFill>
                  <a:srgbClr val="008000"/>
                </a:solidFill>
                <a:latin typeface="Monotype Corsiva"/>
              </a:rPr>
              <a:t>As idades da mulher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9640" y="2276640"/>
            <a:ext cx="79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Idade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Beb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Cuba 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Cach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Coca Cola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Qualquer uma desde que esteja acompanh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Leite para a osteopo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637000"/>
            <a:ext cx="77770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2060640"/>
            <a:ext cx="8569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Idade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Desculpa para livrar-se de cantadas não desej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Meus pais não me deixam 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Meu noivo vai desconf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Meu marido vai desconf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Meus filhos vão desconf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Nunca recusaria uma cantad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2421000"/>
            <a:ext cx="82818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63640" y="2276640"/>
            <a:ext cx="576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Idade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Esporte favo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Sexo, sexo e 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Sexo, sexo e 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Compras, sexo e s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Compras e algum s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2637000"/>
            <a:ext cx="47527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00000" y="234936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Idade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Como terminar uma boa 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Mc Donald'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Jantar com alguém que pague um bom m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Jantar, ir a um motel e ganhar um diam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Jantar e ganhar um diam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Um jantar b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971640" y="2708280"/>
            <a:ext cx="7416720" cy="1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76360" y="2276640"/>
            <a:ext cx="633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Idade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Homem i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Alto, louro e bon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Alto, louro,bonito e 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Alto, rico e inteli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Um homem que não seja car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Um hom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547640" y="2637000"/>
            <a:ext cx="5596200" cy="1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00000" y="2276640"/>
            <a:ext cx="71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8000"/>
                </a:solidFill>
                <a:latin typeface="Arial Black"/>
              </a:rPr>
              <a:t>Envie esta mensagem a uma mulher inteligente que necessite de uma boa risada e aos homens que julgue que possa suportá-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4360" y="242100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8000"/>
                </a:solidFill>
                <a:latin typeface="Arial Black"/>
              </a:rPr>
              <a:t>Os cientistas realizaram um estudo sobre as preferências dos homens em ocasiões distintas. Estes foram os result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24000" y="1916280"/>
            <a:ext cx="5256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Idade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Beb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Cerv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Mais cerv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Cach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Wh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Anti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9548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2276640"/>
            <a:ext cx="3816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2133720"/>
            <a:ext cx="8820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Idade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     Método de sed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     Meus pais estão fora no fim de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     Minha mulher está fora no fim de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     Minha mulher e meus filhos estão fora no fim de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     Comprei para mim um carr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     Minha segunda esposa morr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24000" y="2491920"/>
            <a:ext cx="8102520" cy="1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63640" y="2276640"/>
            <a:ext cx="576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Idade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Esporte favo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Sexo, sexo, s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Sexo, sexo, fute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Sexo e fute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Futebol e as vezes s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Dorm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2637000"/>
            <a:ext cx="45370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00000" y="234936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Idade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Como termina uma boa 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Cinema e p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Com um café da manh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Tomar o café da manhã sem os fil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Ter alguma companhia para o café da manh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Chegar em casa v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71640" y="2708280"/>
            <a:ext cx="7416720" cy="1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50920" y="2349360"/>
            <a:ext cx="5040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Idade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Fantasia favo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Com duas gar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Sexo em lugar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Sexo em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S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122560" y="2708280"/>
            <a:ext cx="4895640" cy="1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35280" y="2060640"/>
            <a:ext cx="5616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Idade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Melhor idade para cas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6560" y="2421000"/>
            <a:ext cx="52578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00000" y="2349360"/>
            <a:ext cx="7561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Idade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Encontro i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Ir ver um filme de Stephen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Jantar, fazer sexo e dormir abraç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Jantar, fazer sexo e ela que vá a m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Ela aparece e decide cozin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Ter uma companhia para ja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71640" y="2708280"/>
            <a:ext cx="6985080" cy="1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8:08:26Z</dcterms:created>
  <dc:creator>Jaime Caballero Arriaga</dc:creator>
  <dc:description/>
  <dc:language>en-US</dc:language>
  <cp:lastModifiedBy>Jorge Marinho</cp:lastModifiedBy>
  <dcterms:modified xsi:type="dcterms:W3CDTF">2005-11-19T01:37:05Z</dcterms:modified>
  <cp:revision>3</cp:revision>
  <dc:subject/>
  <dc:title>Las edades del hombre</dc:title>
</cp:coreProperties>
</file>