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ribalistas%20-%20Velha%20Infancia.wav" ContentType="audio/x-wav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ribalistas%20-%20Velha%20Infancia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2925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Stencil"/>
              </a:rPr>
              <a:t>Revolução da Al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6951600" y="6400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wderfinger Type"/>
              </a:rPr>
              <a:t>Aristót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11640" y="1440"/>
            <a:ext cx="4932360" cy="342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23796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wderfinger Type"/>
              </a:rPr>
              <a:t>Agradeça tudo que está em sua vida nesse momento, inclusive a dor. Nossa compreensão do universo, ainda é muito pequena para julgar o que quer que seja na nossa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356000" y="3406680"/>
            <a:ext cx="4788000" cy="3451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5796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owderfinger Type"/>
              </a:rPr>
              <a:t>A grandeza não consiste em receber honras, mas em merecê-la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0" y="117360"/>
            <a:ext cx="4572000" cy="3311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238428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wderfinger Type"/>
              </a:rPr>
              <a:t>Envie esta mensagem para todas as pessoas que são especiais pra você..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Powderfinger Type"/>
              </a:rPr>
              <a:t>Se a pessoa que te enviou esta mensagem também significa algo pra você, mande de volt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141640" y="3429000"/>
            <a:ext cx="4859280" cy="342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" name=""/>
          <p:cNvGraphicFramePr/>
          <p:nvPr/>
        </p:nvGraphicFramePr>
        <p:xfrm>
          <a:off x="898560" y="0"/>
          <a:ext cx="7345440" cy="338616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338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Powderfinger Type"/>
                          <a:ea typeface="Courier New"/>
                        </a:rPr>
                        <a:t>Aristóteles, filósofo grego,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Powderfinger Type"/>
                          <a:ea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Powderfinger Type"/>
                          <a:ea typeface="Courier New"/>
                        </a:rPr>
                        <a:t>escreveu este texto "Revolução da Alma“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Powderfinger Type"/>
                          <a:ea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Powderfinger Type"/>
                          <a:ea typeface="Courier New"/>
                        </a:rPr>
                        <a:t>no ano 360 a.C., e é eterno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41360" cy="365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032360" y="3454560"/>
            <a:ext cx="5111640" cy="3403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9036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wderfinger Type"/>
              </a:rPr>
              <a:t>Ninguém é dono da sua felicidade, por isso não entregue sua alegria, sua paz sua vida nas mãos de ninguém, absolutamente ninguém. Somos livres, não pertencemos a ninguém e não podemos querer ser donos dos desejos, da vontade ou dos sonhos de quem quer que se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211640" y="3438360"/>
            <a:ext cx="4932360" cy="3419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-5040"/>
            <a:ext cx="7775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wderfinger Type"/>
              </a:rPr>
              <a:t>A razão da sua vida é você mesmo. A tua paz interior é a tua meta de vida, quando sentires um vazio na alma, quando acreditares que ainda está faltando algo, mesmo tendo tudo, remete teu pensamento para os teus desejos mais íntimos e busque a divindade que existe em você. Pare de colocar sua felicidade cada dia mais distante de voc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338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-576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wderfinger Type"/>
              </a:rPr>
              <a:t>Não coloque o objetivo longe demais de suas mãos, abrace os que estão ao seu alcance hoje. Se andas desesperado por problemas financeiros, amorosos, ou de relacionamentos familia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3796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wderfinger Type"/>
              </a:rPr>
              <a:t>busca em teu interior a resposta para acalmar-te, você é reflexo do que pensas diariamente. Pare de pensar mal de você mesmo(a), e seja seu melhor amigo(a) semp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32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4716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wderfinger Type"/>
              </a:rPr>
              <a:t>Sorrir significa aprovar, aceitar, felicitar. Então abra um sorriso para aprovar o mundo que te quer oferecer o melh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19640" y="0"/>
            <a:ext cx="4824360" cy="3494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292788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wderfinger Type"/>
              </a:rPr>
              <a:t>Com um sorriso no rosto as pessoas terão as melhores impressões de você, e você estará afirmando para você mesmo que está "pronto“ para ser feli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84720" y="3470400"/>
            <a:ext cx="4859280" cy="3387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269280"/>
            <a:ext cx="500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wderfinger Type"/>
              </a:rPr>
              <a:t>Trabalhe, trabalhe muito a seu favor. Pare de esperar a felicidade sem esforços. Pare de exigir das pessoas aquilo que nem você conquistou ain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40360" y="3429000"/>
            <a:ext cx="5003640" cy="3451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485928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owderfinger Type"/>
              </a:rPr>
              <a:t>Critique menos, trabalhe mais. E, não se esqueça nunca de agradec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2T00:25:31Z</dcterms:created>
  <dc:creator>LINCOLN FERREIRA </dc:creator>
  <dc:description/>
  <dc:language>en-US</dc:language>
  <cp:lastModifiedBy>FMG</cp:lastModifiedBy>
  <dcterms:modified xsi:type="dcterms:W3CDTF">2006-06-24T15:44:16Z</dcterms:modified>
  <cp:revision>71</cp:revision>
  <dc:subject/>
  <dc:title>Apresentação do PowerPoint</dc:title>
</cp:coreProperties>
</file>