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wmf" ContentType="image/x-wmf"/>
  <Override PartName="/ppt/media/Rosy%20-%20Meditando.Way%20MB%20Trist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8518-CCE5-4ADB-B039-C3320252F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5A4A-D51A-4DC6-9FE4-453D657E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5C97-3BCA-4100-9855-FBC90427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032F-4AC9-4979-BB25-3F1C0D472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5A7A9-E777-41A7-8FCF-01CDC49F3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1CF5B-A31C-418E-84B2-D143611A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335A1-4384-4601-AED0-E5243A08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578E2-E8A8-4D30-B4F1-AC8C2B82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700A3-B663-4E83-B362-D6B7B24A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50975-399C-4875-961A-3A1D6CA8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6B99B-C2C1-42D8-B751-7FF7F137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7C94-8301-4A65-A896-D6D3F112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5E1F5-59A0-4D6F-85FC-EA56F2CE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4EB9A-C311-4491-9069-2DAB8EB2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72585-72C5-4B97-A8B2-BD215BBE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48C9F-6743-4B79-9FA9-E808A7A6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9977B-314F-4207-98D9-AAA77646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BAD1-24A9-4D4B-894E-BC0184D4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E2A5-77C6-4E62-9B14-52443D7D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4143-F79E-400F-A6CA-ECD2F747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7B32-D75F-47E7-95BE-19A83DCF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E56B-AD16-4FD9-B883-77949BFA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DE63-F301-4A8F-A44A-EC8D3C19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40F7-8E1E-4E61-BE4E-21C5157E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6079-0BC3-4302-847C-755F84B27A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4B6B-C4AA-4B52-BB49-24FF0DF169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audio" Target="../media/Rosy%20-%20Meditando.Way%20MB%20Triste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STE DE PERSONALIDADE DO DALAI LA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1533600" cy="761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812000" y="5589720"/>
            <a:ext cx="812880" cy="671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4" name="Rosy%20-%20Meditando.Way%20MB%20Trist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O Dalai Lama disse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Ordene os seguintes 5 animais de acordo com tua preferência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Colibr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Cava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Maripo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Cã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Pássa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. Escreva uma palavra que descreva cada um dos seguintes elementos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6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Cã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Ga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Ra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f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ense em alguém que também te conheça e seja importante para você, e que possa relacionar com as seguintes cores.</a:t>
            </a:r>
            <a:br>
              <a:rPr sz="2800"/>
            </a:b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(Por favor, não repitas tua resposta, nomeie  somente uma pessoa para cada cor)</a:t>
            </a: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Amare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Lara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Vermel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Bran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Ver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Finalmente, diga seu dia favorito da semana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Terminou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teja certo de que suas respostas são o que REALMENTE sen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Última oportunidad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 ja estás seguro, continu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Olhe as interpretacões mas, antes de ve-las, repita teu desejo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Isto vai definir suas prioridades na vida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Colibrí: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significa carreir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Cavalo: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significa orgulh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Mariposa: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significa amo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Cão: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significa famíli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Pássaro: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significa dinheir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pt-BR" sz="4400" spc="-1" strike="noStrike">
                <a:solidFill>
                  <a:srgbClr val="ffffff"/>
                </a:solidFill>
                <a:latin typeface="Tahoma"/>
              </a:rPr>
              <a:t>Sua descrição implica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Cão: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sua própria personalida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Gato: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a personalidade de seu conju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Rata: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a personalidade de seus inimig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Café: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como interpreta o sex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Mar: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sua própria vid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O Dalai Lama disse .... (leia e  conhecerás como és. Na verdade funciona, mas não trapaceie).</a:t>
            </a: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É um teste de personalidade muito interessant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pt-BR" sz="4400" spc="-1" strike="noStrike">
                <a:solidFill>
                  <a:srgbClr val="ffffff"/>
                </a:solidFill>
                <a:latin typeface="Tahoma"/>
              </a:rPr>
              <a:t>Essas pessoas são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Amarelo:     alguém que nunca esquecerá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Laranja: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       alguém  que pode consider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seu verdadeiro amigo/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Vermelho:    alguém que realmente am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Branco: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sua alma gême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Verde: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uma pessoa que recordará pe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resto de sua vid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Deves enviar esta mensagem a tantas pessoas quanto POSSA e seu desejo será realidade no dia que escolheu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4005360"/>
            <a:ext cx="822960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ahoma"/>
              </a:rPr>
              <a:t>Não guarde esta mensagem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O texto deve sair de suas mãos nas próximas 96 hor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ahoma"/>
              </a:rPr>
              <a:t>Terás uma surpresa muito agradável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Isto é verdade mesmo para quem não é supersticios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VIE ESTE E-MAIL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DE-O AO MENOS A 5 PESSOAS E SUA VIDA MELHORARÁ ASSI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0-4 pessoas: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sua vida melhorará levement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5-9 pessoas: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sua vida melhorará ao seu gost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9-14 pessoas: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terá ao menos 5 surpresas nas próximas 3 seman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15 a mais pessoas: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sua vida melhorará drásticamente e tudo o que sempre tem sonhado realizará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Ainda que agora, conhecendo suas prioridades, todo mudará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Lute pelo que que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Faça-o, são só 4 perguntas e as respostas te surpreenderão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Não faça trapaças adiantan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A mente é como um 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para-quedas: trabalha muito melhor quando está aberta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É divertido fazer, mas deverás seguir ao pé da letra as instruçõ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Advertência:  Responda o questionário à medida que 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for perguntad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Só tem 4 pergunt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Se vês todo o questionário antes de terminar, não obterás resultados honesto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Vá lendo lentamente e faça cada exercício com consciênci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ahoma"/>
              </a:rPr>
              <a:t>Tenha à mão, lápis e papel para escrever tuas resposta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Necessitarás ao fin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Este é um questionário honesto, que te dirá muito sobre o  seu verdadeiro EU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ST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faça um desejo antes de começar o tes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9T11:54:30Z</dcterms:created>
  <dc:creator>MRG7311</dc:creator>
  <dc:description/>
  <dc:language>en-US</dc:language>
  <cp:lastModifiedBy>Marta</cp:lastModifiedBy>
  <dcterms:modified xsi:type="dcterms:W3CDTF">2009-06-17T19:47:33Z</dcterms:modified>
  <cp:revision>10</cp:revision>
  <dc:subject/>
  <dc:title>TEST DE PERSONALIDAD DEL DALAI LAMA</dc:title>
</cp:coreProperties>
</file>