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Dan%C3%A7a%20com%20Lobos%20-%20Andr%C3%A9%20Rieu.wav" ContentType="audio/x-wav"/>
  <Override PartName="/ppt/media/image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993-B259-4C5A-97CE-0B413E8A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5A4-B44E-4DE8-A490-BB8DCCE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2B6-9227-4DCF-AFEF-3239506B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A92-9244-437D-8835-E0813233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721-B3AC-46FB-8260-362CFBC5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66D-C643-44BB-B7D2-CDB15FF8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67C-03A9-4C17-8B8E-3CFB0B7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7FF-BDA2-4EEB-BE6B-D828C2C0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9F2-E4C1-4821-B95C-DE5EA76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B35-68A5-48C0-92F0-4634D85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031-BD05-4F20-BD07-4F7FB8A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5DE-A5BA-4254-AF95-1891118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1153-2C95-41E2-A6AC-2EF442500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audio" Target="../media/Dan&#231;a%20com%20Lobos%20-%20Andr&#233;%20Rieu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4356000" cy="237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ÁGUA’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88000" y="5300640"/>
            <a:ext cx="648000" cy="81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6720" y="1125360"/>
            <a:ext cx="38102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Dan%C3%A7a%20com%20Lobos%20-%20Andr%C3%A9%20Rie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200720" cy="6308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 limpar casas de banho: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peje uma lata de ‘Coca-Cola’ dentro do vaso e deixe a "coisa" decantar por uma hora e então dê desca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60000" cy="6524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ácido cítric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na ‘Coca-Cola’ remove manchas na louça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 remover pontos de ferrugem  dos pára-choques cromados de automóveis, esfregue o pára-choques com um chumaço de papel de alumínio (usado para embrulhar alimentos) molhado com Coca-Co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343640" cy="6165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 limpar corrosão dos terminais de baterias de automóveis, despeje uma lata de  ‘Coca-Cola’  sobre os terminais e deixe efervescer sobre a  corro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40720" cy="6021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 soltar um parafuso emperrado por corrosão ,   aplique um pano encharcado com ‘Coca-Cola’ sobre     o parafuso enferrujado, por vários minu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416720" cy="609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 remover manchas de graxa   das roupas, despeje uma lata de ‘Coca-Cola’  dentro da máquina    com as roupas; adicione detergente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Coca-Cola ajudará a remover as manchas de grax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6336000" cy="5877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‘Coca-Cola’ também ajuda        a limpar o embaciamento do     ‘pára-brisas’ do seu car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29800" cy="638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 sua informação: 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ingrediente ativo na ‘Coca-Cola’  é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ácido fosfóric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  Seu PH é 2,8.  </a:t>
            </a:r>
            <a:br>
              <a:rPr sz="3200"/>
            </a:b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e dissolve uma unha em cerca de 4 d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129440" cy="6308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Ácido fosfóric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ambém rouba cálcio dos ossos  e é o maior contribuinte para o aumento da “Osteoporos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488360" cy="6453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á alguns anos ,  fizeram uma pesquisa na </a:t>
            </a:r>
            <a:r>
              <a:rPr b="1" i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‘Alemanha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para  detectar o porquê do aparecimento de  “Osteoporose”  em crianças a partir de 10 anos (pré-adolescentes). 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ultado:</a:t>
            </a:r>
            <a:br>
              <a:rPr sz="32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cesso de ‘Coca-Cola’, por falta de orientação dos p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6842160" cy="609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ra transportar o xarope de  ‘Coca-Cola’ , os caminhões comerciais são identificados   com a placa de  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terial Perigos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”, que é reservado     para o transporte de materiais altamente corros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128000" cy="6453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m copo de água corta a  sensação de fome durante a noite para quase 100% das pessoas em regime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 o que mostra um estudo na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‘Universidade de Washington’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lta de água é o ‘factor nº. 1’  da causa de fadiga durante o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6913800" cy="6308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s distribuidores de ‘Coca-Cola’ têm usado a “Coca” para limpar os motores de seus caminhões  há pelo menos 20 a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632720" cy="6308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Mais um detalhe:</a:t>
            </a:r>
            <a:br>
              <a:rPr sz="32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 “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ca Light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” tem sido considerada cada vez mais  pelos  médicos  e pesquisadores, como bomba de efeito retardado, por causa da combinação “Coca” + “Aspartame”, suspeito de causar lúpus e doenças degenerativas do sistema nerv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561440" cy="6524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pergunta é: </a:t>
            </a:r>
            <a:br>
              <a:rPr sz="3200"/>
            </a:b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"Você gostaria de um copo de ‘Água’ ou de um copo de ‘Coca-Cola’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?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”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Não se esqueça de reenviar esta mensagem aos seus AMIGOS, eles devem agradecer... e os seus filhos também, embora só mais ta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"/>
              </a:rPr>
              <a:t>Música:  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"/>
              </a:rPr>
              <a:t>‘Dança com Lobos’</a:t>
            </a:r>
            <a:br>
              <a:rPr sz="2800"/>
            </a:b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"/>
              </a:rPr>
              <a:t>   </a:t>
            </a:r>
            <a:r>
              <a:rPr b="1" i="1" lang="pt-BR" sz="2800" spc="-1" strike="noStrike">
                <a:solidFill>
                  <a:srgbClr val="00ffff"/>
                </a:solidFill>
                <a:latin typeface="Arial"/>
                <a:ea typeface="Arial"/>
              </a:rPr>
              <a:t>André Ri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848720" cy="6165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udos preliminares indicam que de   8 a 10 copos de água por dia, poderiam  aliviar significativamente as dores nas costas e nas juntas em 80% das pessoas que sofrem desses 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6165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ma mera redução de 2% da água no corpo humano pode provocar incoerência na memória de curto prazo, problemas com matemática  e dificuldade em focalizar um écran de computador  ou  uma página impres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61440" cy="6524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ber 5 copos de água por dia, diminui o risco de: 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câncer no cólon em 45%, 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pode diminuir o risco de câncer d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mama em 79% 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 em 50% a probabilidade de s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desenvolver câncer na bexi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5833800" cy="6308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Você está bebendo      a quantidade de água      que deveria, 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odos os di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1280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1" i="1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Coca-Cola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3024360" cy="235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08720" y="3500280"/>
            <a:ext cx="19382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638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m muitos estados nos “EUA”,       as patrulhas rodoviárias carregam dois galões de  ‘Coca-Cola’  no  porta-bagagens,  para serem usados na remoção de sangue     na estrada depois de um acidente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769080" cy="6021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 você colocar um osso numa tigela com  ‘Coca-Cola’,  ele se dissolverá em dois di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1:41:12Z</dcterms:created>
  <dc:creator>Home</dc:creator>
  <dc:description/>
  <dc:language>en-US</dc:language>
  <cp:lastModifiedBy>antonio</cp:lastModifiedBy>
  <dcterms:modified xsi:type="dcterms:W3CDTF">2007-04-04T13:06:21Z</dcterms:modified>
  <cp:revision>4</cp:revision>
  <dc:subject/>
  <dc:title>ÁGUA E COCA-COLA</dc:title>
</cp:coreProperties>
</file>