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A413-BCC0-485B-B189-BFC4DFCA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65D-63D8-4FDE-BE31-D8792DC3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31A-C2BC-4778-9D83-571FBBFF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AC8-27EE-4226-9F0E-A689C003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B3CA-8609-4BE5-B953-18621D2F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F940-56DC-4F2E-8328-14F5F078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FAB-B7FD-464D-9A3E-EEFD0CAC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1207-7F95-4BE2-AEF7-F1BD31A1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184-DD7A-451A-BB77-EF106D33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EC4-5DF8-4125-B50C-B3F3D4A0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113-CFDF-43E2-B87A-0F43AD14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4F9-0379-43CC-85B8-F3B7D0CD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51D2-01D3-468F-AC04-CC41F323A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924280"/>
            <a:ext cx="813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RISCOS LABORAIS DERIVADOS DE POSIÇÕES INCORREC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066680"/>
            <a:ext cx="77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alibri"/>
              </a:rPr>
              <a:t>Extracto do Manual de Saude Lab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55643" b="0"/>
          <a:stretch/>
        </p:blipFill>
        <p:spPr>
          <a:xfrm>
            <a:off x="3048120" y="2133720"/>
            <a:ext cx="2995560" cy="2619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355560" y="550800"/>
            <a:ext cx="15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NÃ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47748" t="0" r="0" b="0"/>
          <a:stretch/>
        </p:blipFill>
        <p:spPr>
          <a:xfrm>
            <a:off x="2057400" y="2209680"/>
            <a:ext cx="3529080" cy="2619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413440" y="476280"/>
            <a:ext cx="443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CONSEQUÊNCI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53035" t="0" r="0" b="0"/>
          <a:stretch/>
        </p:blipFill>
        <p:spPr>
          <a:xfrm>
            <a:off x="3276720" y="2733840"/>
            <a:ext cx="2361960" cy="1685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355560" y="550800"/>
            <a:ext cx="15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NÃ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48490" b="0"/>
          <a:stretch/>
        </p:blipFill>
        <p:spPr>
          <a:xfrm>
            <a:off x="3124080" y="2743200"/>
            <a:ext cx="2590920" cy="168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13440" y="476280"/>
            <a:ext cx="443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CONSEQUÊNCI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50008" t="0" r="0" b="0"/>
          <a:stretch/>
        </p:blipFill>
        <p:spPr>
          <a:xfrm>
            <a:off x="3276720" y="2276640"/>
            <a:ext cx="2309760" cy="2447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495240" y="549360"/>
            <a:ext cx="15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NÃ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51652" b="0"/>
          <a:stretch/>
        </p:blipFill>
        <p:spPr>
          <a:xfrm>
            <a:off x="3429000" y="2286000"/>
            <a:ext cx="2233440" cy="244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26160" y="476280"/>
            <a:ext cx="443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CONSEQUÊNCI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50844" t="0" r="0" b="0"/>
          <a:stretch/>
        </p:blipFill>
        <p:spPr>
          <a:xfrm>
            <a:off x="3048120" y="2190600"/>
            <a:ext cx="2504880" cy="2457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355560" y="550800"/>
            <a:ext cx="15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NÃ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48506" b="0"/>
          <a:stretch/>
        </p:blipFill>
        <p:spPr>
          <a:xfrm>
            <a:off x="3200400" y="2209680"/>
            <a:ext cx="2624040" cy="2457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13440" y="476280"/>
            <a:ext cx="443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CONSEQUÊNCI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420000" y="112536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Calibri"/>
              </a:rPr>
              <a:t>M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220500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Calibri"/>
              </a:rPr>
              <a:t>Não importa a posição que adoptes no teu trabalh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Calibri"/>
              </a:rPr>
              <a:t>No final, vão-te sempre fode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54037" b="0"/>
          <a:stretch/>
        </p:blipFill>
        <p:spPr>
          <a:xfrm>
            <a:off x="3124080" y="1981080"/>
            <a:ext cx="2605320" cy="293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55560" y="550800"/>
            <a:ext cx="15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NÃ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48657" t="0" r="0" b="0"/>
          <a:stretch/>
        </p:blipFill>
        <p:spPr>
          <a:xfrm>
            <a:off x="2590920" y="1981080"/>
            <a:ext cx="2909880" cy="293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29440" y="476280"/>
            <a:ext cx="443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CONSEQUÊNCI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42858" b="0"/>
          <a:stretch/>
        </p:blipFill>
        <p:spPr>
          <a:xfrm>
            <a:off x="3276720" y="1981080"/>
            <a:ext cx="2438280" cy="290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5560" y="550800"/>
            <a:ext cx="15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NÃ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50004" t="0" r="0" b="0"/>
          <a:stretch/>
        </p:blipFill>
        <p:spPr>
          <a:xfrm>
            <a:off x="2743200" y="1981080"/>
            <a:ext cx="2133720" cy="2905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58160" y="476280"/>
            <a:ext cx="443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CONSEQUÊNCI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50006" b="0"/>
          <a:stretch/>
        </p:blipFill>
        <p:spPr>
          <a:xfrm>
            <a:off x="3048120" y="1447920"/>
            <a:ext cx="2828880" cy="3933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566520" y="476280"/>
            <a:ext cx="15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NÃ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51349" t="0" r="0" b="0"/>
          <a:stretch/>
        </p:blipFill>
        <p:spPr>
          <a:xfrm>
            <a:off x="2590920" y="1447920"/>
            <a:ext cx="2752560" cy="3933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86520" y="476280"/>
            <a:ext cx="443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CONSEQUÊNCI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53156" b="0"/>
          <a:stretch/>
        </p:blipFill>
        <p:spPr>
          <a:xfrm>
            <a:off x="2700360" y="1219320"/>
            <a:ext cx="3395520" cy="4448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495240" y="333360"/>
            <a:ext cx="15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NÃ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47902" t="0" r="0" b="0"/>
          <a:stretch/>
        </p:blipFill>
        <p:spPr>
          <a:xfrm>
            <a:off x="1828800" y="1219320"/>
            <a:ext cx="3776760" cy="4448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42160" y="404640"/>
            <a:ext cx="443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CONSEQUÊNCI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0:07:25Z</dcterms:created>
  <dc:creator>CDB</dc:creator>
  <dc:description/>
  <dc:language>en-US</dc:language>
  <cp:lastModifiedBy>687189</cp:lastModifiedBy>
  <dcterms:modified xsi:type="dcterms:W3CDTF">2008-11-10T11:19:00Z</dcterms:modified>
  <cp:revision>11</cp:revision>
  <dc:subject/>
  <dc:title>Sin título de diapositiva</dc:title>
</cp:coreProperties>
</file>