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945-C519-4EB8-B9A3-C8912C9D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C07-B356-48F6-B28E-F464033B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3D0-9739-4010-9C9D-24521817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827-AA39-4157-AA67-17596FA8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C21-27E4-4CEB-8A3F-BE06873A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AC5-A60A-4025-82A8-B9848CD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CE7-A2A6-4E4C-A336-D8E547A6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D18-595A-4C53-9D9D-D743DA13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127-315D-41FF-9A7C-5A23084B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E1E-45FC-4CF4-AF11-5599E4B5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AE4-13E3-4365-A3AC-C042552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380-47A6-40C4-87E1-C0C75AC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B1AC-D709-4FD6-B3C6-018417B62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O que você quer ser quando crescer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IA RITA GARCIA    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                  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ônjuge: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José Dirce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 ministro-chefe da Casa Civil</a:t>
            </a: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fissão: socióloga                          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rgo: assessora da presidência da Escola Nacional de Administração Pública  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     </a:t>
            </a: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meação: março de 2003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alário: R$17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SONIA LOURDES RODRIGUES BERZOINI  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    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ônjuge: </a:t>
            </a:r>
            <a:r>
              <a:rPr b="1" lang="pt-BR" sz="2400" spc="-1" strike="noStrike">
                <a:solidFill>
                  <a:srgbClr val="00ffff"/>
                </a:solidFill>
                <a:latin typeface="Tahoma"/>
              </a:rPr>
              <a:t>Ricardo Berzoini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, ministro da Previdência  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Profissão: bancária aposentad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argo: assessora no gabinete do deputado Paulo Bernardo (PT-PR)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omeação: maio de 2003  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               </a:t>
            </a:r>
            <a:br>
              <a:rPr sz="2400"/>
            </a:b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Salário: R$ 19.500,0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MARGARETH ROSE SILVA PALOCCI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          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ônjuge: </a:t>
            </a:r>
            <a:r>
              <a:rPr b="1" lang="pt-BR" sz="2400" spc="-1" strike="noStrike">
                <a:solidFill>
                  <a:srgbClr val="00ffff"/>
                </a:solidFill>
                <a:latin typeface="Tahoma"/>
              </a:rPr>
              <a:t>Antonio Palocci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, ministro da Fazenda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Profissão: médica sanitarista            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argo: assessora da presidência da Fundação Nacional de Saúde                    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omeação: fevereiro de 2003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              </a:t>
            </a:r>
            <a:br>
              <a:rPr sz="2400"/>
            </a:b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Salário: R$14.850,0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637000"/>
            <a:ext cx="74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E O POVO 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270828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99"/>
                </a:solidFill>
                <a:latin typeface="Times New Roman"/>
              </a:rPr>
              <a:t>R$ 350,00 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8920" cy="6958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É isso aí companheiro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ecff"/>
                </a:solidFill>
                <a:latin typeface="Comic Sans MS"/>
              </a:rPr>
              <a:t>Balali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O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ecff"/>
                </a:solidFill>
                <a:latin typeface="Comic Sans MS"/>
              </a:rPr>
              <a:t>Infemê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O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ecff"/>
                </a:solidFill>
                <a:latin typeface="Comic Sans MS"/>
              </a:rPr>
              <a:t>Dilet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O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5840" y="57146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ecff"/>
                </a:solidFill>
                <a:latin typeface="Comic Sans MS"/>
              </a:rPr>
              <a:t>Másic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O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ecff"/>
                </a:solidFill>
                <a:latin typeface="Comic Sans MS"/>
              </a:rPr>
              <a:t>Bombê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O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ccecff"/>
                </a:solidFill>
                <a:latin typeface="Comic Sans MS"/>
              </a:rPr>
              <a:t>Róqui-Ist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O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54864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ecff"/>
                </a:solidFill>
                <a:latin typeface="Comic Sans MS"/>
              </a:rPr>
              <a:t>Servidô Pubric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IM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54864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ecff"/>
                </a:solidFill>
                <a:latin typeface="Comic Sans MS"/>
              </a:rPr>
              <a:t>Na vida boooa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8:09:59Z</dcterms:created>
  <dc:creator>p915061</dc:creator>
  <dc:description/>
  <dc:language>en-US</dc:language>
  <cp:lastModifiedBy>Cine</cp:lastModifiedBy>
  <dcterms:modified xsi:type="dcterms:W3CDTF">2006-04-25T08:58:35Z</dcterms:modified>
  <cp:revision>16</cp:revision>
  <dc:subject/>
  <dc:title>Que profissão devo seguir.... </dc:title>
</cp:coreProperties>
</file>