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2ED-95D3-4D9B-9DD3-B74626D8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19D-216F-4EA1-B931-C1773E1F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6F6-7198-4D06-838F-808F5D0C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F87-09A0-4FCA-82D9-5DF81410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8B6-C309-44BE-90C4-1CE18C23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226-705D-4006-ADC5-9ADF125D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2ED-058E-4259-9BCB-1245B234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1A7-FF4E-48D7-A632-CB497F0B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5D4-D23C-4486-96C4-4D5054FE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34C-F8CF-42B3-8E33-C3AE696E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9AB-C168-46BF-B886-5D8FAABE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C4E-1967-4ACD-9284-A4500DFB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05A0-6222-4A63-8B0B-ACE15D678DA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Publicidad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Calibri"/>
              </a:rPr>
              <a:t>Consciencializaçã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ão compre souvenirs de animais exót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magem 2" descr="09.JPG"/>
          <p:cNvPicPr/>
          <p:nvPr/>
        </p:nvPicPr>
        <p:blipFill>
          <a:blip r:embed="rId1"/>
          <a:stretch/>
        </p:blipFill>
        <p:spPr>
          <a:xfrm>
            <a:off x="785880" y="1357200"/>
            <a:ext cx="76197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2" descr="10.JPG"/>
          <p:cNvPicPr/>
          <p:nvPr/>
        </p:nvPicPr>
        <p:blipFill>
          <a:blip r:embed="rId1"/>
          <a:stretch/>
        </p:blipFill>
        <p:spPr>
          <a:xfrm>
            <a:off x="0" y="0"/>
            <a:ext cx="48988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14960" y="642600"/>
            <a:ext cx="347184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m clique pode mudar seu futuro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 o cinto de seguranç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47184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e as alterações climáticas, antes que elas o alterem a 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Imagem 2" descr="11.JPG"/>
          <p:cNvPicPr/>
          <p:nvPr/>
        </p:nvPicPr>
        <p:blipFill>
          <a:blip r:embed="rId1"/>
          <a:stretch/>
        </p:blipFill>
        <p:spPr>
          <a:xfrm>
            <a:off x="4292640" y="0"/>
            <a:ext cx="485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43040" y="274320"/>
            <a:ext cx="354348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Menina perfeita! Nova! 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Super magrinha!”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Menina perfeita, cuidado no trato, pouca durabilida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m 2" descr="12.JPG"/>
          <p:cNvPicPr/>
          <p:nvPr/>
        </p:nvPicPr>
        <p:blipFill>
          <a:blip r:embed="rId1"/>
          <a:stretch/>
        </p:blipFill>
        <p:spPr>
          <a:xfrm>
            <a:off x="0" y="0"/>
            <a:ext cx="485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271476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essoas com desordens alimentares precisam de apo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Imagem 2" descr="13.JPG"/>
          <p:cNvPicPr/>
          <p:nvPr/>
        </p:nvPicPr>
        <p:blipFill>
          <a:blip r:embed="rId1"/>
          <a:stretch/>
        </p:blipFill>
        <p:spPr>
          <a:xfrm>
            <a:off x="3165480" y="0"/>
            <a:ext cx="597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m abusador nunca se reconhece como 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m 2" descr="14.JPG"/>
          <p:cNvPicPr/>
          <p:nvPr/>
        </p:nvPicPr>
        <p:blipFill>
          <a:blip r:embed="rId1"/>
          <a:stretch/>
        </p:blipFill>
        <p:spPr>
          <a:xfrm>
            <a:off x="785880" y="1285920"/>
            <a:ext cx="76197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85880" y="274320"/>
            <a:ext cx="364356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ores que matam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ow de covar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m 2" descr="15.JPG"/>
          <p:cNvPicPr/>
          <p:nvPr/>
        </p:nvPicPr>
        <p:blipFill>
          <a:blip r:embed="rId1"/>
          <a:stretch/>
        </p:blipFill>
        <p:spPr>
          <a:xfrm>
            <a:off x="0" y="0"/>
            <a:ext cx="531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natureza não é reciclá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m 2" descr="16.JPG"/>
          <p:cNvPicPr/>
          <p:nvPr/>
        </p:nvPicPr>
        <p:blipFill>
          <a:blip r:embed="rId1"/>
          <a:stretch/>
        </p:blipFill>
        <p:spPr>
          <a:xfrm>
            <a:off x="500040" y="928800"/>
            <a:ext cx="76201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m 2" descr="17.JPG"/>
          <p:cNvPicPr/>
          <p:nvPr/>
        </p:nvPicPr>
        <p:blipFill>
          <a:blip r:embed="rId1"/>
          <a:stretch/>
        </p:blipFill>
        <p:spPr>
          <a:xfrm>
            <a:off x="1908000" y="0"/>
            <a:ext cx="53071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680" y="5428800"/>
            <a:ext cx="7943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 silêncio causa da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85520" y="55004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pois dos Jogos Olímpicos a luta pelos Direitos Humanos deve continu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m 2" descr="18.JPG"/>
          <p:cNvPicPr/>
          <p:nvPr/>
        </p:nvPicPr>
        <p:blipFill>
          <a:blip r:embed="rId1"/>
          <a:stretch/>
        </p:blipFill>
        <p:spPr>
          <a:xfrm>
            <a:off x="785880" y="285840"/>
            <a:ext cx="76197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857920" y="774360"/>
            <a:ext cx="282888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a fazer um abrigo de pele são necessárias 120 cr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m 4" descr="01.JPG"/>
          <p:cNvPicPr/>
          <p:nvPr/>
        </p:nvPicPr>
        <p:blipFill>
          <a:blip r:embed="rId1"/>
          <a:stretch/>
        </p:blipFill>
        <p:spPr>
          <a:xfrm>
            <a:off x="0" y="0"/>
            <a:ext cx="564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o cortar árvores estão reduzindo a vid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agem 2" descr="19.JP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s cintos de segurança mantê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 pessoas jun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m 2" descr="20.JPG"/>
          <p:cNvPicPr/>
          <p:nvPr/>
        </p:nvPicPr>
        <p:blipFill>
          <a:blip r:embed="rId1"/>
          <a:stretch/>
        </p:blipFill>
        <p:spPr>
          <a:xfrm>
            <a:off x="738360" y="1285920"/>
            <a:ext cx="76197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m 2" descr="21.JPG"/>
          <p:cNvPicPr/>
          <p:nvPr/>
        </p:nvPicPr>
        <p:blipFill>
          <a:blip r:embed="rId1"/>
          <a:stretch/>
        </p:blipFill>
        <p:spPr>
          <a:xfrm>
            <a:off x="1000080" y="523800"/>
            <a:ext cx="7620120" cy="6334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órteres sem fronteir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A sua  preocupação é suficientemente global?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Encare o problema antes que seja tarde demai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magem 2" descr="22.JPG"/>
          <p:cNvPicPr/>
          <p:nvPr/>
        </p:nvPicPr>
        <p:blipFill>
          <a:blip r:embed="rId1"/>
          <a:stretch/>
        </p:blipFill>
        <p:spPr>
          <a:xfrm>
            <a:off x="1071720" y="1285920"/>
            <a:ext cx="69800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14000" y="21384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ão trate os outros da maneira como não quer ser trat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m 2" descr="23.JPG"/>
          <p:cNvPicPr/>
          <p:nvPr/>
        </p:nvPicPr>
        <p:blipFill>
          <a:blip r:embed="rId1"/>
          <a:stretch/>
        </p:blipFill>
        <p:spPr>
          <a:xfrm>
            <a:off x="1000080" y="1571760"/>
            <a:ext cx="704844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m 2" descr="24.JPG"/>
          <p:cNvPicPr/>
          <p:nvPr/>
        </p:nvPicPr>
        <p:blipFill>
          <a:blip r:embed="rId1"/>
          <a:stretch/>
        </p:blipFill>
        <p:spPr>
          <a:xfrm>
            <a:off x="200016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80% dos bancos para crianças são instalados incorretam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m 2" descr="31.JPG"/>
          <p:cNvPicPr/>
          <p:nvPr/>
        </p:nvPicPr>
        <p:blipFill>
          <a:blip r:embed="rId1"/>
          <a:stretch/>
        </p:blipFill>
        <p:spPr>
          <a:xfrm>
            <a:off x="4680" y="642960"/>
            <a:ext cx="9126720" cy="6068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2840" y="642600"/>
            <a:ext cx="518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ianças de pais que fumam vão para o céu mais ce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m 2" descr="25.JPG"/>
          <p:cNvPicPr/>
          <p:nvPr/>
        </p:nvPicPr>
        <p:blipFill>
          <a:blip r:embed="rId1"/>
          <a:stretch/>
        </p:blipFill>
        <p:spPr>
          <a:xfrm>
            <a:off x="0" y="0"/>
            <a:ext cx="466236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2040" y="214200"/>
            <a:ext cx="358632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s precisam de pele para se aquec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m 2" descr="26.JPG"/>
          <p:cNvPicPr/>
          <p:nvPr/>
        </p:nvPicPr>
        <p:blipFill>
          <a:blip r:embed="rId1"/>
          <a:stretch/>
        </p:blipFill>
        <p:spPr>
          <a:xfrm>
            <a:off x="3835440" y="0"/>
            <a:ext cx="53085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25756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lorestas sã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ar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m 2" descr="27.JPG"/>
          <p:cNvPicPr/>
          <p:nvPr/>
        </p:nvPicPr>
        <p:blipFill>
          <a:blip r:embed="rId1"/>
          <a:stretch/>
        </p:blipFill>
        <p:spPr>
          <a:xfrm>
            <a:off x="20520" y="353880"/>
            <a:ext cx="9123480" cy="6432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507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s animais domésticos não são brinque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2892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is de 50% dos suicídios são cometidos por pessoas ido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2" descr="02.JPG"/>
          <p:cNvPicPr/>
          <p:nvPr/>
        </p:nvPicPr>
        <p:blipFill>
          <a:blip r:embed="rId1"/>
          <a:stretch/>
        </p:blipFill>
        <p:spPr>
          <a:xfrm>
            <a:off x="4041720" y="0"/>
            <a:ext cx="510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uso verbal pode ser também horroriz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m 2" descr="28.JPG"/>
          <p:cNvPicPr/>
          <p:nvPr/>
        </p:nvPicPr>
        <p:blipFill>
          <a:blip r:embed="rId1"/>
          <a:stretch/>
        </p:blipFill>
        <p:spPr>
          <a:xfrm>
            <a:off x="642960" y="1411200"/>
            <a:ext cx="778680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335772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A pele de uma criança é 10 vezes mais sensível e pega fogo 40 vezes mais depressa que a de um adulto.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Não é surpreendente que a maioria das queimaduras são fatais em menores de 4 anos.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Não deixes chamas acesas distraídament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Imagem 2" descr="30.JPG"/>
          <p:cNvPicPr/>
          <p:nvPr/>
        </p:nvPicPr>
        <p:blipFill>
          <a:blip r:embed="rId1"/>
          <a:stretch/>
        </p:blipFill>
        <p:spPr>
          <a:xfrm>
            <a:off x="3659040" y="0"/>
            <a:ext cx="548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s precisam de 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agem 2" descr="29.JPG"/>
          <p:cNvPicPr/>
          <p:nvPr/>
        </p:nvPicPr>
        <p:blipFill>
          <a:blip r:embed="rId1"/>
          <a:stretch/>
        </p:blipFill>
        <p:spPr>
          <a:xfrm>
            <a:off x="714240" y="1425600"/>
            <a:ext cx="77868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m 2" descr="32.JPG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743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 alcool é mais prejudicial do que uma arma na mão de um condu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m 2" descr="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712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 que estão a fazer afecta-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1680" y="274320"/>
            <a:ext cx="361476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obreza não deveria ser uma sentença de v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m 2" descr="03.JPG"/>
          <p:cNvPicPr/>
          <p:nvPr/>
        </p:nvPicPr>
        <p:blipFill>
          <a:blip r:embed="rId1"/>
          <a:stretch/>
        </p:blipFill>
        <p:spPr>
          <a:xfrm>
            <a:off x="0" y="0"/>
            <a:ext cx="478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5600" y="274320"/>
            <a:ext cx="73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bserve os carros quando estiver usando auscultadores de ouvi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m 2" descr="04.JPG"/>
          <p:cNvPicPr/>
          <p:nvPr/>
        </p:nvPicPr>
        <p:blipFill>
          <a:blip r:embed="rId1"/>
          <a:stretch/>
        </p:blipFill>
        <p:spPr>
          <a:xfrm>
            <a:off x="785880" y="1476360"/>
            <a:ext cx="76197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361476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Até agora foram gastos US$ 3 trilhões em pacotes de estímulos econômicos para recuperar bancos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1% disto poderia alimentar 59 milhões de crianças com fome durante um ano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Alguma coisa tem que mud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m 2" descr="05.JPG"/>
          <p:cNvPicPr/>
          <p:nvPr/>
        </p:nvPicPr>
        <p:blipFill>
          <a:blip r:embed="rId1"/>
          <a:stretch/>
        </p:blipFill>
        <p:spPr>
          <a:xfrm>
            <a:off x="4292640" y="0"/>
            <a:ext cx="485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14960" y="274320"/>
            <a:ext cx="347184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imais não são palhaço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imais de circo não são parte do s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Imagem 2" descr="06.JPG"/>
          <p:cNvPicPr/>
          <p:nvPr/>
        </p:nvPicPr>
        <p:blipFill>
          <a:blip r:embed="rId1"/>
          <a:stretch/>
        </p:blipFill>
        <p:spPr>
          <a:xfrm>
            <a:off x="0" y="0"/>
            <a:ext cx="497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e a catástro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2" descr="07.JPG"/>
          <p:cNvPicPr/>
          <p:nvPr/>
        </p:nvPicPr>
        <p:blipFill>
          <a:blip r:embed="rId1"/>
          <a:stretch/>
        </p:blipFill>
        <p:spPr>
          <a:xfrm>
            <a:off x="785880" y="11430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25772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garro mata ma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m 2" descr="08.JPG"/>
          <p:cNvPicPr/>
          <p:nvPr/>
        </p:nvPicPr>
        <p:blipFill>
          <a:blip r:embed="rId1"/>
          <a:stretch/>
        </p:blipFill>
        <p:spPr>
          <a:xfrm>
            <a:off x="5187960" y="0"/>
            <a:ext cx="395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20:46:15Z</dcterms:created>
  <dc:creator>PCG</dc:creator>
  <dc:description/>
  <dc:language>en-US</dc:language>
  <cp:lastModifiedBy>Admin</cp:lastModifiedBy>
  <dcterms:modified xsi:type="dcterms:W3CDTF">2010-04-13T14:02:27Z</dcterms:modified>
  <cp:revision>3</cp:revision>
  <dc:subject/>
  <dc:title>Publicidade</dc:title>
</cp:coreProperties>
</file>