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24.gif" ContentType="image/gif"/>
  <Override PartName="/ppt/media/image16.jpeg" ContentType="image/jpeg"/>
  <Override PartName="/ppt/media/It's%20raining%20men-%2065%20wave.WAV" ContentType="audio/x-wav"/>
  <Override PartName="/ppt/media/image21.jpeg" ContentType="image/jpeg"/>
  <Override PartName="/ppt/media/image23.jpeg" ContentType="image/jpeg"/>
  <Override PartName="/ppt/media/image1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E5C0-E0CD-49FD-8253-968195268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E739-9B2C-4B3C-B561-BFB8253D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925A-540E-4DCB-822E-F82A3CA3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7EE5-0A78-46B5-9D8D-E28CE5090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AB50-D3DA-4104-AD61-F148940F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7FA5-399A-4846-ADEE-ED066F63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1D78-67F5-4C5B-87C0-6A636454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D90A-8738-4B47-8B1C-A28371CD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57D5-8DBE-4038-BCEF-38A0A634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E7D3-5CFD-49E8-B994-4CEE0BD7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32D7-BDE9-4F9B-886F-82DF60EA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9325-FB5A-43FB-B9B9-07CEB9E9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39E4-97AE-482C-9A5D-B94CA1783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It&apos;s%20raining%20men-%2065%20wav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609480"/>
            <a:ext cx="67816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Só  rindo  mesmo...</a:t>
            </a:r>
            <a:endParaRPr b="1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2" name="c%20Vai%20Felipão" descr=""/>
          <p:cNvPicPr/>
          <p:nvPr/>
        </p:nvPicPr>
        <p:blipFill>
          <a:blip r:embed="rId1"/>
          <a:stretch/>
        </p:blipFill>
        <p:spPr>
          <a:xfrm>
            <a:off x="3048120" y="3200400"/>
            <a:ext cx="2990880" cy="23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201080" cy="638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24000" y="189000"/>
            <a:ext cx="4722840" cy="644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60360" y="227160"/>
            <a:ext cx="8532720" cy="64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8748720" cy="63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63640" y="398520"/>
            <a:ext cx="7596000" cy="614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70246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76360" y="476280"/>
            <a:ext cx="8099280" cy="607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74560" y="333360"/>
            <a:ext cx="8101080" cy="63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%20Charge%20nota%20dez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%20Coelhinho%20da%20Páscoa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%20papo%20da%20nova%20geração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71500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%20Mulheres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822960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%20Pescando%20com%20Moisés" descr=""/>
          <p:cNvPicPr/>
          <p:nvPr/>
        </p:nvPicPr>
        <p:blipFill>
          <a:blip r:embed="rId1"/>
          <a:stretch/>
        </p:blipFill>
        <p:spPr>
          <a:xfrm>
            <a:off x="533520" y="0"/>
            <a:ext cx="77724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%20GUIA%20DE%20VIAGEM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61048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c%20whisky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391160" cy="541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F%20FUI%20cores" descr=""/>
          <p:cNvPicPr/>
          <p:nvPr/>
        </p:nvPicPr>
        <p:blipFill>
          <a:blip r:embed="rId1"/>
          <a:stretch/>
        </p:blipFill>
        <p:spPr>
          <a:xfrm>
            <a:off x="3886200" y="3581280"/>
            <a:ext cx="1189080" cy="868320"/>
          </a:xfrm>
          <a:prstGeom prst="rect">
            <a:avLst/>
          </a:prstGeom>
          <a:ln w="0">
            <a:noFill/>
          </a:ln>
        </p:spPr>
      </p:pic>
      <p:pic>
        <p:nvPicPr>
          <p:cNvPr id="66" name="Bruxa%20Voa%20LuaAmarela" descr=""/>
          <p:cNvPicPr/>
          <p:nvPr/>
        </p:nvPicPr>
        <p:blipFill>
          <a:blip r:embed="rId2"/>
          <a:stretch/>
        </p:blipFill>
        <p:spPr>
          <a:xfrm>
            <a:off x="1981080" y="1828800"/>
            <a:ext cx="5715000" cy="164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401760"/>
            <a:ext cx="8424720" cy="60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71640" y="260280"/>
            <a:ext cx="5508720" cy="636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24160" y="189000"/>
            <a:ext cx="419256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%20Pensamento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28720" y="189000"/>
            <a:ext cx="7559640" cy="62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7280" y="203040"/>
            <a:ext cx="8605800" cy="625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58920" y="1989000"/>
            <a:ext cx="8316720" cy="314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17:49:26Z</dcterms:created>
  <dc:creator/>
  <dc:description/>
  <dc:language>en-US</dc:language>
  <cp:lastModifiedBy>KAROLINE</cp:lastModifiedBy>
  <dcterms:modified xsi:type="dcterms:W3CDTF">2006-08-19T20:26:52Z</dcterms:modified>
  <cp:revision>1</cp:revision>
  <dc:subject/>
  <dc:title>Apresentação do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76889992</vt:r8>
  </property>
  <property fmtid="{D5CDD505-2E9C-101B-9397-08002B2CF9AE}" pid="3" name="_AuthorEmail">
    <vt:lpwstr>Marcos.Lamego@scania.com</vt:lpwstr>
  </property>
  <property fmtid="{D5CDD505-2E9C-101B-9397-08002B2CF9AE}" pid="4" name="_AuthorEmailDisplayName">
    <vt:lpwstr>Lamego Marcos Pereira</vt:lpwstr>
  </property>
  <property fmtid="{D5CDD505-2E9C-101B-9397-08002B2CF9AE}" pid="5" name="_EmailSubject">
    <vt:lpwstr/>
  </property>
  <property fmtid="{D5CDD505-2E9C-101B-9397-08002B2CF9AE}" pid="6" name="_PreviousAdHocReviewCycleID">
    <vt:r8>1851201700</vt:r8>
  </property>
  <property fmtid="{D5CDD505-2E9C-101B-9397-08002B2CF9AE}" pid="7" name="_ReviewingToolsShownOnce">
    <vt:lpwstr/>
  </property>
</Properties>
</file>