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raznidos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Graznidos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62120" y="1676520"/>
            <a:ext cx="8001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mo determinar o sexo de um pássar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533520" y="83808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empre pensei que havia de ser determinado quimicamente ou através da longa observação,  plumagem, tamanho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té agora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De dois pássaros, qual é a fême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a próxima página verá dois pássaros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stude bem a fo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Veja se consegue advinhar qual dos dois é a fêm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 possivel !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Mesmo por pessoas com dotes limitados de observação de pássar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2286000" y="2239920"/>
            <a:ext cx="457200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45040" y="2895480"/>
            <a:ext cx="501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s-AR" sz="1600" spc="-1" strike="noStrike">
                <a:solidFill>
                  <a:srgbClr val="000000"/>
                </a:solidFill>
                <a:latin typeface="Times New Roman"/>
              </a:rPr>
              <a:t>eheheheheheheh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vie a todos os homens que conheç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ás mulheres com bom senso de hu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9:46:28Z</dcterms:created>
  <dc:creator>piraccini</dc:creator>
  <dc:description/>
  <dc:language>en-US</dc:language>
  <cp:lastModifiedBy>Sócrates</cp:lastModifiedBy>
  <dcterms:modified xsi:type="dcterms:W3CDTF">2007-09-19T09:08:03Z</dcterms:modified>
  <cp:revision>8</cp:revision>
  <dc:subject/>
  <dc:title>Presentazione di PowerPoint</dc:title>
</cp:coreProperties>
</file>