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2C0D-DDD7-439A-8231-14D0DF19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0E48-6A55-45E9-B4BE-F1542F3F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A3E3-D841-40ED-A799-9DB305D8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D7C-2D50-423E-8427-08D23E24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C87E-9905-400A-A38D-CA24531C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D75F-7F2E-4861-949F-943782D5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52EB-70DE-487A-8A12-83457308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A781-B648-4392-B089-0BE0810C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F09E-C8FA-4CE7-B5B5-6CCD5F2D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A9E-9C12-46D3-8779-AA088CF5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B3F7-BFA1-4BA8-8F1D-6402E99A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712-08DD-40FE-B811-ABA507DD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1088-E3A5-42BE-9851-DF015573D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RISADA~2.WAV" TargetMode="External"/><Relationship Id="rId3" Type="http://schemas.microsoft.com/office/2007/relationships/media" Target="file:///tmp/home/.config/libreoffice/4/user/gallery/RISADA~2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08720" y="5229360"/>
            <a:ext cx="2079720" cy="1628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9040" y="2780640"/>
            <a:ext cx="79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 claro, homem e mulher na cama do mot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87280" y="333000"/>
            <a:ext cx="675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á haviam travado a esperada l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tragavam os seus respectivos cigarro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00720" y="333360"/>
            <a:ext cx="7788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El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Esses seus peitos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crível como podem estar tão firm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ndo que você já deve estar beirando os tri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El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Quarenta! 200 ml de silicone de cada 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El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Viva a medicin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69800" y="260280"/>
            <a:ext cx="6618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Gostei deste seu sorriso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 o seu cha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32 dentes implanta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s de 16 horas na cadeira do dent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Viva a odontolog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2520" y="333720"/>
            <a:ext cx="8159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El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Gostei dos seus cabel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ão naturais, não é mes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El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Apliq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stavam curtinhos. Não quis esperar crescer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s os seus  sã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El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Interl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em dá para perceber. Posso até nadar com e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8720" y="260280"/>
            <a:ext cx="73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El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Há mais de duas h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ós estamos transa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 você ainda não baixou o mastr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o consegue? Viag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El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Prótese. Depois que acaba é só dob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1280" y="405000"/>
            <a:ext cx="8617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(perturbada) Pensei que fosse pura excitação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se clima... o  calo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Mas fiquei excitado, juro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mbém, com esse seu bumbum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l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ilicone... Nas batatas da perna també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 um pou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0200" y="692640"/>
            <a:ext cx="807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El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Onde mais você já mex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El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Pálpebras, maçãs do rosto, queix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scoço, lipo na  barriga, culot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intura, botox, lifting... e também fiz a "preciosa"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El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Você quer dizer... o "vulcão"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El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Exatamen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09080" y="620640"/>
            <a:ext cx="514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O que você fez? Períne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Não, mudança de sex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57400" y="3105000"/>
            <a:ext cx="6829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 meu nome é Waldemar 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547640" y="717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7429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2:17:31Z</dcterms:created>
  <dc:creator>user name</dc:creator>
  <dc:description/>
  <dc:language>en-US</dc:language>
  <cp:lastModifiedBy>user name</cp:lastModifiedBy>
  <dcterms:modified xsi:type="dcterms:W3CDTF">2006-09-19T02:19:51Z</dcterms:modified>
  <cp:revision>1</cp:revision>
  <dc:subject/>
  <dc:title>Slide 1</dc:title>
</cp:coreProperties>
</file>