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AC52-FE42-40D2-85E2-CAC184E20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2B33-6EDE-4C3D-9B37-C3BC93EC6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DC61-650C-4AAA-9F4D-E1A18AFF1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2042-4E04-4AE1-97F3-788355F66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6211-00C9-46A7-8496-51D980DB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9457-AAE1-4B8F-BBB4-C8E7ABD4C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981C-BDEE-43C7-ADFA-F4102565E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7228-3DAB-47C0-9AFC-E8EFBD895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7ED6-2BDA-463C-9386-AB9187CFD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6D4B-2E37-4B97-8085-43DADA73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31CF-03F9-478D-A073-2D623214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17B8-C1B7-4219-957B-D2F7D87C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5ECBC-892A-476A-920A-5121E89F2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El%20Delfin%20Azul%20trecho.wav" TargetMode="External"/><Relationship Id="rId2" Type="http://schemas.microsoft.com/office/2007/relationships/media" Target="file:///tmp/home/.config/libreoffice/4/user/gallery/El%20Delfin%20Azul%20trecho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file:///tmp/home/.config/libreoffice/4/user/gallery/RISADA%20DE%20BRUXA.wav" TargetMode="External"/><Relationship Id="rId3" Type="http://schemas.microsoft.com/office/2007/relationships/media" Target="file:///tmp/home/.config/libreoffice/4/user/gallery/RISADA%20DE%20BRUXA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c4d165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000000"/>
                </a:solidFill>
                <a:latin typeface="Arial"/>
              </a:rPr>
              <a:t>Como você gostaria</a:t>
            </a:r>
            <a:br>
              <a:rPr sz="5400"/>
            </a:br>
            <a:r>
              <a:rPr b="0" lang="pt-BR" sz="5400" spc="-1" strike="noStrike">
                <a:solidFill>
                  <a:srgbClr val="000000"/>
                </a:solidFill>
                <a:latin typeface="Arial"/>
              </a:rPr>
              <a:t>tirar férias este ano?</a:t>
            </a:r>
            <a:br>
              <a:rPr sz="5400"/>
            </a:br>
            <a:br>
              <a:rPr sz="5400"/>
            </a:br>
            <a:r>
              <a:rPr b="0" lang="pt-BR" sz="5400" spc="-1" strike="noStrike">
                <a:solidFill>
                  <a:srgbClr val="000000"/>
                </a:solidFill>
                <a:latin typeface="Arial"/>
              </a:rPr>
              <a:t>Desta forma ??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0" y="4292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2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360" y="270792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7200" spc="-1" strike="noStrike">
                <a:solidFill>
                  <a:srgbClr val="000000"/>
                </a:solidFill>
                <a:latin typeface="Arial"/>
              </a:rPr>
              <a:t>Ou desta 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88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1022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-316080"/>
            <a:ext cx="9144000" cy="717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Já sei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É uma decis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muito difícil de ser tomada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tinue jogando na Loteria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orque depois da Reforma Tributá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 da Reforma no IN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sta é a forma em que iremos de féria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e pudermos pagá-la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0" y="1197000"/>
            <a:ext cx="826920" cy="8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3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2320"/>
            <a:ext cx="9144000" cy="6811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828720" y="-47520"/>
            <a:ext cx="10801440" cy="69516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7T16:42:15Z</dcterms:created>
  <dc:creator/>
  <dc:description/>
  <dc:language>en-US</dc:language>
  <cp:lastModifiedBy>.</cp:lastModifiedBy>
  <dcterms:modified xsi:type="dcterms:W3CDTF">2005-10-20T00:33:49Z</dcterms:modified>
  <cp:revision>12</cp:revision>
  <dc:subject/>
  <dc:title>A380</dc:title>
</cp:coreProperties>
</file>