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Hino%20Nacional%20som%20p%C3%A1ssaros01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1CE-E76E-410D-BEE6-930BCF50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538-5E8B-430B-83FB-0CDD88D2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73A-D61B-4938-87F4-D70E3062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CF2-837A-4B80-9534-2C396F97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C9D5-B09E-49D4-892C-E828C30A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5C13-1E29-488C-930B-97E34C70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366C-4331-4799-A1FD-F6143858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732F-92D4-4D82-82BE-E01952D8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6AE0-71A9-448F-90EF-A58697B1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425C-1212-42C8-AB3A-190AD39D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B365-E0A0-45FC-B4FE-21FAB64B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51E-FD83-40CB-A59E-FDAE51CB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463E-2CDF-43F2-AA06-798D00C0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7023-F28D-4443-931B-74D1E2AC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0415-DE9C-47E3-B0FA-A52FA20E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AB6D-5852-4E42-A549-8F5545CF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3858-1C69-44CE-B5D0-892D255D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696-4E00-4A5C-A255-7A677DC1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CFE-C031-4633-8013-F57AA327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430-1E6E-4A6A-AF42-AD99EF0B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3AC-3134-4D0F-A31E-6D6B27DB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4E2-84F5-4CC8-8AE3-0B01BC7E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B75-9297-4A39-92B1-AE87E905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C6E-7E90-4DCB-A9EE-F7473150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A62-A83F-4F7D-953F-E5717F955B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37B1-25BF-42CB-8780-BF621FA74F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no%20Nacional%20som%20p&#225;ssaros01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560760" y="2349360"/>
            <a:ext cx="2379600" cy="288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00720" y="980280"/>
            <a:ext cx="385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4600"/>
                </a:solidFill>
                <a:latin typeface="Book Antiqua"/>
              </a:rPr>
              <a:t>Jo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4600"/>
                </a:solidFill>
                <a:latin typeface="Book Antiqua"/>
              </a:rPr>
              <a:t>     </a:t>
            </a:r>
            <a:r>
              <a:rPr b="1" i="1" lang="en-US" sz="4000" spc="-1" strike="noStrike">
                <a:solidFill>
                  <a:srgbClr val="004600"/>
                </a:solidFill>
                <a:latin typeface="Book Antiqua"/>
              </a:rPr>
              <a:t>Ubal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4600"/>
                </a:solidFill>
                <a:latin typeface="Book Antiqua"/>
              </a:rPr>
              <a:t>              </a:t>
            </a:r>
            <a:r>
              <a:rPr b="1" i="1" lang="en-US" sz="4000" spc="-1" strike="noStrike">
                <a:solidFill>
                  <a:srgbClr val="004600"/>
                </a:solidFill>
                <a:latin typeface="Book Antiqua"/>
              </a:rPr>
              <a:t>Ribei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27800" y="187920"/>
            <a:ext cx="699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Book Antiqua"/>
              </a:rPr>
              <a:t>Pertenço a um país ond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Book Antiqua"/>
              </a:rPr>
              <a:t>falta de pontualidade é um hábi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2560" y="148392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Onde os diretores das empresas n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valorizam o capital human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200" y="2997360"/>
            <a:ext cx="876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Onde há pouco interesse pela ecologi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onde as pessoas atiram lixo nas ruas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epois reclamam do governo por n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limpar os esgot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265320" y="405360"/>
            <a:ext cx="952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Onde nossos  congressistas trabal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ois dias por semana para aprov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rojetos e leis  que só servem pa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fundar o que não tem, encher o sa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o que tem pouco e  beneficiar só a algu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1720" y="3716640"/>
            <a:ext cx="818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ertenço a um país onde as cartei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e motorista e os cert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médicos podem ser "comprados"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sem fazer nenhum exa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34920" y="1196640"/>
            <a:ext cx="8894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Um país onde uma pessoa de ida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avançada, ou uma mulher com u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riança nos braços, ou um invál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fica em pé no ônibus, enquanto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pessoa que está sentada finge q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orme para não dar o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1600" y="1196640"/>
            <a:ext cx="8301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Um país no qual a priorida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e passagem é para o carro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não para o pedestre. Um paí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onde fazemos um monte de coi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errada, mas nos esbaldamos 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riticar nossos govern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1000" y="909000"/>
            <a:ext cx="7896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Como "Matéria Prima"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de um país, temos muit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coisas boas, mas nos fal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muito para sermos 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homens e mulheres de 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nosso País precisa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47120" y="262800"/>
            <a:ext cx="8361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Esses defeitos, es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"ESPERTEZA BRASILEIRA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congênita, essa desonestidade 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equena escala, que depois cresce 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evolui até converter-se em casos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escândalo, essa falta de quali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humana, mais do que Collor, Itam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Fernando Henrique ou Lula, é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é real e honestamente ruim, por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todos eles são brasileiros como nó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Book Antiqua"/>
              </a:rPr>
              <a:t>ELEITOS POR NÓ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92120" y="548640"/>
            <a:ext cx="80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Nascidos aqui, não em outra part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07520" y="1267200"/>
            <a:ext cx="50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Book Antiqua"/>
              </a:rPr>
              <a:t>Entristeço-m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3800" y="2277360"/>
            <a:ext cx="7981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orque, ainda que Lula renuncia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hoje mesmo, o próximo preside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que o suceder terá que continu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trabalhando com a mesma ma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rima defeituosa que, como pov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somos nós mesmo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68520" y="475200"/>
            <a:ext cx="72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E não poderá fazer nada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5120" y="1917000"/>
            <a:ext cx="880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Não tenho nenhuma garantia de 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lguém o possa fazer melhor. 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enquanto alguém não sinalizar 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caminho destinado a erradicar prim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os vícios que temos como pov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ninguém servir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65520" y="536400"/>
            <a:ext cx="84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Nem serviu Collor, nem serviu Itama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não serviu Fernando Henrique, e n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serve Lula, nem servirá o que vi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4640" y="2460240"/>
            <a:ext cx="638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3300"/>
                </a:solidFill>
                <a:uFillTx/>
                <a:latin typeface="Book Antiqua"/>
              </a:rPr>
              <a:t>Qual é a alternativa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840" y="3573360"/>
            <a:ext cx="891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recisamos de mais um ditador, pa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que nos faça cumprir a lei com a força 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or meio do terro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45760" y="475920"/>
            <a:ext cx="777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3300"/>
                </a:solidFill>
                <a:uFillTx/>
                <a:latin typeface="Book Antiqua"/>
              </a:rPr>
              <a:t>Aqui faz falta outra coisa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118080" y="1990080"/>
            <a:ext cx="947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E enquanto essa "outra coisa" não come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a surgir de baixo para cima, ou de c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para baixo, ou do centro para os lados, 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como queiram, seguiremos igualme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condenados, igualmente estancados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Igualmente sacaneado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26920" y="269316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"Precisa-se de Matéria Pri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para construir um Paí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Hino%20Nacional%20som%20p%C3%A1ssaros01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1040" y="259200"/>
            <a:ext cx="835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Book Antiqua"/>
              </a:rPr>
              <a:t>É muito gostoso ser brasileir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96480" y="1010160"/>
            <a:ext cx="8492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Mas quando essa brasilinida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autóctone começa a ser um empecil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às nossas possibilidades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desenvolvimento como Nação, aí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coisa muda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116280" y="4003920"/>
            <a:ext cx="925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Não esperemos acender uma ve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a todos os Santos, a ver se n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mandam um Messia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5400" y="260280"/>
            <a:ext cx="797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Nós temos que mudar! Um no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governante com os mes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brasileiros não poderá fazer nada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1880" y="205956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3300"/>
                </a:solidFill>
                <a:uFillTx/>
                <a:latin typeface="Book Antiqua"/>
              </a:rPr>
              <a:t>Está muito claro.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3128040"/>
            <a:ext cx="8569440" cy="241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Book Antiqua"/>
              </a:rPr>
              <a:t>Somos nós os que temos que mudar.</a:t>
            </a: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8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58680" y="980640"/>
            <a:ext cx="9138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Agora, depois desta mensag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francamente decidi procurar 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responsável, não para castigá-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enão para exigir-lhe (sim, exigir-lh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que melhore seu comportamento 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que não se faça de surdo,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esentendido.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66708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Sim, decidi procurar 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responsável 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 Antiqua"/>
              </a:rPr>
              <a:t>ESTOU SEGURO QU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 Antiqua"/>
              </a:rPr>
              <a:t>O ENCONTRARE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 Antiqua"/>
              </a:rPr>
              <a:t>QUAN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Book Antiqua"/>
              </a:rPr>
              <a:t>ME OLHAR NO ESPELHO</a:t>
            </a: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2491920"/>
            <a:ext cx="798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42b00"/>
                </a:solidFill>
                <a:uFillTx/>
                <a:latin typeface="Book Antiqua"/>
              </a:rPr>
              <a:t>"MEDITE!!!"</a:t>
            </a:r>
            <a:r>
              <a:rPr b="1" i="1" lang="en-US" sz="9600" spc="-1" strike="noStrike" u="sng">
                <a:solidFill>
                  <a:srgbClr val="e42b00"/>
                </a:solidFill>
                <a:uFillTx/>
                <a:latin typeface="Book Antiqu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541440" y="91440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4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9400"/>
                </a:solidFill>
                <a:latin typeface="Comic Sans MS"/>
              </a:rPr>
              <a:t>É O QUE EU SEMPRE DI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4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9400"/>
                </a:solidFill>
                <a:latin typeface="Comic Sans MS"/>
              </a:rPr>
              <a:t>O GOVERNO SOMOS NÓ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400"/>
                </a:solidFill>
                <a:latin typeface="Comic Sans MS"/>
              </a:rPr>
              <a:t>OS POLÍTICOS, NEM TANTO ASSI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3760" y="2276640"/>
            <a:ext cx="117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400"/>
                </a:solidFill>
                <a:latin typeface="Comic Sans MS"/>
              </a:rPr>
              <a:t>(</a:t>
            </a:r>
            <a:r>
              <a:rPr b="1" lang="en-US" sz="1000" spc="-1" strike="noStrike">
                <a:solidFill>
                  <a:srgbClr val="009400"/>
                </a:solidFill>
                <a:latin typeface="Verdana"/>
              </a:rPr>
              <a:t>PAULO</a:t>
            </a:r>
            <a:r>
              <a:rPr b="1" lang="en-US" sz="1000" spc="-1" strike="noStrike">
                <a:solidFill>
                  <a:srgbClr val="009400"/>
                </a:solidFill>
                <a:latin typeface="Comic Sans MS"/>
              </a:rPr>
              <a:t> BU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400"/>
                </a:solidFill>
                <a:latin typeface="Comic Sans MS"/>
              </a:rPr>
              <a:t>E eu acrescento: o que nos falta é EDUCAÇÃ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1" dur="1" fill="hold"/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609480"/>
            <a:ext cx="7561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 crença geral anterior era que Collor não servia, bem como Itamar e Fernando Henrique.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4280" y="3764160"/>
            <a:ext cx="53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Agora dizemos 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Lula não ser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7960" y="1455840"/>
            <a:ext cx="5950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E o que vier depoi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de Lula també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não servirá pa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nada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5920" y="1707480"/>
            <a:ext cx="696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Por isso estou começando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uspeitar que o proble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não está no ladrão corru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que foi Collor, ou na far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que é o Lu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24960" y="218520"/>
            <a:ext cx="62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O problema está em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6560" y="1124280"/>
            <a:ext cx="49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Nós como POVO.</a:t>
            </a: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84960" y="2133000"/>
            <a:ext cx="916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Book Antiqua"/>
              </a:rPr>
              <a:t>Nós como matéria prima de um paí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261000" y="2996640"/>
            <a:ext cx="939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Porque pertenço a um país ond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"ESPERTEZA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é a moeda que sempre é valorizad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tanto ou mais do que o dó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143280" y="419400"/>
            <a:ext cx="910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2b00"/>
                </a:solidFill>
                <a:latin typeface="Book Antiqua"/>
              </a:rPr>
              <a:t> </a:t>
            </a:r>
            <a:r>
              <a:rPr b="1" i="1" lang="en-US" sz="3600" spc="-1" strike="noStrike">
                <a:solidFill>
                  <a:srgbClr val="e42b00"/>
                </a:solidFill>
                <a:latin typeface="Book Antiqua"/>
              </a:rPr>
              <a:t>Um país onde ficar rico da noi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2b00"/>
                </a:solidFill>
                <a:latin typeface="Book Antiqua"/>
              </a:rPr>
              <a:t>para o dia é uma virtude mais apreci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2b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e42b00"/>
                </a:solidFill>
                <a:latin typeface="Book Antiqua"/>
              </a:rPr>
              <a:t>do que formar uma família, baseada 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2b00"/>
                </a:solidFill>
                <a:latin typeface="Book Antiqua"/>
              </a:rPr>
              <a:t>valores e respeito aos demais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73440" y="2910960"/>
            <a:ext cx="91828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Pertenço a um país onde, lamentavelmente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os jornais jamais poderão ser vendidos como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em outros países, isto é, pondo umas caixa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nas calçadas onde se paga por um só jorn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E SE TIRA UM SÓ JORNAL, DEIXANDO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OS DEMAIS ONDE ESTÃ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27684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ertenço ao país onde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"EMPRESAS PRIVADAS"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são papelarias particulares de seus empregados desonestos, que levam para casa, como se fosse correto, folhas de papel, lápis, canetas, clipes e tudo o que possa ser útil para o trabalho dos filhos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E para eles mesmo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43560" y="1126440"/>
            <a:ext cx="927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ertenço a um país onde a gente 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sente o máximo porque consegu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"puxar" a tevê a cabo do vizinho, 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 gente frauda a declaração de impos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e renda para não pagar ou pagar men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impost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4:34:24Z</dcterms:created>
  <dc:creator>PepsiCo do Brasil Ltda.</dc:creator>
  <dc:description/>
  <dc:language>en-US</dc:language>
  <cp:lastModifiedBy>ANTONIO SALES</cp:lastModifiedBy>
  <dcterms:modified xsi:type="dcterms:W3CDTF">2008-05-01T15:29:03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dddddddddd">
    <vt:lpwstr>ddddddddddd</vt:lpwstr>
  </property>
</Properties>
</file>