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on%20te%20partiro%20M1.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B6B76-32DC-461E-8FB0-FD7B9295C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FE0D-7C60-4459-A192-3E119F60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723C3-7D98-4DAF-B84E-C7BE77C0D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83F08-CDB9-4E5D-A8CE-02542A00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773A-5802-4AE1-8C66-0C451AC85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76B31-46E7-4B50-9F22-0FB5CBA3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8711A-579F-4E99-BC35-F3DF700E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4E0B2-1021-4514-8280-9ECD1328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652E-F2C9-4818-9B07-90AB7F98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7168-9BF0-43D2-8CAE-C278892F2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B14C-A2A5-42A0-8477-3D20EFA9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1FB5-DEB3-41EB-88A7-88646A0FB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C3DE-72C0-4558-A5F7-4038CE150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on%20te%20partiro%20M1.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16000" y="1341360"/>
            <a:ext cx="7162920" cy="428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não casaram,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vão casa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acabaram de casa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pensam em se separar,</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acabaram de se separar.</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os que pensam em voltar...</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wd">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144360" y="1608120"/>
            <a:ext cx="8964720" cy="45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O amor é grande, mas não são doi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saber se aquele amor faz bem ou não, se não fizer bem, não é amor. É preciso convocar uma turma de sentimentos para amparar esse amor que carrega o ônus da onipotênci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O amor até pode nos bastar, mas ele próprio não se ba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iterate type="wd">
                                    <p:tmAbs val="200"/>
                                  </p:iterate>
                                  <p:childTnLst>
                                    <p:set>
                                      <p:cBhvr>
                                        <p:cTn id="69" dur="1" fill="hold">
                                          <p:stCondLst>
                                            <p:cond delay="0"/>
                                          </p:stCondLst>
                                        </p:cTn>
                                        <p:tgtEl>
                                          <p:spTgt spid="50"/>
                                        </p:tgtEl>
                                        <p:attrNameLst>
                                          <p:attrName>style.visibility</p:attrName>
                                        </p:attrNameLst>
                                      </p:cBhvr>
                                      <p:to>
                                        <p:strVal val="visible"/>
                                      </p:to>
                                    </p:set>
                                    <p:animEffect filter="fade" transition="in">
                                      <p:cBhvr additive="repl">
                                        <p:cTn id="7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968400" y="1635120"/>
            <a:ext cx="727560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Um bom Amor aos que já têm! </a:t>
            </a:r>
            <a:br>
              <a:rPr sz="3200"/>
            </a:b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Um bom encontro aos que procuram! </a:t>
            </a:r>
            <a:br>
              <a:rPr sz="3200"/>
            </a:b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E felicidades a todos nós! </a:t>
            </a:r>
            <a:endParaRPr b="0" lang="en-US" sz="3200" spc="-1" strike="noStrike">
              <a:solidFill>
                <a:srgbClr val="000000"/>
              </a:solidFill>
              <a:latin typeface="Times New Roman"/>
            </a:endParaRPr>
          </a:p>
        </p:txBody>
      </p:sp>
      <p:sp>
        <p:nvSpPr>
          <p:cNvPr id="52" name=""/>
          <p:cNvSpPr/>
          <p:nvPr/>
        </p:nvSpPr>
        <p:spPr>
          <a:xfrm>
            <a:off x="5580000" y="5589720"/>
            <a:ext cx="33530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ligraph421 BT"/>
                <a:ea typeface="Courier New"/>
              </a:rPr>
              <a:t>Texto d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ligraph421 BT"/>
                <a:ea typeface="Courier New"/>
              </a:rPr>
              <a:t>ARTUR DA TÁVO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iterate type="wd">
                                    <p:tmAbs val="200"/>
                                  </p:iterate>
                                  <p:childTnLst>
                                    <p:set>
                                      <p:cBhvr>
                                        <p:cTn id="76" dur="1" fill="hold">
                                          <p:stCondLst>
                                            <p:cond delay="0"/>
                                          </p:stCondLst>
                                        </p:cTn>
                                        <p:tgtEl>
                                          <p:spTgt spid="51"/>
                                        </p:tgtEl>
                                        <p:attrNameLst>
                                          <p:attrName>style.visibility</p:attrName>
                                        </p:attrNameLst>
                                      </p:cBhvr>
                                      <p:to>
                                        <p:strVal val="visible"/>
                                      </p:to>
                                    </p:set>
                                    <p:animEffect filter="fade" transition="in">
                                      <p:cBhvr additive="repl">
                                        <p:cTn id="77" dur="2000"/>
                                        <p:tgtEl>
                                          <p:spTgt spid="51"/>
                                        </p:tgtEl>
                                      </p:cBhvr>
                                    </p:animEffect>
                                  </p:childTnLst>
                                </p:cTn>
                              </p:par>
                            </p:childTnLst>
                          </p:cTn>
                        </p:par>
                        <p:par>
                          <p:cTn id="78" fill="hold">
                            <p:stCondLst>
                              <p:cond delay="6600"/>
                            </p:stCondLst>
                            <p:childTnLst>
                              <p:par>
                                <p:cTn id="79" nodeType="afterEffect" fill="hold" presetClass="entr" presetID="10">
                                  <p:stCondLst>
                                    <p:cond delay="0"/>
                                  </p:stCondLst>
                                  <p:iterate type="wd">
                                    <p:tmAbs val="200"/>
                                  </p:iterate>
                                  <p:childTnLst>
                                    <p:set>
                                      <p:cBhvr>
                                        <p:cTn id="80" dur="1" fill="hold">
                                          <p:stCondLst>
                                            <p:cond delay="0"/>
                                          </p:stCondLst>
                                        </p:cTn>
                                        <p:tgtEl>
                                          <p:spTgt spid="52"/>
                                        </p:tgtEl>
                                        <p:attrNameLst>
                                          <p:attrName>style.visibility</p:attrName>
                                        </p:attrNameLst>
                                      </p:cBhvr>
                                      <p:to>
                                        <p:strVal val="visible"/>
                                      </p:to>
                                    </p:set>
                                    <p:animEffect filter="fade" transition="in">
                                      <p:cBhvr additive="repl">
                                        <p:cTn id="81"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449280" y="1436760"/>
            <a:ext cx="8083440" cy="45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Não existem vários tipos de amor, assim como não existem três tipos de saudades, quatro de ódio, seis espécies de invej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ligraph421 BT"/>
                <a:ea typeface="Courier New"/>
              </a:rPr>
              <a:t>O AMOR É ÚNICO</a:t>
            </a:r>
            <a:r>
              <a:rPr b="1" lang="en-US" sz="3200" spc="-1" strike="noStrike">
                <a:solidFill>
                  <a:srgbClr val="ffffff"/>
                </a:solidFill>
                <a:latin typeface="Calligraph421 BT"/>
                <a:ea typeface="Courier New"/>
              </a:rPr>
              <a:t>,</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como qualquer sentimento, seja ele destinado a familiares, ao cônjuge ou a De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wd">
                                    <p:tmAbs val="200"/>
                                  </p:iterate>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60360" y="1992240"/>
            <a:ext cx="845964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 diferença é que, como entre marido e mulher não há laços de sangu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ligraph421 BT"/>
                <a:ea typeface="Courier New"/>
              </a:rPr>
              <a:t>A  SEDUÇÃ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ser ininterrup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iterate type="wd">
                                    <p:tmAbs val="200"/>
                                  </p:iterate>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539640" y="1844640"/>
            <a:ext cx="81727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Por não haver nenhuma garantia de durabilidade, qualquer alteração no tom de voz nos fragiliza, e de cobrança em cobrança, acabamos por sepultar uma relação que poderi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ligraph421 BT"/>
              </a:rPr>
              <a:t>SER ETER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iterate type="wd">
                                    <p:tmAbs val="200"/>
                                  </p:iterate>
                                  <p:childTnLst>
                                    <p:set>
                                      <p:cBhvr>
                                        <p:cTn id="27" dur="1" fill="hold">
                                          <p:stCondLst>
                                            <p:cond delay="0"/>
                                          </p:stCondLst>
                                        </p:cTn>
                                        <p:tgtEl>
                                          <p:spTgt spid="44"/>
                                        </p:tgtEl>
                                        <p:attrNameLst>
                                          <p:attrName>style.visibility</p:attrName>
                                        </p:attrNameLst>
                                      </p:cBhvr>
                                      <p:to>
                                        <p:strVal val="visible"/>
                                      </p:to>
                                    </p:set>
                                    <p:animEffect filter="fade" transition="in">
                                      <p:cBhvr additive="repl">
                                        <p:cTn id="28"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765000"/>
            <a:ext cx="9144000" cy="62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Casaram. Te amo pra lá, te amo pra cá. Lindo, mas insustentável. O sucesso de um casamento exige mais do que declarações romântica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Entre duas pessoas que resolvem dividir o mesmo teto, tem que haver muito mais do que amor, e às vezes, nem necessita de um amor tão intenso. É preciso que haja, antes de mais nad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ff"/>
                </a:solidFill>
                <a:latin typeface="Calligraph421 BT"/>
                <a:ea typeface="Courier New"/>
              </a:rPr>
              <a:t>RESPEITO</a:t>
            </a:r>
            <a:r>
              <a:rPr b="1" lang="en-US" sz="3200" spc="-1" strike="noStrike">
                <a:solidFill>
                  <a:srgbClr val="ffffff"/>
                </a:solidFill>
                <a:latin typeface="Calligraph421 BT"/>
                <a:ea typeface="Courier New"/>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gressões zero.</a:t>
            </a:r>
            <a:r>
              <a:rPr b="1" lang="en-US" sz="3200" spc="-1" strike="noStrike">
                <a:solidFill>
                  <a:srgbClr val="ff66ff"/>
                </a:solidFill>
                <a:latin typeface="Calligraph421 B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iterate type="wd">
                                    <p:tmAbs val="200"/>
                                  </p:iterate>
                                  <p:childTnLst>
                                    <p:set>
                                      <p:cBhvr>
                                        <p:cTn id="34" dur="1" fill="hold">
                                          <p:stCondLst>
                                            <p:cond delay="0"/>
                                          </p:stCondLst>
                                        </p:cTn>
                                        <p:tgtEl>
                                          <p:spTgt spid="45"/>
                                        </p:tgtEl>
                                        <p:attrNameLst>
                                          <p:attrName>style.visibility</p:attrName>
                                        </p:attrNameLst>
                                      </p:cBhvr>
                                      <p:to>
                                        <p:strVal val="visible"/>
                                      </p:to>
                                    </p:set>
                                    <p:animEffect filter="fade" transition="in">
                                      <p:cBhvr additive="repl">
                                        <p:cTn id="35"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809640"/>
            <a:ext cx="9144000" cy="573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Disposição para ouvir argumentos alheios. Alguma paciência... Amor só, não basta. Não pode haver competição. Nem comparações. Tem que ter jogo de cintura, para acatar regras que não foram previamente combinadas. Tem que have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alligraph421 BT"/>
                <a:ea typeface="Courier New"/>
              </a:rPr>
              <a:t>BOM HUMOR</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para enfrentar imprevistos, acessos de carência, infantilidades.</a:t>
            </a:r>
            <a:r>
              <a:rPr b="1" lang="en-US" sz="3200" spc="-1" strike="noStrike">
                <a:solidFill>
                  <a:srgbClr val="ffffff"/>
                </a:solidFill>
                <a:latin typeface="Calligraph421 BT"/>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saber lev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iterate type="wd">
                                    <p:tmAbs val="200"/>
                                  </p:iterate>
                                  <p:childTnLst>
                                    <p:set>
                                      <p:cBhvr>
                                        <p:cTn id="41" dur="1" fill="hold">
                                          <p:stCondLst>
                                            <p:cond delay="0"/>
                                          </p:stCondLst>
                                        </p:cTn>
                                        <p:tgtEl>
                                          <p:spTgt spid="46"/>
                                        </p:tgtEl>
                                        <p:attrNameLst>
                                          <p:attrName>style.visibility</p:attrName>
                                        </p:attrNameLst>
                                      </p:cBhvr>
                                      <p:to>
                                        <p:strVal val="visible"/>
                                      </p:to>
                                    </p:set>
                                    <p:animEffect filter="fade" transition="in">
                                      <p:cBhvr additive="repl">
                                        <p:cTn id="4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792000"/>
            <a:ext cx="9144000" cy="52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Amar só é pouc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haver inteligência. Um cérebro programado para enfrentar tensões pré-menstruais, rejeições, demissões inesperadas, contas para paga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ter disciplina para educar filhos, dar exemplo, não grita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ter um bom psiquiatra. Não adianta, apenas, amar.</a:t>
            </a:r>
            <a:r>
              <a:rPr b="1" lang="en-US" sz="3200" spc="-1" strike="noStrike">
                <a:solidFill>
                  <a:srgbClr val="ffffff"/>
                </a:solidFill>
                <a:latin typeface="Calligraph421 B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iterate type="wd">
                                    <p:tmAbs val="200"/>
                                  </p:iterate>
                                  <p:childTnLst>
                                    <p:set>
                                      <p:cBhvr>
                                        <p:cTn id="48" dur="1" fill="hold">
                                          <p:stCondLst>
                                            <p:cond delay="0"/>
                                          </p:stCondLst>
                                        </p:cTn>
                                        <p:tgtEl>
                                          <p:spTgt spid="47"/>
                                        </p:tgtEl>
                                        <p:attrNameLst>
                                          <p:attrName>style.visibility</p:attrName>
                                        </p:attrNameLst>
                                      </p:cBhvr>
                                      <p:to>
                                        <p:strVal val="visible"/>
                                      </p:to>
                                    </p:set>
                                    <p:animEffect filter="fade" transition="in">
                                      <p:cBhvr additive="repl">
                                        <p:cTn id="4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838080"/>
            <a:ext cx="9144000" cy="54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ligraph421 BT"/>
                <a:ea typeface="Courier New"/>
              </a:rPr>
              <a:t>Entre casais que se unem , visando à longevidade do matrimônio, tem que haver um pouco de silêncio, amigos de infância, vida própria, um tempo pra cada um.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ligraph421 BT"/>
                <a:ea typeface="Courier New"/>
              </a:rPr>
              <a:t>Tem que haver confiança. Certa camaradagem, às vezes fingir que não viu, fazer de conta que não escutou. É preciso entender que união não significa, necessariamente, fusã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ligraph421 BT"/>
                <a:ea typeface="Courier New"/>
              </a:rPr>
              <a:t>E que amar "solamente", não basta</a:t>
            </a:r>
            <a:r>
              <a:rPr b="0" lang="pt-BR" sz="3200" spc="-1" strike="noStrike">
                <a:solidFill>
                  <a:srgbClr val="ffffff"/>
                </a:solidFill>
                <a:latin typeface="Calligraph421 BT"/>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iterate type="wd">
                                    <p:tmAbs val="200"/>
                                  </p:iterate>
                                  <p:childTnLst>
                                    <p:set>
                                      <p:cBhvr>
                                        <p:cTn id="55" dur="1" fill="hold">
                                          <p:stCondLst>
                                            <p:cond delay="0"/>
                                          </p:stCondLst>
                                        </p:cTn>
                                        <p:tgtEl>
                                          <p:spTgt spid="48"/>
                                        </p:tgtEl>
                                        <p:attrNameLst>
                                          <p:attrName>style.visibility</p:attrName>
                                        </p:attrNameLst>
                                      </p:cBhvr>
                                      <p:to>
                                        <p:strVal val="visible"/>
                                      </p:to>
                                    </p:set>
                                    <p:animEffect filter="fade" transition="in">
                                      <p:cBhvr additive="repl">
                                        <p:cTn id="5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1652760"/>
            <a:ext cx="9144000" cy="34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Entre homens e mulheres que acham qu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O AMOR É SÓ POESIA, </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ligraph421 BT"/>
                <a:ea typeface="Courier New"/>
              </a:rPr>
              <a:t>tem que haver discernimento, pé no chão, racionalidade. Tem que saber que o amor pode ser bom pode durar para sempre, mas que sozinho não dá conta do recado.</a:t>
            </a:r>
            <a:r>
              <a:rPr b="1" i="1" lang="en-US" sz="2800" spc="-1" strike="noStrike">
                <a:solidFill>
                  <a:srgbClr val="f17d35"/>
                </a:solidFill>
                <a:latin typeface="Arial"/>
                <a:ea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iterate type="wd">
                                    <p:tmAbs val="200"/>
                                  </p:iterate>
                                  <p:childTnLst>
                                    <p:set>
                                      <p:cBhvr>
                                        <p:cTn id="62" dur="1" fill="hold">
                                          <p:stCondLst>
                                            <p:cond delay="0"/>
                                          </p:stCondLst>
                                        </p:cTn>
                                        <p:tgtEl>
                                          <p:spTgt spid="49"/>
                                        </p:tgtEl>
                                        <p:attrNameLst>
                                          <p:attrName>style.visibility</p:attrName>
                                        </p:attrNameLst>
                                      </p:cBhvr>
                                      <p:to>
                                        <p:strVal val="visible"/>
                                      </p:to>
                                    </p:set>
                                    <p:animEffect filter="fade" transition="in">
                                      <p:cBhvr additive="repl">
                                        <p:cTn id="6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15:45:01Z</dcterms:created>
  <dc:creator>Texto de Artur da Távola-Formatação Benê</dc:creator>
  <dc:description>São Carlos, 17/10/2005</dc:description>
  <dc:language>en-US</dc:language>
  <cp:lastModifiedBy>user</cp:lastModifiedBy>
  <dcterms:modified xsi:type="dcterms:W3CDTF">2006-05-14T20:16:20Z</dcterms:modified>
  <cp:revision>28</cp:revision>
  <dc:subject>Só o amor não sustenta a Relação</dc:subject>
  <dc:title>Apresentação do PowerPoint</dc:title>
</cp:coreProperties>
</file>