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ELODY_OF_LOVE_BANDARI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0C3-1A22-40E4-B4C2-0DC0489E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659-9FA2-4319-9A7F-B9602A2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7A7-504A-4BC6-B0B9-40720496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0CF-49E1-4675-8BC9-7CC1BA3D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DE7-6541-43E4-9A76-6400332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F65-96C0-45C1-BFDD-B6B2334D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C17-C37D-4B98-8926-5C9B6AD4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DD2-F4E6-4F23-A121-4C39BCFC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078-8C0B-4770-9CD9-FC333E91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B77-2307-44AD-8429-30CBF47A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D68-4766-4596-BAD8-3A741DD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1A3-88D7-405E-AA79-F4A8E0AA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D07B-1606-41AC-9DAF-841EAF1DB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MELODY_OF_LOVE_BANDARI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914400"/>
            <a:ext cx="76964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Victorian LET"/>
              </a:rPr>
              <a:t>COMO VOCÊ ENCARA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Victorian LET"/>
              </a:rPr>
              <a:t>“</a:t>
            </a:r>
            <a:r>
              <a:rPr b="0" lang="en-US" sz="7200" spc="-1" strike="noStrike">
                <a:solidFill>
                  <a:srgbClr val="cc3300"/>
                </a:solidFill>
                <a:latin typeface="Victorian LET"/>
              </a:rPr>
              <a:t>SEUS PROBLEMAS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838080"/>
            <a:ext cx="838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Problemas fazem parte da nossa vida, porém não deixe que eles o transformem numa pessoa amargurada. As crises vão estar sempre se sucedendo e às vezes você não terá escolha. 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Sua vida está sensacional e de repente você pode descobrir que </a:t>
            </a: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uma pessoa amada</a:t>
            </a:r>
            <a:r>
              <a:rPr b="1" lang="pt-BR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 está doente; que o seu casamento ou relacionamento está quase no fim, que o seu trabalho não está sendo prazeroso, que a política econômica do governo mudou; isso traz infinitas possibilidades de problema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1125360"/>
            <a:ext cx="8763120" cy="42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ESUS diss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nho-vos dito isto, para que em mim tenhais paz; no mundo tereis aflições, mas tende bom ânimo, eu venci o mundo. 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João 16 : 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s crises você não pode escolher, mas pode escolher a maneira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 </a:t>
            </a:r>
            <a:r>
              <a:rPr b="1" lang="pt-BR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o enfrentá-las. </a:t>
            </a:r>
            <a:br>
              <a:rPr sz="2400"/>
            </a:br>
            <a:r>
              <a:rPr b="1" lang="pt-BR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o final, você verá que os problemas não eram tão grandes ass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rdadeiramente ele tomou sobre si as nossas enfermidades, e as nossas dores levou sobre si; 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Isaías 53 :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121932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Não diga para DEUS o tamanho dos seus problemas, mas diga para o seus problemas o tamanho do seu DEU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19320" y="1295280"/>
            <a:ext cx="71625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Linda não?</a:t>
            </a:r>
            <a:r>
              <a:rPr b="1" lang="pt-BR" sz="5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Então e</a:t>
            </a:r>
            <a:r>
              <a:rPr b="1" lang="pt-BR" sz="5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nvie para alguém</a:t>
            </a:r>
            <a:r>
              <a:rPr b="1" lang="en-US" sz="5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 que você gost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cc3300"/>
                </a:solidFill>
                <a:latin typeface="Victorian LET"/>
              </a:rPr>
              <a:t> </a:t>
            </a:r>
            <a:r>
              <a:rPr b="1" lang="en-US" sz="5400" spc="-1" strike="noStrike">
                <a:solidFill>
                  <a:srgbClr val="cc3300"/>
                </a:solidFill>
                <a:latin typeface="Victorian LET"/>
              </a:rPr>
              <a:t>como eu fiz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06668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Certa vez, perguntaram para um sábio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- Por que existem pessoas que saem facilmente dos problemas mais complicados, enquanto outras sofrem por problemas muito pequenos, morrem afogadas num copo de águ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MELODY_OF_LOVE_BANDARI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2057400"/>
            <a:ext cx="624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O sábio sorriu e  contou esta história..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9907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"Era um sujeito que viveu toda sua vida, fiel as palavras de DEUS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Quando morreu, todo mundo falou que ele iria para o céu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Um homem tão bondoso quanto ele somente poderia ir para o Paraíso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Ir para o céu era importante para aquele homem, mas houve um erro em sua chegada ao cé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1066680"/>
            <a:ext cx="685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O Homem que o recebeu, deu uma olhada rápida nas fichas em cima do balcão e, como não viu o nome dele na lista, lhe orientou para ir ao Inferno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E no Inferno, você sabe como é, ninguém exige crachá nem convite, qualquer um que chega é convidado a entrar.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O sujeito entrou lá e foi fican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1295280"/>
            <a:ext cx="85345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Arial Unicode MS"/>
              </a:rPr>
              <a:t>Alguns dias depois, Lúcifer chegou furioso às portas do Paraíso para tomar satisfações com a pessoa que lhe havia envi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- Isto é injusto! Nunca imaginei que fossem capazes de uma baixaria como essa.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Isso que vocês fizeram não é just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1371600"/>
            <a:ext cx="6933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Sem saber o motivo de tanta raiva, o Homem da recepção perguntou, surpreso, do que se tratava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Lúcifer, transtornado, desabafou: 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- Você mandou aquele sujeito para o Inferno e ele está fazendo a maior bagunça lá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Ele chegou escutando as pessoas, olhando-as nos olhos, conversando com e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47920" y="1523880"/>
            <a:ext cx="609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Agora, está todo mundo dialogando, se abraçando, se beijando. O inferno está insuportável, parece o Paraíso!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E então fez um apelo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- Por favor, pegue aquele sujeito e traga-o para cá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0" y="6093000"/>
            <a:ext cx="4572000" cy="765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4572000" cy="76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152388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Quando o sábio terminou de contar esta história olhou-me carinhosamente e disse: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- Viva com tanto amor no coração que se, por engano, você for parar no Inferno</a:t>
            </a:r>
            <a:r>
              <a:rPr b="1" lang="en-US" sz="32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,</a:t>
            </a:r>
            <a:r>
              <a:rPr b="1" lang="pt-BR" sz="32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 o próprio demônio lhe trará de volta ao Paraíso</a:t>
            </a:r>
            <a:r>
              <a:rPr b="1" lang="en-US" sz="3200" spc="-1" strike="noStrike">
                <a:solidFill>
                  <a:srgbClr val="cc3300"/>
                </a:solidFill>
                <a:latin typeface="Victorian LET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iente</cp:lastModifiedBy>
  <dcterms:modified xsi:type="dcterms:W3CDTF">2008-02-21T03:55:08Z</dcterms:modified>
  <cp:revision>17</cp:revision>
  <dc:subject/>
  <dc:title>Apresentação do PowerPoint</dc:title>
</cp:coreProperties>
</file>