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.png" ContentType="image/png"/>
  <Override PartName="/ppt/media/The_Archies_Sugar_Sugar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B4F-597C-4CD7-A37C-3E71F58C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D7E-321B-4970-97C2-0203FD3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CA4-E488-4AAE-B7BE-4D867158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884-9D12-406D-8A01-765BC6E7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3C2-50CD-4410-809E-B1051A19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3F7-3E0C-47A3-996D-883A21B1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45B-F0EE-4621-B3FA-AF0D2D7E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62A-3EA3-43DD-9BBE-73A7B72A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00D-EF0F-4DA5-B663-687901BF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AEB-A01C-47A3-8305-797C5A5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150-DAD6-419F-9B80-A20E046C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2C9-C601-4D13-B5EE-96C61FE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EC5-5855-46FE-9634-8B3C258AD1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_Archies_Sugar_Suga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7080" y="423720"/>
            <a:ext cx="5288040" cy="6008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9961400">
            <a:off x="0" y="1196280"/>
            <a:ext cx="52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ceita para melhorar o seu viver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9961400">
            <a:off x="7308360" y="59490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gue o 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The_Archies_Sugar_Suga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920" y="-14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ndo tentar algo de novo na vida, tente pra valer, mude, arrisque-se, viva intens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8518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ê à sua paciência, à sua compreensão e ao seu raciocínio todo fôlego que eles precis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851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nse duas vezes se tiver que engolir algum "sapo"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mbre-se, ele pode ser indigesto dem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35320" y="0"/>
            <a:ext cx="4471920" cy="6297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03840"/>
            <a:ext cx="341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, mesmo que hoje o seu dia seja bastante atarefado,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não se esqueça de deixar alguém feliz,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mandando um oi a quem você quer bem.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Talvez amanhã o seu dia seja muito mais ocupado que hoj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6920" y="566892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o acordar diga: "Bom dia, dia!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 dia irá te receber muito melhor e será muito mais fácil enfrentá-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Ratatouille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 problema que tiver, enfrente-o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ão fique dando voltas, fingindo que ele não existe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 ele acontece, é para ser resolvid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-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..se for grande demais, vá resolvendo parte por part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é que ele fique bem men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4560" y="6035760"/>
            <a:ext cx="92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aia-se, não faça nada, pelo menos, um minuto esqueç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as vozes, dos sons, das estrad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6920" y="2588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 pensar em desistir, lembre-se da luta que foi começar, e não des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920" y="5732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ndo precisar de ajuda, não se envergonhe de pedir socorro a qualquer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6920" y="59155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eja sempre pronto para ajudar um am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32160" y="0"/>
            <a:ext cx="60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nove as velhas esperanças..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..prove novos sabores, um novo g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9:55:22Z</dcterms:created>
  <dc:creator>Home</dc:creator>
  <dc:description/>
  <dc:language>en-US</dc:language>
  <cp:lastModifiedBy>user</cp:lastModifiedBy>
  <dcterms:modified xsi:type="dcterms:W3CDTF">2008-07-05T15:19:10Z</dcterms:modified>
  <cp:revision>2</cp:revision>
  <dc:subject/>
  <dc:title>Slide 1</dc:title>
</cp:coreProperties>
</file>