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Auinau%C3%A9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C9F-EE50-4486-B2ED-C1291E8B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766-F151-4784-A8FA-81F591C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399-F570-469B-8399-449F2452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A03-D200-459F-B41C-D765EB9E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4AE-E5CD-468B-A13B-F8A5F91E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155-E5C2-4FE0-895E-5893E1B8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C19-D66F-4373-9F60-F25DA796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E15-850D-415D-87F8-EACF6D3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193-066C-4989-BE1D-CC3EA70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210-CAFB-484A-99E5-2CC6305B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163-D56D-44C3-9667-576A95C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3E7-8AE3-47E4-897C-5594DDB0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0F7-277F-4232-8258-7DCFEDFB97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Auinau&#233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56536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22936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97000"/>
            <a:ext cx="90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emática do am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70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mem esperto + Mulher esperta = Ro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400" y="328464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mem esperto + Mulher burra =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1680" y="3860640"/>
            <a:ext cx="83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mem burro + Mulher esperta = Cas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2960" y="4437000"/>
            <a:ext cx="75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mem burro + Mulher burra = Gravid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Auinau%C3%A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2637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65246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91440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o impedir as pessoas de ficarem te chateando sobre cas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2708280"/>
            <a:ext cx="8785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urante os casamentos, tias velhas costumavam vir até mim, me cutucar nas costelas e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"Você será o próximo!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522936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as pararam depois que eu comecei a fazer a mesma coisa com elas nos funerai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12536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1577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76500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e isto para uma mulher esperta que precise de uma boa risada ou para os caras que você acha que conseguem lidar com essas verda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28526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734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62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itmética de Escritó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6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fe esperto + Empregado esperto = 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960" y="3645000"/>
            <a:ext cx="85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fe esperto + Empregado burro = P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6960" y="4292640"/>
            <a:ext cx="86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fe burro + Empregado esperto = Promo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9680" y="5013360"/>
            <a:ext cx="83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fe burro + Empregado burro = Hor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27082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3086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3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cesso &amp; Fracas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rás de um homem de sucesso tem sempre uma mulh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653000"/>
            <a:ext cx="78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rás de um homem fracassado tem no mínimo duas mulheres..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2637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950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60" y="1268280"/>
            <a:ext cx="90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emática do Sh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97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 homem pagará R$ 2,00 por um item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$ 1,00 que ele preci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46530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a mulher pagará R$ 1,00 por um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R$ 2,00 que ela não precisa!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2205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6669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90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ações gerais &amp; Estat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a mulher se preocupa com o futuro até ela conseguir um ma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068640"/>
            <a:ext cx="83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 homem nunca se preocupa com o futuro até ele conseguir uma esp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4076640"/>
            <a:ext cx="85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 homem de sucesso é aquele que consegue ganhar mais dinheiro do que sua esposa consegue ga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5486400"/>
            <a:ext cx="80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a mulher de sucesso é aquela que consegue encontrar este hom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30686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5950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628640"/>
            <a:ext cx="90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ic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57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ser feliz com um homem, você deve entendê-lo bastante e amá-lo um pou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7242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ser feliz com uma mulher, você deve amá-la bastante e jamais tentar entendê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8526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950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57360"/>
            <a:ext cx="90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v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mens casados vivem mais do que homens soltei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443700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entanto, os homens casados são os que têm mais vontade de morr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99736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23736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28640"/>
            <a:ext cx="90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nsão à mud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42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a mulher casa com um homem esperando que um dia ele mude, mas ele não mu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1120" y="4797360"/>
            <a:ext cx="90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 homem casa com uma mulher esperando que ela não mude nunca, mas ela mud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3213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093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28640"/>
            <a:ext cx="90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cussão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50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a mulher sempre tem a última palavra em qualquer discus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653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Qualquer coisa que um homem diga depois disso é o começo de uma nova discus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1:01:07Z</dcterms:created>
  <dc:creator>JOSELITO E FAMILIA</dc:creator>
  <dc:description/>
  <dc:language>en-US</dc:language>
  <cp:lastModifiedBy>JOSELITO E FAMILIA</cp:lastModifiedBy>
  <dcterms:modified xsi:type="dcterms:W3CDTF">2007-11-17T01:44:03Z</dcterms:modified>
  <cp:revision>3</cp:revision>
  <dc:subject/>
  <dc:title>Slide 1</dc:title>
</cp:coreProperties>
</file>