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Chant%20choeur%20de%20chant%20JoliBeau.wav" ContentType="audio/x-wav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6A37-4B05-4774-AFA5-F0273C66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0556-FE55-4B30-8FCC-A8D688B9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26CF-131E-4592-9D2B-B79FE05E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52D7-229A-4FEB-B6A0-011C5E4A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5B81-F03F-424D-898F-445B33F9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395-CD59-4952-BB68-C27F54F6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C922-7877-4957-B030-C57C2F70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6E44-BB04-463F-9DAA-0BE81675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3AF1-9080-4289-A019-D9541DF0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BAA0-C1A1-4606-BACB-9EA3A344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533-FE48-4FDA-8BAF-6C6ED024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FE7F-33F6-49EB-A991-78CC2E90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FF2BD5-7C1C-40B0-B867-BC8C23DB6CB3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ant%20choeur%20de%20chant%20JoliBeau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44280" y="0"/>
            <a:ext cx="9296280" cy="6948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  <p:sndAc>
      <p:stSnd>
        <p:snd r:embed="rId2" name="Chant%20choeur%20de%20chant%20JoliBeau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56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53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120600"/>
            <a:ext cx="9296280" cy="6978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7059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56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105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97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6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88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6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62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50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304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IL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32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5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59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5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pt. of MME</dc:creator>
  <dc:description/>
  <dc:language>en-US</dc:language>
  <cp:lastModifiedBy>HP Authorized Customer</cp:lastModifiedBy>
  <dcterms:modified xsi:type="dcterms:W3CDTF">2009-05-08T18:10:51Z</dcterms:modified>
  <cp:revision>6</cp:revision>
  <dc:subject/>
  <dc:title>Slide 1</dc:title>
</cp:coreProperties>
</file>