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D48-5686-43EE-A776-2B48E20E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0E2-B23B-4540-84B9-F793FDCB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707-0FBA-405B-BC95-63F01135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3D5-A894-48C0-A524-AFB0143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A6E-853F-48DB-8C9E-ABBE324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F3D-2CB3-4582-82A7-D41483D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E8A-E6FB-4176-9D9A-845AC74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444-DCBB-45DC-B156-8903381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4B3-00EB-4E12-9847-EFAD61BF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42D-6C32-42DB-BD57-2FB8184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757-9402-4D48-90AC-F7DCD09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629-049F-4C1F-976A-53D69D3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894-2AA8-4AEA-8444-CB36CF65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emnos.com.b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á, meu Ami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u concorrendo com 9 fotos, fruto de minhas andanças por este meu Brasil que tem forte influência afro descendente na sua formação no concurso ÁFRICA EM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itas fotos são do Quilombo do Campinho, comunidade esta que adotei depois de me casar com uma Quilombola que é minha musa já na primeira f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 é uma apresentação de como se votar nas fotos de que estou a concorrer no referido concurso, onde fotógrafos apresentam seu trabalho que poderá ser publicado pelo governo de São Paulo no dia 20 de Novembro de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o a vocês meus irmãos, com todo o carinho que possa estar a ter na elaboração destas f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e abraço cheio de ASÈ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o Ar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segunda fo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terceira f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quarta f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quinta fo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sexta f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sétim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oitava f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A, esta é a nona e última fo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 votar mais de uma vez nesta foto? Feche a página, acesse outra vez e vote com outro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537372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ss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fricaemnos.com.b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 no OK do aviso da caixa que apar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56196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á no campo BUSCA POR GALERIA da parte superior direita da pág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ulo Ar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em seguida a tecla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537372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nela acima com as fotos agrupadas 3 a 3 abrir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que em qualquer foto para votar ou no rodapé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ó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5373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segunda página com mais três fotos e poderá ser visualizada se teclar sobre a palavr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óx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5373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é a terceira página com mais três fotos e poderá ser visualizada se teclar sobre a palavr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óx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5373720"/>
            <a:ext cx="648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clicar na foto outra janela apare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aixo desta janela duas teclas surgem, a de indicar a foto para um amigo e a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37372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clicar na tec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utra janela apare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e seu e-mail e tec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VI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5373720"/>
            <a:ext cx="64818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ra janela se abre com a mensagem de que um e-mail de confirmação foi enviado a seu e-mail preenchi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 voto só será computado após você confirmar no link da mensagem enviada a seu e-mai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ocê pode votar com este mesmo e-mail nas outras fo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619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9:57:32Z</dcterms:created>
  <dc:creator>Paulo Artur</dc:creator>
  <dc:description/>
  <dc:language>en-US</dc:language>
  <cp:lastModifiedBy>Paulo Artur</cp:lastModifiedBy>
  <dcterms:modified xsi:type="dcterms:W3CDTF">2009-09-16T19:20:17Z</dcterms:modified>
  <cp:revision>3</cp:revision>
  <dc:subject/>
  <dc:title>Slide 1</dc:title>
</cp:coreProperties>
</file>